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F535-0F2C-4065-B789-CE38F0CF9B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729E-C8BE-4CFB-AB99-FD0837DF9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6298-D4A5-4E76-A9D8-515B7AB16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8302-89CD-4E77-8B59-18502CF6C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09A0-3BC4-40AE-B095-F509DBEB23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6DE22-DDC0-4098-A61B-1802E9F1E9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D3E2-1942-4414-B5AB-B3BE21C3C8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69607-45D3-4119-AAB9-17FF7A410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00C8-4030-40FE-9242-7901D5AD7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11D3-9A11-4DE8-BD77-9659108DAB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116C-4CD6-451E-9312-4859498FB1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C762A-F212-4AFA-8BBA-C8CA5952E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751D-2C00-436D-BB56-916ECE33A5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C4C1-AC05-49EE-A5C6-2CB9F0CC1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7519-0174-482E-B785-7C4CAC8EFF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C0DE-1E0A-4C8F-BEDC-2A1EF9C5B1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288C-5F6D-4BBD-8266-FF80C4820B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0544-983D-4C7A-A45A-443911F059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94A6-F753-4546-88B6-94CAFD2FB7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1A71-6195-4DCF-93CC-1323C41D5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65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59C7-0250-4981-970B-8DF7E2176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4465-AE93-4FF7-B52D-8AAEF0EA3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9E0E-4065-4953-90DA-6895D641F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68D0-DF74-4C98-B590-10E6AD75E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805880" y="6552720"/>
            <a:ext cx="31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94F2-5441-478D-A307-E9A900E2BE2E}" type="slidenum">
              <a:rPr b="0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8600"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6240" indent="-228600">
              <a:spcBef>
                <a:spcPts val="700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7aa"/>
            </a:gs>
            <a:gs pos="100000">
              <a:srgbClr val="e9e6d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6240" y="8701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Click to edit the title text format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SzPct val="7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666633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359480" y="64893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FCC0-0F95-424F-9CF4-06B7F38B2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656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marL="127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3785760"/>
            <a:ext cx="7772400" cy="3071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 fontScale="90000"/>
          </a:bodyPr>
          <a:p>
            <a:pPr marL="1116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1" marL="11160" indent="-11160" algn="ctr">
              <a:buClr>
                <a:srgbClr val="6666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2" marL="11160" indent="-11160" algn="ctr">
              <a:buClr>
                <a:srgbClr val="6666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3" marL="11160" indent="-11160" algn="ctr">
              <a:buClr>
                <a:srgbClr val="6666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4" marL="11160" indent="-11160" algn="ctr"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5" marL="11160" indent="-11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  <a:p>
            <a:pPr lvl="6" marL="11160" indent="-11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ll Ringer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is the most important geographic feature to daily life in Ancient Indi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805880" y="6553080"/>
            <a:ext cx="31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18CD-250F-4B8A-9EDD-5EC9E7D626C0}" type="slidenum">
              <a:rPr b="0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oc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9: Diamo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g 10: Hinduism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7805880" y="6553080"/>
            <a:ext cx="31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FA80-4FED-4E9D-B5F6-E85DB207F157}" type="slidenum">
              <a:rPr b="0" lang="en-US" sz="1400" spc="-1" strike="noStrike">
                <a:solidFill>
                  <a:srgbClr val="4824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Lucida Grande"/>
                <a:ea typeface="Lucida Grande"/>
              </a:rPr>
              <a:t>How did Hinduism begin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Grande"/>
                <a:ea typeface="Lucida Grande"/>
              </a:rPr>
              <a:t>No particular fo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Indus River Valley Civilization &gt;5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Aryans enter 4000 - 3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Vedic Tradition 3500 – 2500 years a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rituals and many gods (polythei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sacred texts (Ve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Lucida Grande"/>
                <a:ea typeface="Lucida Grande"/>
              </a:rPr>
              <a:t>social stratification (caste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Lucida Grande"/>
                <a:ea typeface="Lucida Grande"/>
              </a:rPr>
              <a:t>Upanishads (metaphysical philosophy) 2800 – 24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Vedic Tradition develops into Hindu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2"/>
          <a:stretch/>
        </p:blipFill>
        <p:spPr>
          <a:xfrm>
            <a:off x="7696080" y="380880"/>
            <a:ext cx="943200" cy="101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2483968" presetSubtype="123792896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2483968" presetSubtype="12373819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166" name="Group 136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167" name="Freeform 2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400"/>
                  </a:move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  <a:cubicBezTo>
                    <a:pt x="717" y="17250"/>
                    <a:pt x="753" y="3050"/>
                    <a:pt x="0" y="0"/>
                  </a:cubicBezTo>
                  <a:cubicBezTo>
                    <a:pt x="10800" y="0"/>
                    <a:pt x="21600" y="0"/>
                    <a:pt x="21600" y="0"/>
                  </a:cubicBezTo>
                  <a:lnTo>
                    <a:pt x="21600" y="2400"/>
                  </a:lnTo>
                  <a:close/>
                  <a:moveTo>
                    <a:pt x="21600" y="2400"/>
                  </a:moveTo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68" name="Group 87"/>
            <p:cNvGrpSpPr/>
            <p:nvPr/>
          </p:nvGrpSpPr>
          <p:grpSpPr>
            <a:xfrm>
              <a:off x="1897200" y="165240"/>
              <a:ext cx="6031800" cy="681120"/>
              <a:chOff x="1897200" y="165240"/>
              <a:chExt cx="6031800" cy="681120"/>
            </a:xfrm>
          </p:grpSpPr>
          <p:grpSp>
            <p:nvGrpSpPr>
              <p:cNvPr id="169" name="Group 50"/>
              <p:cNvGrpSpPr/>
              <p:nvPr/>
            </p:nvGrpSpPr>
            <p:grpSpPr>
              <a:xfrm>
                <a:off x="1897200" y="166680"/>
                <a:ext cx="3505680" cy="677880"/>
                <a:chOff x="1897200" y="166680"/>
                <a:chExt cx="3505680" cy="677880"/>
              </a:xfrm>
            </p:grpSpPr>
            <p:sp>
              <p:nvSpPr>
                <p:cNvPr id="170" name="Freeform 3"/>
                <p:cNvSpPr/>
                <p:nvPr/>
              </p:nvSpPr>
              <p:spPr>
                <a:xfrm>
                  <a:off x="3641760" y="7621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1" name="Freeform 4"/>
                <p:cNvSpPr/>
                <p:nvPr/>
              </p:nvSpPr>
              <p:spPr>
                <a:xfrm>
                  <a:off x="3327480" y="79200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2" name="Freeform 5"/>
                <p:cNvSpPr/>
                <p:nvPr/>
              </p:nvSpPr>
              <p:spPr>
                <a:xfrm>
                  <a:off x="3279960" y="79056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3" name="Freeform 6"/>
                <p:cNvSpPr/>
                <p:nvPr/>
              </p:nvSpPr>
              <p:spPr>
                <a:xfrm>
                  <a:off x="3030840" y="652320"/>
                  <a:ext cx="237960" cy="14616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4" name="Freeform 7"/>
                <p:cNvSpPr/>
                <p:nvPr/>
              </p:nvSpPr>
              <p:spPr>
                <a:xfrm>
                  <a:off x="3176640" y="642960"/>
                  <a:ext cx="10332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5" name="Freeform 8"/>
                <p:cNvSpPr/>
                <p:nvPr/>
              </p:nvSpPr>
              <p:spPr>
                <a:xfrm>
                  <a:off x="327996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6" name="Freeform 9"/>
                <p:cNvSpPr/>
                <p:nvPr/>
              </p:nvSpPr>
              <p:spPr>
                <a:xfrm>
                  <a:off x="3276720" y="717480"/>
                  <a:ext cx="4464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7" name="Freeform 10"/>
                <p:cNvSpPr/>
                <p:nvPr/>
              </p:nvSpPr>
              <p:spPr>
                <a:xfrm>
                  <a:off x="3362400" y="68724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8" name="Freeform 11"/>
                <p:cNvSpPr/>
                <p:nvPr/>
              </p:nvSpPr>
              <p:spPr>
                <a:xfrm>
                  <a:off x="3368880" y="736560"/>
                  <a:ext cx="31680" cy="1116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9" name="Freeform 12"/>
                <p:cNvSpPr/>
                <p:nvPr/>
              </p:nvSpPr>
              <p:spPr>
                <a:xfrm>
                  <a:off x="3402000" y="7128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0" name="Freeform 13"/>
                <p:cNvSpPr/>
                <p:nvPr/>
              </p:nvSpPr>
              <p:spPr>
                <a:xfrm>
                  <a:off x="3413160" y="725400"/>
                  <a:ext cx="19224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1" name="Freeform 14"/>
                <p:cNvSpPr/>
                <p:nvPr/>
              </p:nvSpPr>
              <p:spPr>
                <a:xfrm>
                  <a:off x="3581640" y="73512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2" name="Freeform 15"/>
                <p:cNvSpPr/>
                <p:nvPr/>
              </p:nvSpPr>
              <p:spPr>
                <a:xfrm>
                  <a:off x="3762720" y="71136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3051" h="21600">
                      <a:moveTo>
                        <a:pt x="1490" y="13745"/>
                      </a:moveTo>
                      <a:cubicBezTo>
                        <a:pt x="-1002" y="5891"/>
                        <a:pt x="-1002" y="2945"/>
                        <a:pt x="6475" y="0"/>
                      </a:cubicBezTo>
                      <a:cubicBezTo>
                        <a:pt x="16444" y="3927"/>
                        <a:pt x="13952" y="15709"/>
                        <a:pt x="6475" y="21600"/>
                      </a:cubicBezTo>
                      <a:cubicBezTo>
                        <a:pt x="-5156" y="16691"/>
                        <a:pt x="5644" y="2945"/>
                        <a:pt x="1490" y="13745"/>
                      </a:cubicBezTo>
                      <a:close/>
                      <a:moveTo>
                        <a:pt x="1490" y="137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3" name="Freeform 16"/>
                <p:cNvSpPr/>
                <p:nvPr/>
              </p:nvSpPr>
              <p:spPr>
                <a:xfrm>
                  <a:off x="330840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4" name="Freeform 17"/>
                <p:cNvSpPr/>
                <p:nvPr/>
              </p:nvSpPr>
              <p:spPr>
                <a:xfrm>
                  <a:off x="3292560" y="523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5" name="Freeform 18"/>
                <p:cNvSpPr/>
                <p:nvPr/>
              </p:nvSpPr>
              <p:spPr>
                <a:xfrm>
                  <a:off x="3308400" y="59040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6" name="Freeform 19"/>
                <p:cNvSpPr/>
                <p:nvPr/>
              </p:nvSpPr>
              <p:spPr>
                <a:xfrm>
                  <a:off x="3262320" y="596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7" name="Freeform 20"/>
                <p:cNvSpPr/>
                <p:nvPr/>
              </p:nvSpPr>
              <p:spPr>
                <a:xfrm>
                  <a:off x="4928040" y="56052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963" y="21523"/>
                      </a:moveTo>
                      <a:cubicBezTo>
                        <a:pt x="1468" y="21600"/>
                        <a:pt x="1146" y="19448"/>
                        <a:pt x="1101" y="19217"/>
                      </a:cubicBezTo>
                      <a:cubicBezTo>
                        <a:pt x="1055" y="19063"/>
                        <a:pt x="1009" y="18833"/>
                        <a:pt x="1009" y="18833"/>
                      </a:cubicBezTo>
                      <a:cubicBezTo>
                        <a:pt x="963" y="18679"/>
                        <a:pt x="917" y="16988"/>
                        <a:pt x="734" y="16757"/>
                      </a:cubicBezTo>
                      <a:cubicBezTo>
                        <a:pt x="596" y="16604"/>
                        <a:pt x="183" y="16527"/>
                        <a:pt x="183" y="16527"/>
                      </a:cubicBezTo>
                      <a:cubicBezTo>
                        <a:pt x="0" y="15912"/>
                        <a:pt x="138" y="15374"/>
                        <a:pt x="0" y="14682"/>
                      </a:cubicBezTo>
                      <a:cubicBezTo>
                        <a:pt x="92" y="14221"/>
                        <a:pt x="321" y="14298"/>
                        <a:pt x="550" y="13836"/>
                      </a:cubicBezTo>
                      <a:cubicBezTo>
                        <a:pt x="642" y="13221"/>
                        <a:pt x="642" y="12991"/>
                        <a:pt x="275" y="12683"/>
                      </a:cubicBezTo>
                      <a:cubicBezTo>
                        <a:pt x="183" y="12530"/>
                        <a:pt x="92" y="12453"/>
                        <a:pt x="92" y="12299"/>
                      </a:cubicBezTo>
                      <a:cubicBezTo>
                        <a:pt x="92" y="11530"/>
                        <a:pt x="734" y="9455"/>
                        <a:pt x="1284" y="9224"/>
                      </a:cubicBezTo>
                      <a:cubicBezTo>
                        <a:pt x="1468" y="8532"/>
                        <a:pt x="1834" y="8071"/>
                        <a:pt x="2018" y="7379"/>
                      </a:cubicBezTo>
                      <a:cubicBezTo>
                        <a:pt x="1789" y="6380"/>
                        <a:pt x="1743" y="6534"/>
                        <a:pt x="1926" y="5381"/>
                      </a:cubicBezTo>
                      <a:cubicBezTo>
                        <a:pt x="1743" y="4612"/>
                        <a:pt x="1559" y="3690"/>
                        <a:pt x="1101" y="3305"/>
                      </a:cubicBezTo>
                      <a:cubicBezTo>
                        <a:pt x="825" y="2767"/>
                        <a:pt x="459" y="2844"/>
                        <a:pt x="917" y="2460"/>
                      </a:cubicBezTo>
                      <a:cubicBezTo>
                        <a:pt x="1238" y="2614"/>
                        <a:pt x="1192" y="2460"/>
                        <a:pt x="1192" y="2767"/>
                      </a:cubicBezTo>
                      <a:cubicBezTo>
                        <a:pt x="1559" y="3152"/>
                        <a:pt x="1789" y="2998"/>
                        <a:pt x="2201" y="2690"/>
                      </a:cubicBezTo>
                      <a:cubicBezTo>
                        <a:pt x="2064" y="1691"/>
                        <a:pt x="2201" y="1076"/>
                        <a:pt x="2935" y="846"/>
                      </a:cubicBezTo>
                      <a:cubicBezTo>
                        <a:pt x="3256" y="615"/>
                        <a:pt x="3439" y="231"/>
                        <a:pt x="3761" y="0"/>
                      </a:cubicBezTo>
                      <a:cubicBezTo>
                        <a:pt x="3852" y="77"/>
                        <a:pt x="4036" y="0"/>
                        <a:pt x="4036" y="154"/>
                      </a:cubicBezTo>
                      <a:cubicBezTo>
                        <a:pt x="4127" y="922"/>
                        <a:pt x="3439" y="999"/>
                        <a:pt x="4219" y="692"/>
                      </a:cubicBezTo>
                      <a:cubicBezTo>
                        <a:pt x="4311" y="615"/>
                        <a:pt x="4403" y="384"/>
                        <a:pt x="4494" y="384"/>
                      </a:cubicBezTo>
                      <a:cubicBezTo>
                        <a:pt x="4678" y="307"/>
                        <a:pt x="4861" y="538"/>
                        <a:pt x="5045" y="615"/>
                      </a:cubicBezTo>
                      <a:cubicBezTo>
                        <a:pt x="5136" y="615"/>
                        <a:pt x="5320" y="692"/>
                        <a:pt x="5320" y="692"/>
                      </a:cubicBezTo>
                      <a:cubicBezTo>
                        <a:pt x="5595" y="1230"/>
                        <a:pt x="5916" y="999"/>
                        <a:pt x="6466" y="1076"/>
                      </a:cubicBezTo>
                      <a:cubicBezTo>
                        <a:pt x="6558" y="1614"/>
                        <a:pt x="6741" y="1691"/>
                        <a:pt x="7108" y="1845"/>
                      </a:cubicBezTo>
                      <a:cubicBezTo>
                        <a:pt x="7292" y="1691"/>
                        <a:pt x="7475" y="1537"/>
                        <a:pt x="7659" y="1307"/>
                      </a:cubicBezTo>
                      <a:cubicBezTo>
                        <a:pt x="7750" y="1230"/>
                        <a:pt x="7934" y="1076"/>
                        <a:pt x="7934" y="1076"/>
                      </a:cubicBezTo>
                      <a:cubicBezTo>
                        <a:pt x="8943" y="1999"/>
                        <a:pt x="8025" y="1537"/>
                        <a:pt x="8943" y="1076"/>
                      </a:cubicBezTo>
                      <a:cubicBezTo>
                        <a:pt x="9493" y="1307"/>
                        <a:pt x="9218" y="1999"/>
                        <a:pt x="9676" y="2460"/>
                      </a:cubicBezTo>
                      <a:cubicBezTo>
                        <a:pt x="9814" y="2921"/>
                        <a:pt x="10273" y="4228"/>
                        <a:pt x="10594" y="4535"/>
                      </a:cubicBezTo>
                      <a:cubicBezTo>
                        <a:pt x="11052" y="5381"/>
                        <a:pt x="10777" y="5150"/>
                        <a:pt x="11236" y="5381"/>
                      </a:cubicBezTo>
                      <a:cubicBezTo>
                        <a:pt x="11419" y="5304"/>
                        <a:pt x="11603" y="5304"/>
                        <a:pt x="11786" y="5227"/>
                      </a:cubicBezTo>
                      <a:cubicBezTo>
                        <a:pt x="11969" y="5150"/>
                        <a:pt x="12382" y="4996"/>
                        <a:pt x="12382" y="4996"/>
                      </a:cubicBezTo>
                      <a:cubicBezTo>
                        <a:pt x="12749" y="5073"/>
                        <a:pt x="12978" y="5150"/>
                        <a:pt x="13299" y="5458"/>
                      </a:cubicBezTo>
                      <a:cubicBezTo>
                        <a:pt x="13941" y="6764"/>
                        <a:pt x="12932" y="4766"/>
                        <a:pt x="13758" y="6226"/>
                      </a:cubicBezTo>
                      <a:cubicBezTo>
                        <a:pt x="13850" y="6457"/>
                        <a:pt x="14125" y="6918"/>
                        <a:pt x="14125" y="6918"/>
                      </a:cubicBezTo>
                      <a:cubicBezTo>
                        <a:pt x="14262" y="7533"/>
                        <a:pt x="14446" y="7917"/>
                        <a:pt x="14583" y="8532"/>
                      </a:cubicBezTo>
                      <a:cubicBezTo>
                        <a:pt x="14629" y="8763"/>
                        <a:pt x="14721" y="8994"/>
                        <a:pt x="14767" y="9224"/>
                      </a:cubicBezTo>
                      <a:cubicBezTo>
                        <a:pt x="14813" y="9378"/>
                        <a:pt x="14859" y="9609"/>
                        <a:pt x="14859" y="9609"/>
                      </a:cubicBezTo>
                      <a:cubicBezTo>
                        <a:pt x="14721" y="10147"/>
                        <a:pt x="14354" y="10300"/>
                        <a:pt x="14217" y="10915"/>
                      </a:cubicBezTo>
                      <a:cubicBezTo>
                        <a:pt x="14354" y="11607"/>
                        <a:pt x="14538" y="11223"/>
                        <a:pt x="14767" y="10838"/>
                      </a:cubicBezTo>
                      <a:cubicBezTo>
                        <a:pt x="15638" y="10992"/>
                        <a:pt x="15546" y="10915"/>
                        <a:pt x="15684" y="11915"/>
                      </a:cubicBezTo>
                      <a:cubicBezTo>
                        <a:pt x="16097" y="11530"/>
                        <a:pt x="16280" y="11684"/>
                        <a:pt x="16693" y="12068"/>
                      </a:cubicBezTo>
                      <a:cubicBezTo>
                        <a:pt x="16922" y="12453"/>
                        <a:pt x="17060" y="12760"/>
                        <a:pt x="17427" y="12914"/>
                      </a:cubicBezTo>
                      <a:cubicBezTo>
                        <a:pt x="17473" y="12991"/>
                        <a:pt x="17564" y="13144"/>
                        <a:pt x="17518" y="13221"/>
                      </a:cubicBezTo>
                      <a:cubicBezTo>
                        <a:pt x="17427" y="13529"/>
                        <a:pt x="16876" y="13221"/>
                        <a:pt x="17518" y="13529"/>
                      </a:cubicBezTo>
                      <a:cubicBezTo>
                        <a:pt x="17702" y="13452"/>
                        <a:pt x="17885" y="13298"/>
                        <a:pt x="18069" y="13221"/>
                      </a:cubicBezTo>
                      <a:cubicBezTo>
                        <a:pt x="18161" y="13221"/>
                        <a:pt x="18344" y="13144"/>
                        <a:pt x="18344" y="13144"/>
                      </a:cubicBezTo>
                      <a:cubicBezTo>
                        <a:pt x="18940" y="13606"/>
                        <a:pt x="19582" y="13759"/>
                        <a:pt x="20132" y="14221"/>
                      </a:cubicBezTo>
                      <a:cubicBezTo>
                        <a:pt x="20224" y="14605"/>
                        <a:pt x="20408" y="14912"/>
                        <a:pt x="20499" y="15297"/>
                      </a:cubicBezTo>
                      <a:cubicBezTo>
                        <a:pt x="20775" y="15220"/>
                        <a:pt x="21096" y="14989"/>
                        <a:pt x="21325" y="15451"/>
                      </a:cubicBezTo>
                      <a:cubicBezTo>
                        <a:pt x="21462" y="15758"/>
                        <a:pt x="21600" y="16527"/>
                        <a:pt x="21600" y="16527"/>
                      </a:cubicBezTo>
                      <a:cubicBezTo>
                        <a:pt x="21462" y="17757"/>
                        <a:pt x="21508" y="19063"/>
                        <a:pt x="20683" y="19832"/>
                      </a:cubicBezTo>
                      <a:cubicBezTo>
                        <a:pt x="20499" y="20140"/>
                        <a:pt x="20041" y="21139"/>
                        <a:pt x="19949" y="21600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8" name="Freeform 21"/>
                <p:cNvSpPr/>
                <p:nvPr/>
              </p:nvSpPr>
              <p:spPr>
                <a:xfrm>
                  <a:off x="4304160" y="168120"/>
                  <a:ext cx="647640" cy="446400"/>
                </a:xfrm>
                <a:custGeom>
                  <a:avLst/>
                  <a:gdLst/>
                  <a:ahLst/>
                  <a:rect l="l" t="t" r="r" b="b"/>
                  <a:pathLst>
                    <a:path w="21006" h="21465">
                      <a:moveTo>
                        <a:pt x="1623" y="922"/>
                      </a:moveTo>
                      <a:lnTo>
                        <a:pt x="8735" y="103"/>
                      </a:lnTo>
                      <a:cubicBezTo>
                        <a:pt x="10733" y="512"/>
                        <a:pt x="10030" y="-51"/>
                        <a:pt x="10228" y="1331"/>
                      </a:cubicBezTo>
                      <a:cubicBezTo>
                        <a:pt x="10623" y="1177"/>
                        <a:pt x="10447" y="973"/>
                        <a:pt x="10843" y="819"/>
                      </a:cubicBezTo>
                      <a:cubicBezTo>
                        <a:pt x="11018" y="896"/>
                        <a:pt x="11172" y="1126"/>
                        <a:pt x="11369" y="1126"/>
                      </a:cubicBezTo>
                      <a:cubicBezTo>
                        <a:pt x="11545" y="1126"/>
                        <a:pt x="11896" y="922"/>
                        <a:pt x="11896" y="922"/>
                      </a:cubicBezTo>
                      <a:cubicBezTo>
                        <a:pt x="12028" y="1357"/>
                        <a:pt x="11940" y="1485"/>
                        <a:pt x="11721" y="1843"/>
                      </a:cubicBezTo>
                      <a:cubicBezTo>
                        <a:pt x="12006" y="2867"/>
                        <a:pt x="11896" y="2559"/>
                        <a:pt x="12511" y="3276"/>
                      </a:cubicBezTo>
                      <a:cubicBezTo>
                        <a:pt x="12643" y="3737"/>
                        <a:pt x="12774" y="3737"/>
                        <a:pt x="13125" y="3481"/>
                      </a:cubicBezTo>
                      <a:cubicBezTo>
                        <a:pt x="12994" y="2994"/>
                        <a:pt x="12862" y="2687"/>
                        <a:pt x="12686" y="2252"/>
                      </a:cubicBezTo>
                      <a:cubicBezTo>
                        <a:pt x="12621" y="2048"/>
                        <a:pt x="12511" y="1638"/>
                        <a:pt x="12511" y="1638"/>
                      </a:cubicBezTo>
                      <a:cubicBezTo>
                        <a:pt x="12664" y="1075"/>
                        <a:pt x="12928" y="1382"/>
                        <a:pt x="13125" y="1740"/>
                      </a:cubicBezTo>
                      <a:cubicBezTo>
                        <a:pt x="13191" y="2150"/>
                        <a:pt x="13169" y="2943"/>
                        <a:pt x="13564" y="2252"/>
                      </a:cubicBezTo>
                      <a:cubicBezTo>
                        <a:pt x="14047" y="2431"/>
                        <a:pt x="14003" y="2611"/>
                        <a:pt x="13916" y="3174"/>
                      </a:cubicBezTo>
                      <a:cubicBezTo>
                        <a:pt x="14091" y="3788"/>
                        <a:pt x="14421" y="3558"/>
                        <a:pt x="14794" y="3276"/>
                      </a:cubicBezTo>
                      <a:cubicBezTo>
                        <a:pt x="14947" y="2713"/>
                        <a:pt x="14596" y="3122"/>
                        <a:pt x="14794" y="2457"/>
                      </a:cubicBezTo>
                      <a:cubicBezTo>
                        <a:pt x="14816" y="2355"/>
                        <a:pt x="14969" y="2406"/>
                        <a:pt x="15057" y="2355"/>
                      </a:cubicBezTo>
                      <a:cubicBezTo>
                        <a:pt x="15145" y="2304"/>
                        <a:pt x="15233" y="2227"/>
                        <a:pt x="15321" y="2150"/>
                      </a:cubicBezTo>
                      <a:cubicBezTo>
                        <a:pt x="15562" y="1331"/>
                        <a:pt x="14925" y="1331"/>
                        <a:pt x="16111" y="1126"/>
                      </a:cubicBezTo>
                      <a:cubicBezTo>
                        <a:pt x="16243" y="640"/>
                        <a:pt x="16089" y="179"/>
                        <a:pt x="16550" y="0"/>
                      </a:cubicBezTo>
                      <a:cubicBezTo>
                        <a:pt x="17121" y="231"/>
                        <a:pt x="16879" y="922"/>
                        <a:pt x="17428" y="1126"/>
                      </a:cubicBezTo>
                      <a:cubicBezTo>
                        <a:pt x="18064" y="870"/>
                        <a:pt x="17494" y="1561"/>
                        <a:pt x="17340" y="1740"/>
                      </a:cubicBezTo>
                      <a:cubicBezTo>
                        <a:pt x="17143" y="2406"/>
                        <a:pt x="17099" y="2406"/>
                        <a:pt x="17428" y="2969"/>
                      </a:cubicBezTo>
                      <a:cubicBezTo>
                        <a:pt x="17406" y="3071"/>
                        <a:pt x="17406" y="3199"/>
                        <a:pt x="17340" y="3276"/>
                      </a:cubicBezTo>
                      <a:cubicBezTo>
                        <a:pt x="17252" y="3353"/>
                        <a:pt x="17033" y="3250"/>
                        <a:pt x="16989" y="3378"/>
                      </a:cubicBezTo>
                      <a:cubicBezTo>
                        <a:pt x="16945" y="3583"/>
                        <a:pt x="17164" y="3993"/>
                        <a:pt x="17164" y="3993"/>
                      </a:cubicBezTo>
                      <a:cubicBezTo>
                        <a:pt x="17077" y="4069"/>
                        <a:pt x="17011" y="4172"/>
                        <a:pt x="16901" y="4197"/>
                      </a:cubicBezTo>
                      <a:cubicBezTo>
                        <a:pt x="16813" y="4223"/>
                        <a:pt x="16703" y="4018"/>
                        <a:pt x="16638" y="4095"/>
                      </a:cubicBezTo>
                      <a:cubicBezTo>
                        <a:pt x="16462" y="4300"/>
                        <a:pt x="17252" y="4607"/>
                        <a:pt x="17252" y="4607"/>
                      </a:cubicBezTo>
                      <a:cubicBezTo>
                        <a:pt x="17472" y="5349"/>
                        <a:pt x="16835" y="4812"/>
                        <a:pt x="16550" y="4709"/>
                      </a:cubicBezTo>
                      <a:cubicBezTo>
                        <a:pt x="16660" y="4914"/>
                        <a:pt x="16791" y="5119"/>
                        <a:pt x="16901" y="5323"/>
                      </a:cubicBezTo>
                      <a:cubicBezTo>
                        <a:pt x="17011" y="5528"/>
                        <a:pt x="17428" y="5733"/>
                        <a:pt x="17428" y="5733"/>
                      </a:cubicBezTo>
                      <a:cubicBezTo>
                        <a:pt x="17669" y="6142"/>
                        <a:pt x="17472" y="6219"/>
                        <a:pt x="17603" y="6654"/>
                      </a:cubicBezTo>
                      <a:cubicBezTo>
                        <a:pt x="17450" y="7166"/>
                        <a:pt x="17230" y="7652"/>
                        <a:pt x="17077" y="8190"/>
                      </a:cubicBezTo>
                      <a:cubicBezTo>
                        <a:pt x="17011" y="8394"/>
                        <a:pt x="16901" y="8804"/>
                        <a:pt x="16901" y="8804"/>
                      </a:cubicBezTo>
                      <a:cubicBezTo>
                        <a:pt x="17055" y="9316"/>
                        <a:pt x="17757" y="10032"/>
                        <a:pt x="18043" y="10544"/>
                      </a:cubicBezTo>
                      <a:cubicBezTo>
                        <a:pt x="18152" y="10749"/>
                        <a:pt x="18284" y="10954"/>
                        <a:pt x="18394" y="11158"/>
                      </a:cubicBezTo>
                      <a:cubicBezTo>
                        <a:pt x="18460" y="11261"/>
                        <a:pt x="18569" y="11466"/>
                        <a:pt x="18569" y="11466"/>
                      </a:cubicBezTo>
                      <a:cubicBezTo>
                        <a:pt x="18547" y="11645"/>
                        <a:pt x="18591" y="11875"/>
                        <a:pt x="18482" y="11977"/>
                      </a:cubicBezTo>
                      <a:cubicBezTo>
                        <a:pt x="18350" y="12105"/>
                        <a:pt x="18064" y="11491"/>
                        <a:pt x="18043" y="11466"/>
                      </a:cubicBezTo>
                      <a:cubicBezTo>
                        <a:pt x="17625" y="10979"/>
                        <a:pt x="17143" y="10723"/>
                        <a:pt x="16813" y="10135"/>
                      </a:cubicBezTo>
                      <a:cubicBezTo>
                        <a:pt x="16703" y="9649"/>
                        <a:pt x="16638" y="9444"/>
                        <a:pt x="16199" y="9623"/>
                      </a:cubicBezTo>
                      <a:cubicBezTo>
                        <a:pt x="15562" y="9367"/>
                        <a:pt x="15847" y="9367"/>
                        <a:pt x="15321" y="9521"/>
                      </a:cubicBezTo>
                      <a:cubicBezTo>
                        <a:pt x="14925" y="10237"/>
                        <a:pt x="15167" y="10058"/>
                        <a:pt x="14706" y="10237"/>
                      </a:cubicBezTo>
                      <a:cubicBezTo>
                        <a:pt x="14179" y="9828"/>
                        <a:pt x="14091" y="9930"/>
                        <a:pt x="13389" y="10032"/>
                      </a:cubicBezTo>
                      <a:cubicBezTo>
                        <a:pt x="13147" y="10467"/>
                        <a:pt x="13016" y="10851"/>
                        <a:pt x="12774" y="11261"/>
                      </a:cubicBezTo>
                      <a:cubicBezTo>
                        <a:pt x="12994" y="12003"/>
                        <a:pt x="12840" y="11696"/>
                        <a:pt x="13125" y="12182"/>
                      </a:cubicBezTo>
                      <a:cubicBezTo>
                        <a:pt x="12840" y="13206"/>
                        <a:pt x="13477" y="13974"/>
                        <a:pt x="13916" y="14741"/>
                      </a:cubicBezTo>
                      <a:cubicBezTo>
                        <a:pt x="14113" y="15074"/>
                        <a:pt x="14113" y="15330"/>
                        <a:pt x="14443" y="15458"/>
                      </a:cubicBezTo>
                      <a:cubicBezTo>
                        <a:pt x="14750" y="15995"/>
                        <a:pt x="14991" y="15893"/>
                        <a:pt x="15408" y="15560"/>
                      </a:cubicBezTo>
                      <a:cubicBezTo>
                        <a:pt x="15825" y="15714"/>
                        <a:pt x="15825" y="15458"/>
                        <a:pt x="15935" y="15049"/>
                      </a:cubicBezTo>
                      <a:cubicBezTo>
                        <a:pt x="15957" y="14716"/>
                        <a:pt x="15869" y="14332"/>
                        <a:pt x="16023" y="14025"/>
                      </a:cubicBezTo>
                      <a:cubicBezTo>
                        <a:pt x="16111" y="13846"/>
                        <a:pt x="16550" y="13820"/>
                        <a:pt x="16550" y="13820"/>
                      </a:cubicBezTo>
                      <a:cubicBezTo>
                        <a:pt x="17011" y="13948"/>
                        <a:pt x="17077" y="14076"/>
                        <a:pt x="16813" y="14537"/>
                      </a:cubicBezTo>
                      <a:cubicBezTo>
                        <a:pt x="16923" y="15049"/>
                        <a:pt x="17164" y="15432"/>
                        <a:pt x="16725" y="15765"/>
                      </a:cubicBezTo>
                      <a:cubicBezTo>
                        <a:pt x="16703" y="15867"/>
                        <a:pt x="16594" y="15970"/>
                        <a:pt x="16638" y="16072"/>
                      </a:cubicBezTo>
                      <a:cubicBezTo>
                        <a:pt x="16682" y="16175"/>
                        <a:pt x="16835" y="16175"/>
                        <a:pt x="16901" y="16277"/>
                      </a:cubicBezTo>
                      <a:cubicBezTo>
                        <a:pt x="17121" y="16610"/>
                        <a:pt x="17077" y="16840"/>
                        <a:pt x="17428" y="17096"/>
                      </a:cubicBezTo>
                      <a:cubicBezTo>
                        <a:pt x="17603" y="17019"/>
                        <a:pt x="17779" y="16968"/>
                        <a:pt x="17955" y="16891"/>
                      </a:cubicBezTo>
                      <a:cubicBezTo>
                        <a:pt x="18043" y="16866"/>
                        <a:pt x="18218" y="16789"/>
                        <a:pt x="18218" y="16789"/>
                      </a:cubicBezTo>
                      <a:cubicBezTo>
                        <a:pt x="18635" y="16942"/>
                        <a:pt x="18789" y="17352"/>
                        <a:pt x="18921" y="17813"/>
                      </a:cubicBezTo>
                      <a:cubicBezTo>
                        <a:pt x="18679" y="18657"/>
                        <a:pt x="19294" y="20269"/>
                        <a:pt x="20062" y="20576"/>
                      </a:cubicBezTo>
                      <a:cubicBezTo>
                        <a:pt x="20413" y="20449"/>
                        <a:pt x="20479" y="20218"/>
                        <a:pt x="20852" y="20372"/>
                      </a:cubicBezTo>
                      <a:cubicBezTo>
                        <a:pt x="21423" y="21370"/>
                        <a:pt x="20194" y="20013"/>
                        <a:pt x="20501" y="21088"/>
                      </a:cubicBezTo>
                      <a:cubicBezTo>
                        <a:pt x="20369" y="21549"/>
                        <a:pt x="20238" y="21549"/>
                        <a:pt x="19886" y="21293"/>
                      </a:cubicBezTo>
                      <a:cubicBezTo>
                        <a:pt x="19645" y="20858"/>
                        <a:pt x="19360" y="20960"/>
                        <a:pt x="19008" y="20679"/>
                      </a:cubicBezTo>
                      <a:cubicBezTo>
                        <a:pt x="18503" y="19809"/>
                        <a:pt x="19184" y="20832"/>
                        <a:pt x="18569" y="20269"/>
                      </a:cubicBezTo>
                      <a:cubicBezTo>
                        <a:pt x="18328" y="20039"/>
                        <a:pt x="18262" y="19604"/>
                        <a:pt x="18043" y="19348"/>
                      </a:cubicBezTo>
                      <a:cubicBezTo>
                        <a:pt x="17911" y="18862"/>
                        <a:pt x="17757" y="18478"/>
                        <a:pt x="17340" y="18324"/>
                      </a:cubicBezTo>
                      <a:cubicBezTo>
                        <a:pt x="17186" y="17761"/>
                        <a:pt x="17384" y="18171"/>
                        <a:pt x="16901" y="18120"/>
                      </a:cubicBezTo>
                      <a:cubicBezTo>
                        <a:pt x="16660" y="18094"/>
                        <a:pt x="16199" y="17915"/>
                        <a:pt x="16199" y="17915"/>
                      </a:cubicBezTo>
                      <a:cubicBezTo>
                        <a:pt x="15825" y="17633"/>
                        <a:pt x="15628" y="17198"/>
                        <a:pt x="15233" y="16891"/>
                      </a:cubicBezTo>
                      <a:cubicBezTo>
                        <a:pt x="15057" y="16968"/>
                        <a:pt x="14903" y="17173"/>
                        <a:pt x="14706" y="17198"/>
                      </a:cubicBezTo>
                      <a:cubicBezTo>
                        <a:pt x="14245" y="17275"/>
                        <a:pt x="13652" y="16763"/>
                        <a:pt x="13301" y="16482"/>
                      </a:cubicBezTo>
                      <a:cubicBezTo>
                        <a:pt x="12994" y="16251"/>
                        <a:pt x="12555" y="16303"/>
                        <a:pt x="12247" y="16072"/>
                      </a:cubicBezTo>
                      <a:cubicBezTo>
                        <a:pt x="11808" y="15740"/>
                        <a:pt x="11347" y="15484"/>
                        <a:pt x="10930" y="15151"/>
                      </a:cubicBezTo>
                      <a:cubicBezTo>
                        <a:pt x="11084" y="14588"/>
                        <a:pt x="10996" y="14050"/>
                        <a:pt x="10579" y="13718"/>
                      </a:cubicBezTo>
                      <a:cubicBezTo>
                        <a:pt x="10469" y="13308"/>
                        <a:pt x="10272" y="13129"/>
                        <a:pt x="9964" y="12899"/>
                      </a:cubicBezTo>
                      <a:cubicBezTo>
                        <a:pt x="9503" y="12080"/>
                        <a:pt x="10118" y="13078"/>
                        <a:pt x="9525" y="12387"/>
                      </a:cubicBezTo>
                      <a:cubicBezTo>
                        <a:pt x="9394" y="12233"/>
                        <a:pt x="9394" y="11926"/>
                        <a:pt x="9262" y="11773"/>
                      </a:cubicBezTo>
                      <a:cubicBezTo>
                        <a:pt x="9196" y="11696"/>
                        <a:pt x="9086" y="11696"/>
                        <a:pt x="8999" y="11670"/>
                      </a:cubicBezTo>
                      <a:cubicBezTo>
                        <a:pt x="8757" y="11389"/>
                        <a:pt x="8208" y="10954"/>
                        <a:pt x="8208" y="10954"/>
                      </a:cubicBezTo>
                      <a:cubicBezTo>
                        <a:pt x="7967" y="10519"/>
                        <a:pt x="7682" y="10160"/>
                        <a:pt x="7418" y="9725"/>
                      </a:cubicBezTo>
                      <a:cubicBezTo>
                        <a:pt x="7374" y="9623"/>
                        <a:pt x="7396" y="9495"/>
                        <a:pt x="7330" y="9418"/>
                      </a:cubicBezTo>
                      <a:cubicBezTo>
                        <a:pt x="7264" y="9341"/>
                        <a:pt x="7155" y="9341"/>
                        <a:pt x="7067" y="9316"/>
                      </a:cubicBezTo>
                      <a:cubicBezTo>
                        <a:pt x="6891" y="9930"/>
                        <a:pt x="7330" y="10135"/>
                        <a:pt x="7594" y="10544"/>
                      </a:cubicBezTo>
                      <a:cubicBezTo>
                        <a:pt x="7901" y="11005"/>
                        <a:pt x="7989" y="11363"/>
                        <a:pt x="8384" y="11670"/>
                      </a:cubicBezTo>
                      <a:cubicBezTo>
                        <a:pt x="8801" y="12413"/>
                        <a:pt x="8582" y="12105"/>
                        <a:pt x="8999" y="12592"/>
                      </a:cubicBezTo>
                      <a:cubicBezTo>
                        <a:pt x="9108" y="13001"/>
                        <a:pt x="9218" y="13180"/>
                        <a:pt x="9525" y="13411"/>
                      </a:cubicBezTo>
                      <a:cubicBezTo>
                        <a:pt x="9701" y="14025"/>
                        <a:pt x="9306" y="13590"/>
                        <a:pt x="9086" y="13411"/>
                      </a:cubicBezTo>
                      <a:cubicBezTo>
                        <a:pt x="8582" y="12540"/>
                        <a:pt x="9262" y="13564"/>
                        <a:pt x="8647" y="13001"/>
                      </a:cubicBezTo>
                      <a:cubicBezTo>
                        <a:pt x="8560" y="12924"/>
                        <a:pt x="8538" y="12771"/>
                        <a:pt x="8472" y="12694"/>
                      </a:cubicBezTo>
                      <a:cubicBezTo>
                        <a:pt x="8406" y="12617"/>
                        <a:pt x="8296" y="12566"/>
                        <a:pt x="8208" y="12489"/>
                      </a:cubicBezTo>
                      <a:cubicBezTo>
                        <a:pt x="8099" y="12080"/>
                        <a:pt x="7945" y="12003"/>
                        <a:pt x="7594" y="11875"/>
                      </a:cubicBezTo>
                      <a:cubicBezTo>
                        <a:pt x="7374" y="11517"/>
                        <a:pt x="7286" y="11389"/>
                        <a:pt x="7418" y="10954"/>
                      </a:cubicBezTo>
                      <a:cubicBezTo>
                        <a:pt x="7243" y="10647"/>
                        <a:pt x="6716" y="10237"/>
                        <a:pt x="6716" y="10237"/>
                      </a:cubicBezTo>
                      <a:cubicBezTo>
                        <a:pt x="6540" y="9930"/>
                        <a:pt x="6364" y="9623"/>
                        <a:pt x="6189" y="9316"/>
                      </a:cubicBezTo>
                      <a:cubicBezTo>
                        <a:pt x="6057" y="9085"/>
                        <a:pt x="5816" y="9009"/>
                        <a:pt x="5662" y="8804"/>
                      </a:cubicBezTo>
                      <a:cubicBezTo>
                        <a:pt x="5596" y="8702"/>
                        <a:pt x="5574" y="8574"/>
                        <a:pt x="5486" y="8497"/>
                      </a:cubicBezTo>
                      <a:cubicBezTo>
                        <a:pt x="5157" y="8241"/>
                        <a:pt x="4762" y="8241"/>
                        <a:pt x="4433" y="7985"/>
                      </a:cubicBezTo>
                      <a:cubicBezTo>
                        <a:pt x="4235" y="7627"/>
                        <a:pt x="4082" y="7396"/>
                        <a:pt x="3730" y="7268"/>
                      </a:cubicBezTo>
                      <a:cubicBezTo>
                        <a:pt x="3335" y="6603"/>
                        <a:pt x="4038" y="6270"/>
                        <a:pt x="3203" y="6040"/>
                      </a:cubicBezTo>
                      <a:cubicBezTo>
                        <a:pt x="2260" y="5298"/>
                        <a:pt x="2150" y="3762"/>
                        <a:pt x="1799" y="2559"/>
                      </a:cubicBezTo>
                      <a:cubicBezTo>
                        <a:pt x="1711" y="2252"/>
                        <a:pt x="1491" y="1817"/>
                        <a:pt x="1272" y="1638"/>
                      </a:cubicBezTo>
                      <a:cubicBezTo>
                        <a:pt x="1096" y="1485"/>
                        <a:pt x="745" y="1229"/>
                        <a:pt x="745" y="1229"/>
                      </a:cubicBezTo>
                      <a:cubicBezTo>
                        <a:pt x="679" y="1126"/>
                        <a:pt x="657" y="998"/>
                        <a:pt x="569" y="922"/>
                      </a:cubicBezTo>
                      <a:cubicBezTo>
                        <a:pt x="416" y="819"/>
                        <a:pt x="43" y="717"/>
                        <a:pt x="43" y="717"/>
                      </a:cubicBezTo>
                      <a:cubicBezTo>
                        <a:pt x="-177" y="-25"/>
                        <a:pt x="503" y="384"/>
                        <a:pt x="833" y="512"/>
                      </a:cubicBezTo>
                      <a:cubicBezTo>
                        <a:pt x="1250" y="1254"/>
                        <a:pt x="1162" y="998"/>
                        <a:pt x="1711" y="1433"/>
                      </a:cubicBezTo>
                      <a:cubicBezTo>
                        <a:pt x="1886" y="1740"/>
                        <a:pt x="1886" y="2329"/>
                        <a:pt x="2062" y="1740"/>
                      </a:cubicBezTo>
                      <a:cubicBezTo>
                        <a:pt x="1908" y="1203"/>
                        <a:pt x="1623" y="1536"/>
                        <a:pt x="1623" y="922"/>
                      </a:cubicBezTo>
                      <a:close/>
                      <a:moveTo>
                        <a:pt x="1623" y="9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89" name="Freeform 22"/>
                <p:cNvSpPr/>
                <p:nvPr/>
              </p:nvSpPr>
              <p:spPr>
                <a:xfrm>
                  <a:off x="4094640" y="498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4054" h="14065">
                      <a:moveTo>
                        <a:pt x="2457" y="5065"/>
                      </a:moveTo>
                      <a:cubicBezTo>
                        <a:pt x="13857" y="-7535"/>
                        <a:pt x="20457" y="6415"/>
                        <a:pt x="4857" y="14065"/>
                      </a:cubicBezTo>
                      <a:cubicBezTo>
                        <a:pt x="-1143" y="7765"/>
                        <a:pt x="-1143" y="10465"/>
                        <a:pt x="2457" y="5065"/>
                      </a:cubicBezTo>
                      <a:close/>
                      <a:moveTo>
                        <a:pt x="2457" y="506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0" name="Freeform 23"/>
                <p:cNvSpPr/>
                <p:nvPr/>
              </p:nvSpPr>
              <p:spPr>
                <a:xfrm>
                  <a:off x="4075560" y="48096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21600" h="15996">
                      <a:moveTo>
                        <a:pt x="0" y="2428"/>
                      </a:moveTo>
                      <a:cubicBezTo>
                        <a:pt x="2400" y="1844"/>
                        <a:pt x="4800" y="-491"/>
                        <a:pt x="7200" y="93"/>
                      </a:cubicBezTo>
                      <a:cubicBezTo>
                        <a:pt x="12600" y="1844"/>
                        <a:pt x="21600" y="9433"/>
                        <a:pt x="21600" y="9433"/>
                      </a:cubicBezTo>
                      <a:cubicBezTo>
                        <a:pt x="17400" y="21109"/>
                        <a:pt x="13200" y="14687"/>
                        <a:pt x="4800" y="9433"/>
                      </a:cubicBezTo>
                      <a:cubicBezTo>
                        <a:pt x="3000" y="7098"/>
                        <a:pt x="0" y="2428"/>
                        <a:pt x="0" y="2428"/>
                      </a:cubicBezTo>
                      <a:close/>
                      <a:moveTo>
                        <a:pt x="0" y="24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1" name="Freeform 24"/>
                <p:cNvSpPr/>
                <p:nvPr/>
              </p:nvSpPr>
              <p:spPr>
                <a:xfrm>
                  <a:off x="4845600" y="431640"/>
                  <a:ext cx="109440" cy="42840"/>
                </a:xfrm>
                <a:custGeom>
                  <a:avLst/>
                  <a:gdLst/>
                  <a:ahLst/>
                  <a:rect l="l" t="t" r="r" b="b"/>
                  <a:pathLst>
                    <a:path w="20548" h="17162">
                      <a:moveTo>
                        <a:pt x="0" y="9089"/>
                      </a:moveTo>
                      <a:cubicBezTo>
                        <a:pt x="635" y="5489"/>
                        <a:pt x="1525" y="4814"/>
                        <a:pt x="3558" y="3689"/>
                      </a:cubicBezTo>
                      <a:cubicBezTo>
                        <a:pt x="2541" y="-1936"/>
                        <a:pt x="5336" y="1664"/>
                        <a:pt x="7115" y="2789"/>
                      </a:cubicBezTo>
                      <a:cubicBezTo>
                        <a:pt x="7115" y="2789"/>
                        <a:pt x="9784" y="-586"/>
                        <a:pt x="10165" y="89"/>
                      </a:cubicBezTo>
                      <a:cubicBezTo>
                        <a:pt x="10800" y="1214"/>
                        <a:pt x="9021" y="3239"/>
                        <a:pt x="8132" y="3689"/>
                      </a:cubicBezTo>
                      <a:cubicBezTo>
                        <a:pt x="10419" y="6389"/>
                        <a:pt x="13087" y="7514"/>
                        <a:pt x="15755" y="9089"/>
                      </a:cubicBezTo>
                      <a:cubicBezTo>
                        <a:pt x="17280" y="9989"/>
                        <a:pt x="20329" y="12689"/>
                        <a:pt x="20329" y="12689"/>
                      </a:cubicBezTo>
                      <a:cubicBezTo>
                        <a:pt x="21600" y="19664"/>
                        <a:pt x="17026" y="16739"/>
                        <a:pt x="14739" y="15389"/>
                      </a:cubicBezTo>
                      <a:cubicBezTo>
                        <a:pt x="13849" y="10889"/>
                        <a:pt x="14739" y="12914"/>
                        <a:pt x="11181" y="10889"/>
                      </a:cubicBezTo>
                      <a:cubicBezTo>
                        <a:pt x="10673" y="10664"/>
                        <a:pt x="9656" y="9989"/>
                        <a:pt x="9656" y="9989"/>
                      </a:cubicBezTo>
                      <a:cubicBezTo>
                        <a:pt x="7242" y="5714"/>
                        <a:pt x="6734" y="6389"/>
                        <a:pt x="3049" y="7289"/>
                      </a:cubicBezTo>
                      <a:cubicBezTo>
                        <a:pt x="1144" y="9539"/>
                        <a:pt x="2160" y="9089"/>
                        <a:pt x="0" y="9089"/>
                      </a:cubicBezTo>
                      <a:close/>
                      <a:moveTo>
                        <a:pt x="0" y="90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2" name="Freeform 25"/>
                <p:cNvSpPr/>
                <p:nvPr/>
              </p:nvSpPr>
              <p:spPr>
                <a:xfrm>
                  <a:off x="4967640" y="471600"/>
                  <a:ext cx="84240" cy="23760"/>
                </a:xfrm>
                <a:custGeom>
                  <a:avLst/>
                  <a:gdLst/>
                  <a:ahLst/>
                  <a:rect l="l" t="t" r="r" b="b"/>
                  <a:pathLst>
                    <a:path w="19535" h="21600">
                      <a:moveTo>
                        <a:pt x="0" y="0"/>
                      </a:moveTo>
                      <a:cubicBezTo>
                        <a:pt x="2974" y="1473"/>
                        <a:pt x="5478" y="4909"/>
                        <a:pt x="8139" y="1964"/>
                      </a:cubicBezTo>
                      <a:cubicBezTo>
                        <a:pt x="13617" y="5400"/>
                        <a:pt x="9548" y="7364"/>
                        <a:pt x="13774" y="11782"/>
                      </a:cubicBezTo>
                      <a:cubicBezTo>
                        <a:pt x="15026" y="11291"/>
                        <a:pt x="16278" y="9327"/>
                        <a:pt x="17530" y="9818"/>
                      </a:cubicBezTo>
                      <a:cubicBezTo>
                        <a:pt x="21600" y="11291"/>
                        <a:pt x="18470" y="20127"/>
                        <a:pt x="16904" y="21600"/>
                      </a:cubicBezTo>
                      <a:cubicBezTo>
                        <a:pt x="12209" y="16691"/>
                        <a:pt x="14400" y="16691"/>
                        <a:pt x="10017" y="19636"/>
                      </a:cubicBezTo>
                      <a:cubicBezTo>
                        <a:pt x="6417" y="18164"/>
                        <a:pt x="3443" y="20127"/>
                        <a:pt x="0" y="17673"/>
                      </a:cubicBezTo>
                      <a:cubicBezTo>
                        <a:pt x="939" y="5400"/>
                        <a:pt x="1096" y="13255"/>
                        <a:pt x="4383" y="9818"/>
                      </a:cubicBezTo>
                      <a:cubicBezTo>
                        <a:pt x="2661" y="6382"/>
                        <a:pt x="0" y="6382"/>
                        <a:pt x="0" y="0"/>
                      </a:cubicBez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3" name="Freeform 26"/>
                <p:cNvSpPr/>
                <p:nvPr/>
              </p:nvSpPr>
              <p:spPr>
                <a:xfrm>
                  <a:off x="4924800" y="487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2677" h="11240">
                      <a:moveTo>
                        <a:pt x="2391" y="8694"/>
                      </a:moveTo>
                      <a:cubicBezTo>
                        <a:pt x="-4051" y="-4163"/>
                        <a:pt x="3907" y="466"/>
                        <a:pt x="9970" y="2523"/>
                      </a:cubicBezTo>
                      <a:cubicBezTo>
                        <a:pt x="17549" y="17437"/>
                        <a:pt x="7317" y="8694"/>
                        <a:pt x="2391" y="8694"/>
                      </a:cubicBezTo>
                      <a:close/>
                      <a:moveTo>
                        <a:pt x="2391" y="869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4" name="Freeform 27"/>
                <p:cNvSpPr/>
                <p:nvPr/>
              </p:nvSpPr>
              <p:spPr>
                <a:xfrm>
                  <a:off x="4897800" y="4158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10960" h="15340">
                      <a:moveTo>
                        <a:pt x="5506" y="13292"/>
                      </a:moveTo>
                      <a:cubicBezTo>
                        <a:pt x="2183" y="5815"/>
                        <a:pt x="-5017" y="5400"/>
                        <a:pt x="5506" y="0"/>
                      </a:cubicBezTo>
                      <a:cubicBezTo>
                        <a:pt x="7721" y="2077"/>
                        <a:pt x="16583" y="21600"/>
                        <a:pt x="5506" y="13292"/>
                      </a:cubicBezTo>
                      <a:close/>
                      <a:moveTo>
                        <a:pt x="5506" y="1329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5" name="Freeform 28"/>
                <p:cNvSpPr/>
                <p:nvPr/>
              </p:nvSpPr>
              <p:spPr>
                <a:xfrm>
                  <a:off x="5094720" y="5032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9487" h="19095">
                      <a:moveTo>
                        <a:pt x="1964" y="1262"/>
                      </a:moveTo>
                      <a:cubicBezTo>
                        <a:pt x="4418" y="3422"/>
                        <a:pt x="8836" y="5312"/>
                        <a:pt x="9818" y="7742"/>
                      </a:cubicBezTo>
                      <a:cubicBezTo>
                        <a:pt x="10309" y="9092"/>
                        <a:pt x="10309" y="10982"/>
                        <a:pt x="11782" y="12062"/>
                      </a:cubicBezTo>
                      <a:cubicBezTo>
                        <a:pt x="13255" y="12872"/>
                        <a:pt x="15709" y="12872"/>
                        <a:pt x="17673" y="13142"/>
                      </a:cubicBezTo>
                      <a:cubicBezTo>
                        <a:pt x="20127" y="17192"/>
                        <a:pt x="21600" y="20432"/>
                        <a:pt x="11782" y="18542"/>
                      </a:cubicBezTo>
                      <a:cubicBezTo>
                        <a:pt x="9327" y="13682"/>
                        <a:pt x="5400" y="8822"/>
                        <a:pt x="0" y="4502"/>
                      </a:cubicBezTo>
                      <a:cubicBezTo>
                        <a:pt x="1964" y="-88"/>
                        <a:pt x="1964" y="-1168"/>
                        <a:pt x="1964" y="1262"/>
                      </a:cubicBezTo>
                      <a:close/>
                      <a:moveTo>
                        <a:pt x="1964" y="126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6" name="Freeform 29"/>
                <p:cNvSpPr/>
                <p:nvPr/>
              </p:nvSpPr>
              <p:spPr>
                <a:xfrm>
                  <a:off x="4556520" y="176040"/>
                  <a:ext cx="322200" cy="63720"/>
                </a:xfrm>
                <a:custGeom>
                  <a:avLst/>
                  <a:gdLst/>
                  <a:ahLst/>
                  <a:rect l="l" t="t" r="r" b="b"/>
                  <a:pathLst>
                    <a:path w="21403" h="21263">
                      <a:moveTo>
                        <a:pt x="14646" y="338"/>
                      </a:moveTo>
                      <a:cubicBezTo>
                        <a:pt x="14312" y="4050"/>
                        <a:pt x="14980" y="5738"/>
                        <a:pt x="15382" y="2700"/>
                      </a:cubicBezTo>
                      <a:cubicBezTo>
                        <a:pt x="15649" y="0"/>
                        <a:pt x="15248" y="2363"/>
                        <a:pt x="15649" y="0"/>
                      </a:cubicBezTo>
                      <a:lnTo>
                        <a:pt x="17655" y="0"/>
                      </a:lnTo>
                      <a:cubicBezTo>
                        <a:pt x="18458" y="2025"/>
                        <a:pt x="18391" y="3713"/>
                        <a:pt x="19127" y="5738"/>
                      </a:cubicBezTo>
                      <a:cubicBezTo>
                        <a:pt x="20531" y="3713"/>
                        <a:pt x="19528" y="2363"/>
                        <a:pt x="21267" y="3375"/>
                      </a:cubicBezTo>
                      <a:cubicBezTo>
                        <a:pt x="21534" y="6413"/>
                        <a:pt x="21400" y="7425"/>
                        <a:pt x="20932" y="9788"/>
                      </a:cubicBezTo>
                      <a:cubicBezTo>
                        <a:pt x="20798" y="13163"/>
                        <a:pt x="20865" y="16875"/>
                        <a:pt x="19862" y="15525"/>
                      </a:cubicBezTo>
                      <a:cubicBezTo>
                        <a:pt x="19795" y="13500"/>
                        <a:pt x="19862" y="11475"/>
                        <a:pt x="19662" y="9788"/>
                      </a:cubicBezTo>
                      <a:cubicBezTo>
                        <a:pt x="19595" y="9113"/>
                        <a:pt x="19327" y="10463"/>
                        <a:pt x="19127" y="10463"/>
                      </a:cubicBezTo>
                      <a:cubicBezTo>
                        <a:pt x="18926" y="10463"/>
                        <a:pt x="18792" y="10125"/>
                        <a:pt x="18592" y="9788"/>
                      </a:cubicBezTo>
                      <a:cubicBezTo>
                        <a:pt x="18257" y="9113"/>
                        <a:pt x="17522" y="7088"/>
                        <a:pt x="17522" y="7088"/>
                      </a:cubicBezTo>
                      <a:cubicBezTo>
                        <a:pt x="16585" y="7763"/>
                        <a:pt x="16050" y="10463"/>
                        <a:pt x="15181" y="12825"/>
                      </a:cubicBezTo>
                      <a:cubicBezTo>
                        <a:pt x="14646" y="13838"/>
                        <a:pt x="13910" y="14175"/>
                        <a:pt x="13375" y="14850"/>
                      </a:cubicBezTo>
                      <a:cubicBezTo>
                        <a:pt x="12841" y="18225"/>
                        <a:pt x="13309" y="17888"/>
                        <a:pt x="14111" y="19238"/>
                      </a:cubicBezTo>
                      <a:cubicBezTo>
                        <a:pt x="13309" y="20925"/>
                        <a:pt x="13242" y="19238"/>
                        <a:pt x="12506" y="21263"/>
                      </a:cubicBezTo>
                      <a:cubicBezTo>
                        <a:pt x="12038" y="20925"/>
                        <a:pt x="11570" y="21600"/>
                        <a:pt x="11236" y="20588"/>
                      </a:cubicBezTo>
                      <a:cubicBezTo>
                        <a:pt x="11035" y="19913"/>
                        <a:pt x="11637" y="19913"/>
                        <a:pt x="11771" y="19238"/>
                      </a:cubicBezTo>
                      <a:cubicBezTo>
                        <a:pt x="12038" y="16200"/>
                        <a:pt x="9898" y="9450"/>
                        <a:pt x="11369" y="13500"/>
                      </a:cubicBezTo>
                      <a:cubicBezTo>
                        <a:pt x="12239" y="18563"/>
                        <a:pt x="12239" y="12150"/>
                        <a:pt x="11236" y="10463"/>
                      </a:cubicBezTo>
                      <a:cubicBezTo>
                        <a:pt x="11102" y="9113"/>
                        <a:pt x="11102" y="7425"/>
                        <a:pt x="10500" y="7763"/>
                      </a:cubicBezTo>
                      <a:cubicBezTo>
                        <a:pt x="10166" y="7763"/>
                        <a:pt x="9430" y="9113"/>
                        <a:pt x="9430" y="9113"/>
                      </a:cubicBezTo>
                      <a:cubicBezTo>
                        <a:pt x="9029" y="13163"/>
                        <a:pt x="9497" y="10463"/>
                        <a:pt x="8895" y="9113"/>
                      </a:cubicBezTo>
                      <a:cubicBezTo>
                        <a:pt x="8627" y="8438"/>
                        <a:pt x="8360" y="8438"/>
                        <a:pt x="8159" y="8438"/>
                      </a:cubicBezTo>
                      <a:cubicBezTo>
                        <a:pt x="7758" y="3713"/>
                        <a:pt x="6621" y="2025"/>
                        <a:pt x="5484" y="675"/>
                      </a:cubicBezTo>
                      <a:cubicBezTo>
                        <a:pt x="4615" y="1350"/>
                        <a:pt x="4548" y="3038"/>
                        <a:pt x="3880" y="4725"/>
                      </a:cubicBezTo>
                      <a:cubicBezTo>
                        <a:pt x="2943" y="4725"/>
                        <a:pt x="-66" y="4050"/>
                        <a:pt x="1" y="0"/>
                      </a:cubicBezTo>
                      <a:lnTo>
                        <a:pt x="14646" y="338"/>
                      </a:lnTo>
                      <a:close/>
                      <a:moveTo>
                        <a:pt x="14646" y="3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7" name="Freeform 30"/>
                <p:cNvSpPr/>
                <p:nvPr/>
              </p:nvSpPr>
              <p:spPr>
                <a:xfrm>
                  <a:off x="4291560" y="174600"/>
                  <a:ext cx="276120" cy="31680"/>
                </a:xfrm>
                <a:custGeom>
                  <a:avLst/>
                  <a:gdLst/>
                  <a:ahLst/>
                  <a:rect l="l" t="t" r="r" b="b"/>
                  <a:pathLst>
                    <a:path w="19726" h="21600">
                      <a:moveTo>
                        <a:pt x="5865" y="21600"/>
                      </a:moveTo>
                      <a:cubicBezTo>
                        <a:pt x="4281" y="13239"/>
                        <a:pt x="-1695" y="4181"/>
                        <a:pt x="465" y="697"/>
                      </a:cubicBezTo>
                      <a:lnTo>
                        <a:pt x="18825" y="0"/>
                      </a:lnTo>
                      <a:cubicBezTo>
                        <a:pt x="19617" y="2787"/>
                        <a:pt x="19905" y="3484"/>
                        <a:pt x="19617" y="9755"/>
                      </a:cubicBezTo>
                      <a:cubicBezTo>
                        <a:pt x="18825" y="7665"/>
                        <a:pt x="18177" y="11148"/>
                        <a:pt x="17313" y="11148"/>
                      </a:cubicBezTo>
                      <a:lnTo>
                        <a:pt x="5865" y="21600"/>
                      </a:lnTo>
                      <a:close/>
                      <a:moveTo>
                        <a:pt x="5865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8" name="Freeform 31"/>
                <p:cNvSpPr/>
                <p:nvPr/>
              </p:nvSpPr>
              <p:spPr>
                <a:xfrm>
                  <a:off x="3603600" y="22536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2826000" y="174600"/>
                  <a:ext cx="691920" cy="24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17" y="142"/>
                      </a:moveTo>
                      <a:lnTo>
                        <a:pt x="21600" y="0"/>
                      </a:lnTo>
                      <a:cubicBezTo>
                        <a:pt x="21303" y="2132"/>
                        <a:pt x="21253" y="5968"/>
                        <a:pt x="20609" y="7674"/>
                      </a:cubicBezTo>
                      <a:cubicBezTo>
                        <a:pt x="20312" y="8526"/>
                        <a:pt x="20064" y="8953"/>
                        <a:pt x="19668" y="9663"/>
                      </a:cubicBezTo>
                      <a:cubicBezTo>
                        <a:pt x="19618" y="9805"/>
                        <a:pt x="19420" y="9947"/>
                        <a:pt x="19420" y="9947"/>
                      </a:cubicBezTo>
                      <a:cubicBezTo>
                        <a:pt x="18677" y="8953"/>
                        <a:pt x="19073" y="9663"/>
                        <a:pt x="18578" y="10374"/>
                      </a:cubicBezTo>
                      <a:cubicBezTo>
                        <a:pt x="18380" y="11653"/>
                        <a:pt x="18380" y="11795"/>
                        <a:pt x="17884" y="12505"/>
                      </a:cubicBezTo>
                      <a:cubicBezTo>
                        <a:pt x="17785" y="13074"/>
                        <a:pt x="18033" y="13216"/>
                        <a:pt x="17934" y="14068"/>
                      </a:cubicBezTo>
                      <a:cubicBezTo>
                        <a:pt x="17983" y="14495"/>
                        <a:pt x="18033" y="14921"/>
                        <a:pt x="18033" y="15205"/>
                      </a:cubicBezTo>
                      <a:cubicBezTo>
                        <a:pt x="18083" y="15489"/>
                        <a:pt x="18132" y="15774"/>
                        <a:pt x="18132" y="16058"/>
                      </a:cubicBezTo>
                      <a:cubicBezTo>
                        <a:pt x="18083" y="16342"/>
                        <a:pt x="18033" y="17053"/>
                        <a:pt x="17934" y="17337"/>
                      </a:cubicBezTo>
                      <a:cubicBezTo>
                        <a:pt x="17785" y="17479"/>
                        <a:pt x="17538" y="16911"/>
                        <a:pt x="17389" y="17053"/>
                      </a:cubicBezTo>
                      <a:cubicBezTo>
                        <a:pt x="17191" y="18332"/>
                        <a:pt x="17439" y="18047"/>
                        <a:pt x="16943" y="18332"/>
                      </a:cubicBezTo>
                      <a:cubicBezTo>
                        <a:pt x="16844" y="17479"/>
                        <a:pt x="17092" y="15774"/>
                        <a:pt x="17191" y="14921"/>
                      </a:cubicBezTo>
                      <a:cubicBezTo>
                        <a:pt x="17191" y="14211"/>
                        <a:pt x="16745" y="14495"/>
                        <a:pt x="16745" y="14211"/>
                      </a:cubicBezTo>
                      <a:cubicBezTo>
                        <a:pt x="16745" y="13926"/>
                        <a:pt x="17042" y="13500"/>
                        <a:pt x="17042" y="13216"/>
                      </a:cubicBezTo>
                      <a:cubicBezTo>
                        <a:pt x="17042" y="13074"/>
                        <a:pt x="17042" y="12647"/>
                        <a:pt x="16943" y="12647"/>
                      </a:cubicBezTo>
                      <a:cubicBezTo>
                        <a:pt x="16794" y="12647"/>
                        <a:pt x="16051" y="13358"/>
                        <a:pt x="15853" y="13358"/>
                      </a:cubicBezTo>
                      <a:cubicBezTo>
                        <a:pt x="15705" y="12221"/>
                        <a:pt x="16250" y="12505"/>
                        <a:pt x="15705" y="12079"/>
                      </a:cubicBezTo>
                      <a:cubicBezTo>
                        <a:pt x="15407" y="12932"/>
                        <a:pt x="15160" y="13216"/>
                        <a:pt x="14714" y="13358"/>
                      </a:cubicBezTo>
                      <a:cubicBezTo>
                        <a:pt x="14862" y="14779"/>
                        <a:pt x="15209" y="14353"/>
                        <a:pt x="15853" y="14637"/>
                      </a:cubicBezTo>
                      <a:cubicBezTo>
                        <a:pt x="15754" y="15489"/>
                        <a:pt x="15407" y="15774"/>
                        <a:pt x="15110" y="16626"/>
                      </a:cubicBezTo>
                      <a:lnTo>
                        <a:pt x="15407" y="17905"/>
                      </a:lnTo>
                      <a:lnTo>
                        <a:pt x="15606" y="19611"/>
                      </a:lnTo>
                      <a:lnTo>
                        <a:pt x="15308" y="19753"/>
                      </a:lnTo>
                      <a:lnTo>
                        <a:pt x="15556" y="20463"/>
                      </a:lnTo>
                      <a:lnTo>
                        <a:pt x="15209" y="21600"/>
                      </a:lnTo>
                      <a:lnTo>
                        <a:pt x="0" y="21174"/>
                      </a:lnTo>
                      <a:lnTo>
                        <a:pt x="3617" y="142"/>
                      </a:lnTo>
                      <a:close/>
                      <a:moveTo>
                        <a:pt x="3617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519720" y="16668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3500640" y="24300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3400560" y="2905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277344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287028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3292560" y="452520"/>
                  <a:ext cx="27000" cy="3636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1897200" y="282600"/>
                  <a:ext cx="684360" cy="56052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2163960" y="552600"/>
                  <a:ext cx="258840" cy="29196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2621160" y="7570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19846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2457720" y="204840"/>
                  <a:ext cx="4683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2138400" y="174600"/>
                  <a:ext cx="87480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2330640" y="23184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3" name="Freeform 46"/>
                <p:cNvSpPr/>
                <p:nvPr/>
              </p:nvSpPr>
              <p:spPr>
                <a:xfrm>
                  <a:off x="23068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4" name="Freeform 47"/>
                <p:cNvSpPr/>
                <p:nvPr/>
              </p:nvSpPr>
              <p:spPr>
                <a:xfrm>
                  <a:off x="2413080" y="318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2490840" y="3207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6" name="Freeform 49"/>
                <p:cNvSpPr/>
                <p:nvPr/>
              </p:nvSpPr>
              <p:spPr>
                <a:xfrm>
                  <a:off x="2260800" y="2556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217" name="Group 86"/>
              <p:cNvGrpSpPr/>
              <p:nvPr/>
            </p:nvGrpSpPr>
            <p:grpSpPr>
              <a:xfrm>
                <a:off x="6165000" y="165240"/>
                <a:ext cx="1764000" cy="681120"/>
                <a:chOff x="6165000" y="165240"/>
                <a:chExt cx="1764000" cy="681120"/>
              </a:xfrm>
            </p:grpSpPr>
            <p:sp>
              <p:nvSpPr>
                <p:cNvPr id="218" name="Freeform 51"/>
                <p:cNvSpPr/>
                <p:nvPr/>
              </p:nvSpPr>
              <p:spPr>
                <a:xfrm>
                  <a:off x="7908480" y="76212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7595640" y="79236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7546320" y="79056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7299000" y="652680"/>
                  <a:ext cx="237960" cy="14580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7443360" y="6429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754812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7543440" y="7178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7630560" y="6876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6" name="Freeform 59"/>
                <p:cNvSpPr/>
                <p:nvPr/>
              </p:nvSpPr>
              <p:spPr>
                <a:xfrm>
                  <a:off x="7637040" y="736920"/>
                  <a:ext cx="30240" cy="1080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7" name="Freeform 60"/>
                <p:cNvSpPr/>
                <p:nvPr/>
              </p:nvSpPr>
              <p:spPr>
                <a:xfrm>
                  <a:off x="7670160" y="7128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8" name="Freeform 61"/>
                <p:cNvSpPr/>
                <p:nvPr/>
              </p:nvSpPr>
              <p:spPr>
                <a:xfrm>
                  <a:off x="7679880" y="725760"/>
                  <a:ext cx="19368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9" name="Freeform 62"/>
                <p:cNvSpPr/>
                <p:nvPr/>
              </p:nvSpPr>
              <p:spPr>
                <a:xfrm>
                  <a:off x="7849800" y="73512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0" name="Freeform 63"/>
                <p:cNvSpPr/>
                <p:nvPr/>
              </p:nvSpPr>
              <p:spPr>
                <a:xfrm>
                  <a:off x="757512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1" name="Freeform 64"/>
                <p:cNvSpPr/>
                <p:nvPr/>
              </p:nvSpPr>
              <p:spPr>
                <a:xfrm>
                  <a:off x="7560720" y="52416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2" name="Freeform 65"/>
                <p:cNvSpPr/>
                <p:nvPr/>
              </p:nvSpPr>
              <p:spPr>
                <a:xfrm>
                  <a:off x="7576560" y="59076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3" name="Freeform 66"/>
                <p:cNvSpPr/>
                <p:nvPr/>
              </p:nvSpPr>
              <p:spPr>
                <a:xfrm>
                  <a:off x="7529040" y="5968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4" name="Freeform 67"/>
                <p:cNvSpPr/>
                <p:nvPr/>
              </p:nvSpPr>
              <p:spPr>
                <a:xfrm>
                  <a:off x="7870320" y="2257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5" name="Freeform 68"/>
                <p:cNvSpPr/>
                <p:nvPr/>
              </p:nvSpPr>
              <p:spPr>
                <a:xfrm>
                  <a:off x="7090920" y="174600"/>
                  <a:ext cx="695160" cy="24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00" y="142"/>
                      </a:moveTo>
                      <a:lnTo>
                        <a:pt x="21600" y="0"/>
                      </a:lnTo>
                      <a:cubicBezTo>
                        <a:pt x="21304" y="2132"/>
                        <a:pt x="21156" y="5968"/>
                        <a:pt x="20515" y="7674"/>
                      </a:cubicBezTo>
                      <a:cubicBezTo>
                        <a:pt x="20219" y="8526"/>
                        <a:pt x="19973" y="8953"/>
                        <a:pt x="19578" y="9663"/>
                      </a:cubicBezTo>
                      <a:cubicBezTo>
                        <a:pt x="19529" y="9805"/>
                        <a:pt x="19332" y="9947"/>
                        <a:pt x="19332" y="9947"/>
                      </a:cubicBezTo>
                      <a:cubicBezTo>
                        <a:pt x="18592" y="8953"/>
                        <a:pt x="18986" y="9663"/>
                        <a:pt x="18493" y="10374"/>
                      </a:cubicBezTo>
                      <a:cubicBezTo>
                        <a:pt x="18296" y="11653"/>
                        <a:pt x="18296" y="11795"/>
                        <a:pt x="17803" y="12505"/>
                      </a:cubicBezTo>
                      <a:cubicBezTo>
                        <a:pt x="17704" y="13074"/>
                        <a:pt x="17951" y="13216"/>
                        <a:pt x="17852" y="14068"/>
                      </a:cubicBezTo>
                      <a:cubicBezTo>
                        <a:pt x="17901" y="14495"/>
                        <a:pt x="17951" y="14921"/>
                        <a:pt x="17951" y="15205"/>
                      </a:cubicBezTo>
                      <a:cubicBezTo>
                        <a:pt x="18000" y="15489"/>
                        <a:pt x="18049" y="15774"/>
                        <a:pt x="18049" y="16058"/>
                      </a:cubicBezTo>
                      <a:cubicBezTo>
                        <a:pt x="18000" y="16342"/>
                        <a:pt x="17951" y="17053"/>
                        <a:pt x="17852" y="17337"/>
                      </a:cubicBezTo>
                      <a:cubicBezTo>
                        <a:pt x="17704" y="17479"/>
                        <a:pt x="17458" y="16911"/>
                        <a:pt x="17310" y="17053"/>
                      </a:cubicBezTo>
                      <a:cubicBezTo>
                        <a:pt x="17112" y="18332"/>
                        <a:pt x="17359" y="18047"/>
                        <a:pt x="16866" y="18332"/>
                      </a:cubicBezTo>
                      <a:cubicBezTo>
                        <a:pt x="16767" y="17479"/>
                        <a:pt x="17014" y="15774"/>
                        <a:pt x="17112" y="14921"/>
                      </a:cubicBezTo>
                      <a:cubicBezTo>
                        <a:pt x="17112" y="14211"/>
                        <a:pt x="16668" y="14495"/>
                        <a:pt x="16668" y="14211"/>
                      </a:cubicBezTo>
                      <a:cubicBezTo>
                        <a:pt x="16668" y="13926"/>
                        <a:pt x="16964" y="13500"/>
                        <a:pt x="16964" y="13216"/>
                      </a:cubicBezTo>
                      <a:cubicBezTo>
                        <a:pt x="16964" y="13074"/>
                        <a:pt x="16964" y="12647"/>
                        <a:pt x="16866" y="12647"/>
                      </a:cubicBezTo>
                      <a:cubicBezTo>
                        <a:pt x="16718" y="12647"/>
                        <a:pt x="15978" y="13358"/>
                        <a:pt x="15781" y="13358"/>
                      </a:cubicBezTo>
                      <a:cubicBezTo>
                        <a:pt x="15633" y="12221"/>
                        <a:pt x="16175" y="12505"/>
                        <a:pt x="15633" y="12079"/>
                      </a:cubicBezTo>
                      <a:cubicBezTo>
                        <a:pt x="15337" y="12932"/>
                        <a:pt x="15090" y="13216"/>
                        <a:pt x="14647" y="13358"/>
                      </a:cubicBezTo>
                      <a:cubicBezTo>
                        <a:pt x="14795" y="14779"/>
                        <a:pt x="15140" y="14353"/>
                        <a:pt x="15781" y="14637"/>
                      </a:cubicBezTo>
                      <a:cubicBezTo>
                        <a:pt x="15682" y="15489"/>
                        <a:pt x="15337" y="15774"/>
                        <a:pt x="15041" y="16626"/>
                      </a:cubicBezTo>
                      <a:lnTo>
                        <a:pt x="15337" y="17905"/>
                      </a:lnTo>
                      <a:lnTo>
                        <a:pt x="15534" y="19611"/>
                      </a:lnTo>
                      <a:lnTo>
                        <a:pt x="15238" y="19753"/>
                      </a:lnTo>
                      <a:lnTo>
                        <a:pt x="15485" y="20463"/>
                      </a:lnTo>
                      <a:lnTo>
                        <a:pt x="15140" y="21600"/>
                      </a:lnTo>
                      <a:lnTo>
                        <a:pt x="0" y="21174"/>
                      </a:lnTo>
                      <a:lnTo>
                        <a:pt x="3600" y="142"/>
                      </a:lnTo>
                      <a:close/>
                      <a:moveTo>
                        <a:pt x="3600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6" name="Freeform 69"/>
                <p:cNvSpPr/>
                <p:nvPr/>
              </p:nvSpPr>
              <p:spPr>
                <a:xfrm>
                  <a:off x="7787880" y="16524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7" name="Freeform 70"/>
                <p:cNvSpPr/>
                <p:nvPr/>
              </p:nvSpPr>
              <p:spPr>
                <a:xfrm>
                  <a:off x="7767000" y="243000"/>
                  <a:ext cx="9396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8" name="Freeform 71"/>
                <p:cNvSpPr/>
                <p:nvPr/>
              </p:nvSpPr>
              <p:spPr>
                <a:xfrm>
                  <a:off x="7667280" y="29052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9" name="Freeform 72"/>
                <p:cNvSpPr/>
                <p:nvPr/>
              </p:nvSpPr>
              <p:spPr>
                <a:xfrm>
                  <a:off x="703980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0" name="Freeform 73"/>
                <p:cNvSpPr/>
                <p:nvPr/>
              </p:nvSpPr>
              <p:spPr>
                <a:xfrm>
                  <a:off x="713844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1" name="Freeform 74"/>
                <p:cNvSpPr/>
                <p:nvPr/>
              </p:nvSpPr>
              <p:spPr>
                <a:xfrm>
                  <a:off x="7560720" y="4525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2" name="Freeform 75"/>
                <p:cNvSpPr/>
                <p:nvPr/>
              </p:nvSpPr>
              <p:spPr>
                <a:xfrm>
                  <a:off x="6165000" y="284400"/>
                  <a:ext cx="684360" cy="56016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3" name="Freeform 76"/>
                <p:cNvSpPr/>
                <p:nvPr/>
              </p:nvSpPr>
              <p:spPr>
                <a:xfrm>
                  <a:off x="6429960" y="554040"/>
                  <a:ext cx="25884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4" name="Freeform 77"/>
                <p:cNvSpPr/>
                <p:nvPr/>
              </p:nvSpPr>
              <p:spPr>
                <a:xfrm>
                  <a:off x="6888960" y="7574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5" name="Freeform 78"/>
                <p:cNvSpPr/>
                <p:nvPr/>
              </p:nvSpPr>
              <p:spPr>
                <a:xfrm>
                  <a:off x="62524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6" name="Freeform 79"/>
                <p:cNvSpPr/>
                <p:nvPr/>
              </p:nvSpPr>
              <p:spPr>
                <a:xfrm>
                  <a:off x="6725520" y="204840"/>
                  <a:ext cx="4665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7" name="Freeform 80"/>
                <p:cNvSpPr/>
                <p:nvPr/>
              </p:nvSpPr>
              <p:spPr>
                <a:xfrm>
                  <a:off x="6404760" y="174600"/>
                  <a:ext cx="87624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8" name="Freeform 81"/>
                <p:cNvSpPr/>
                <p:nvPr/>
              </p:nvSpPr>
              <p:spPr>
                <a:xfrm>
                  <a:off x="6598440" y="231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49" name="Freeform 82"/>
                <p:cNvSpPr/>
                <p:nvPr/>
              </p:nvSpPr>
              <p:spPr>
                <a:xfrm>
                  <a:off x="65746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50" name="Freeform 83"/>
                <p:cNvSpPr/>
                <p:nvPr/>
              </p:nvSpPr>
              <p:spPr>
                <a:xfrm>
                  <a:off x="6680880" y="3193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51" name="Freeform 84"/>
                <p:cNvSpPr/>
                <p:nvPr/>
              </p:nvSpPr>
              <p:spPr>
                <a:xfrm>
                  <a:off x="6757200" y="320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52" name="Freeform 85"/>
                <p:cNvSpPr/>
                <p:nvPr/>
              </p:nvSpPr>
              <p:spPr>
                <a:xfrm>
                  <a:off x="6528600" y="25560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253" name="Group 109"/>
            <p:cNvGrpSpPr/>
            <p:nvPr/>
          </p:nvGrpSpPr>
          <p:grpSpPr>
            <a:xfrm>
              <a:off x="1266840" y="176400"/>
              <a:ext cx="7464240" cy="663480"/>
              <a:chOff x="1266840" y="176400"/>
              <a:chExt cx="7464240" cy="663480"/>
            </a:xfrm>
          </p:grpSpPr>
          <p:sp>
            <p:nvSpPr>
              <p:cNvPr id="254" name="Line 88"/>
              <p:cNvSpPr/>
              <p:nvPr/>
            </p:nvSpPr>
            <p:spPr>
              <a:xfrm>
                <a:off x="1266840" y="527400"/>
                <a:ext cx="7464240" cy="14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5" name="Line 89"/>
              <p:cNvSpPr/>
              <p:nvPr/>
            </p:nvSpPr>
            <p:spPr>
              <a:xfrm>
                <a:off x="16282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6" name="Line 90"/>
              <p:cNvSpPr/>
              <p:nvPr/>
            </p:nvSpPr>
            <p:spPr>
              <a:xfrm>
                <a:off x="19904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7" name="Line 91"/>
              <p:cNvSpPr/>
              <p:nvPr/>
            </p:nvSpPr>
            <p:spPr>
              <a:xfrm>
                <a:off x="23522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8" name="Line 92"/>
              <p:cNvSpPr/>
              <p:nvPr/>
            </p:nvSpPr>
            <p:spPr>
              <a:xfrm>
                <a:off x="27144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59" name="Line 93"/>
              <p:cNvSpPr/>
              <p:nvPr/>
            </p:nvSpPr>
            <p:spPr>
              <a:xfrm>
                <a:off x="30762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0" name="Line 94"/>
              <p:cNvSpPr/>
              <p:nvPr/>
            </p:nvSpPr>
            <p:spPr>
              <a:xfrm>
                <a:off x="34383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1" name="Line 95"/>
              <p:cNvSpPr/>
              <p:nvPr/>
            </p:nvSpPr>
            <p:spPr>
              <a:xfrm>
                <a:off x="38001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2" name="Line 96"/>
              <p:cNvSpPr/>
              <p:nvPr/>
            </p:nvSpPr>
            <p:spPr>
              <a:xfrm>
                <a:off x="41619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3" name="Line 97"/>
              <p:cNvSpPr/>
              <p:nvPr/>
            </p:nvSpPr>
            <p:spPr>
              <a:xfrm>
                <a:off x="452412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4" name="Line 98"/>
              <p:cNvSpPr/>
              <p:nvPr/>
            </p:nvSpPr>
            <p:spPr>
              <a:xfrm>
                <a:off x="488592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5" name="Line 99"/>
              <p:cNvSpPr/>
              <p:nvPr/>
            </p:nvSpPr>
            <p:spPr>
              <a:xfrm>
                <a:off x="52480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6" name="Line 100"/>
              <p:cNvSpPr/>
              <p:nvPr/>
            </p:nvSpPr>
            <p:spPr>
              <a:xfrm>
                <a:off x="56098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7" name="Line 101"/>
              <p:cNvSpPr/>
              <p:nvPr/>
            </p:nvSpPr>
            <p:spPr>
              <a:xfrm>
                <a:off x="59716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8" name="Line 102"/>
              <p:cNvSpPr/>
              <p:nvPr/>
            </p:nvSpPr>
            <p:spPr>
              <a:xfrm>
                <a:off x="63338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69" name="Line 103"/>
              <p:cNvSpPr/>
              <p:nvPr/>
            </p:nvSpPr>
            <p:spPr>
              <a:xfrm>
                <a:off x="66956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0" name="Line 104"/>
              <p:cNvSpPr/>
              <p:nvPr/>
            </p:nvSpPr>
            <p:spPr>
              <a:xfrm>
                <a:off x="70578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1" name="Line 105"/>
              <p:cNvSpPr/>
              <p:nvPr/>
            </p:nvSpPr>
            <p:spPr>
              <a:xfrm>
                <a:off x="74196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2" name="Line 106"/>
              <p:cNvSpPr/>
              <p:nvPr/>
            </p:nvSpPr>
            <p:spPr>
              <a:xfrm>
                <a:off x="77817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3" name="Line 107"/>
              <p:cNvSpPr/>
              <p:nvPr/>
            </p:nvSpPr>
            <p:spPr>
              <a:xfrm>
                <a:off x="81435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4" name="Line 108"/>
              <p:cNvSpPr/>
              <p:nvPr/>
            </p:nvSpPr>
            <p:spPr>
              <a:xfrm>
                <a:off x="85053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275" name="Group 135"/>
            <p:cNvGrpSpPr/>
            <p:nvPr/>
          </p:nvGrpSpPr>
          <p:grpSpPr>
            <a:xfrm>
              <a:off x="1917720" y="172800"/>
              <a:ext cx="5865840" cy="671760"/>
              <a:chOff x="1917720" y="172800"/>
              <a:chExt cx="5865840" cy="671760"/>
            </a:xfrm>
          </p:grpSpPr>
          <p:sp>
            <p:nvSpPr>
              <p:cNvPr id="276" name="Line 110"/>
              <p:cNvSpPr/>
              <p:nvPr/>
            </p:nvSpPr>
            <p:spPr>
              <a:xfrm>
                <a:off x="4524480" y="174600"/>
                <a:ext cx="1440" cy="2257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7" name="Line 111"/>
              <p:cNvSpPr/>
              <p:nvPr/>
            </p:nvSpPr>
            <p:spPr>
              <a:xfrm>
                <a:off x="4718160" y="527040"/>
                <a:ext cx="1108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8" name="Line 112"/>
              <p:cNvSpPr/>
              <p:nvPr/>
            </p:nvSpPr>
            <p:spPr>
              <a:xfrm>
                <a:off x="4886280" y="555840"/>
                <a:ext cx="180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79" name="Line 113"/>
              <p:cNvSpPr/>
              <p:nvPr/>
            </p:nvSpPr>
            <p:spPr>
              <a:xfrm>
                <a:off x="5248440" y="714600"/>
                <a:ext cx="1440" cy="125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0" name="Line 114"/>
              <p:cNvSpPr/>
              <p:nvPr/>
            </p:nvSpPr>
            <p:spPr>
              <a:xfrm>
                <a:off x="6334200" y="352440"/>
                <a:ext cx="1440" cy="285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1" name="Line 115"/>
              <p:cNvSpPr/>
              <p:nvPr/>
            </p:nvSpPr>
            <p:spPr>
              <a:xfrm>
                <a:off x="618480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2" name="Line 116"/>
              <p:cNvSpPr/>
              <p:nvPr/>
            </p:nvSpPr>
            <p:spPr>
              <a:xfrm>
                <a:off x="6696000" y="374760"/>
                <a:ext cx="180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3" name="Line 117"/>
              <p:cNvSpPr/>
              <p:nvPr/>
            </p:nvSpPr>
            <p:spPr>
              <a:xfrm flipV="1">
                <a:off x="6699240" y="177480"/>
                <a:ext cx="1440" cy="79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4" name="Line 118"/>
              <p:cNvSpPr/>
              <p:nvPr/>
            </p:nvSpPr>
            <p:spPr>
              <a:xfrm flipV="1">
                <a:off x="7058160" y="174240"/>
                <a:ext cx="1440" cy="2890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5" name="Line 119"/>
              <p:cNvSpPr/>
              <p:nvPr/>
            </p:nvSpPr>
            <p:spPr>
              <a:xfrm flipH="1">
                <a:off x="7296120" y="527040"/>
                <a:ext cx="1238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6" name="Line 120"/>
              <p:cNvSpPr/>
              <p:nvPr/>
            </p:nvSpPr>
            <p:spPr>
              <a:xfrm flipH="1">
                <a:off x="7086240" y="527040"/>
                <a:ext cx="982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7" name="Line 121"/>
              <p:cNvSpPr/>
              <p:nvPr/>
            </p:nvSpPr>
            <p:spPr>
              <a:xfrm flipV="1">
                <a:off x="7419240" y="174240"/>
                <a:ext cx="1800" cy="4287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8" name="Line 122"/>
              <p:cNvSpPr/>
              <p:nvPr/>
            </p:nvSpPr>
            <p:spPr>
              <a:xfrm>
                <a:off x="7782120" y="746280"/>
                <a:ext cx="1440" cy="54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89" name="Line 123"/>
              <p:cNvSpPr/>
              <p:nvPr/>
            </p:nvSpPr>
            <p:spPr>
              <a:xfrm>
                <a:off x="3438720" y="181080"/>
                <a:ext cx="144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0" name="Line 124"/>
              <p:cNvSpPr/>
              <p:nvPr/>
            </p:nvSpPr>
            <p:spPr>
              <a:xfrm>
                <a:off x="3076560" y="176400"/>
                <a:ext cx="1800" cy="5349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1" name="Line 125"/>
              <p:cNvSpPr/>
              <p:nvPr/>
            </p:nvSpPr>
            <p:spPr>
              <a:xfrm flipH="1">
                <a:off x="3035160" y="527040"/>
                <a:ext cx="1080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2" name="Line 126"/>
              <p:cNvSpPr/>
              <p:nvPr/>
            </p:nvSpPr>
            <p:spPr>
              <a:xfrm>
                <a:off x="2822760" y="527040"/>
                <a:ext cx="950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3" name="Line 127"/>
              <p:cNvSpPr/>
              <p:nvPr/>
            </p:nvSpPr>
            <p:spPr>
              <a:xfrm flipH="1">
                <a:off x="2504880" y="527040"/>
                <a:ext cx="12996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4" name="Line 128"/>
              <p:cNvSpPr/>
              <p:nvPr/>
            </p:nvSpPr>
            <p:spPr>
              <a:xfrm>
                <a:off x="191772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5" name="Line 129"/>
              <p:cNvSpPr/>
              <p:nvPr/>
            </p:nvSpPr>
            <p:spPr>
              <a:xfrm>
                <a:off x="2349360" y="371520"/>
                <a:ext cx="1800" cy="473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6" name="Line 130"/>
              <p:cNvSpPr/>
              <p:nvPr/>
            </p:nvSpPr>
            <p:spPr>
              <a:xfrm>
                <a:off x="1990800" y="400320"/>
                <a:ext cx="1440" cy="247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7" name="Line 131"/>
              <p:cNvSpPr/>
              <p:nvPr/>
            </p:nvSpPr>
            <p:spPr>
              <a:xfrm flipH="1" flipV="1">
                <a:off x="2352240" y="172800"/>
                <a:ext cx="1800" cy="42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8" name="Line 132"/>
              <p:cNvSpPr/>
              <p:nvPr/>
            </p:nvSpPr>
            <p:spPr>
              <a:xfrm>
                <a:off x="2714760" y="285840"/>
                <a:ext cx="144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99" name="Line 133"/>
              <p:cNvSpPr/>
              <p:nvPr/>
            </p:nvSpPr>
            <p:spPr>
              <a:xfrm flipV="1">
                <a:off x="2714760" y="176040"/>
                <a:ext cx="1440" cy="3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00" name="Line 134"/>
              <p:cNvSpPr/>
              <p:nvPr/>
            </p:nvSpPr>
            <p:spPr>
              <a:xfrm>
                <a:off x="6777000" y="525600"/>
                <a:ext cx="127080" cy="14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6240" y="8701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	</a:t>
            </a: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imes New Roman Italic"/>
              </a:rPr>
              <a:t>Four Stages of Life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302" name="Rectangle 138"/>
          <p:cNvSpPr/>
          <p:nvPr/>
        </p:nvSpPr>
        <p:spPr>
          <a:xfrm>
            <a:off x="533520" y="2286000"/>
            <a:ext cx="7937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One:  Student st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Two:  Household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Three:  Forest-dweller --after the birth of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 grandchil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ge Four:  Sannyasin - wondering asc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03" name="Picture 139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614600" cy="14083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40" descr=""/>
          <p:cNvPicPr/>
          <p:nvPr/>
        </p:nvPicPr>
        <p:blipFill>
          <a:blip r:embed="rId3"/>
          <a:stretch/>
        </p:blipFill>
        <p:spPr>
          <a:xfrm>
            <a:off x="6019920" y="2971800"/>
            <a:ext cx="2241360" cy="144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1" descr=""/>
          <p:cNvPicPr/>
          <p:nvPr/>
        </p:nvPicPr>
        <p:blipFill>
          <a:blip r:embed="rId4"/>
          <a:stretch/>
        </p:blipFill>
        <p:spPr>
          <a:xfrm>
            <a:off x="3352680" y="4876920"/>
            <a:ext cx="1525680" cy="1168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2" descr=""/>
          <p:cNvPicPr/>
          <p:nvPr/>
        </p:nvPicPr>
        <p:blipFill>
          <a:blip r:embed="rId5"/>
          <a:stretch/>
        </p:blipFill>
        <p:spPr>
          <a:xfrm>
            <a:off x="6164280" y="5105520"/>
            <a:ext cx="135900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"/>
          <p:cNvPicPr/>
          <p:nvPr/>
        </p:nvPicPr>
        <p:blipFill>
          <a:blip r:embed="rId1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36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309" name="Freeform 2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400"/>
                  </a:move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  <a:cubicBezTo>
                    <a:pt x="717" y="17250"/>
                    <a:pt x="753" y="3050"/>
                    <a:pt x="0" y="0"/>
                  </a:cubicBezTo>
                  <a:cubicBezTo>
                    <a:pt x="10800" y="0"/>
                    <a:pt x="21600" y="0"/>
                    <a:pt x="21600" y="0"/>
                  </a:cubicBezTo>
                  <a:lnTo>
                    <a:pt x="21600" y="2400"/>
                  </a:lnTo>
                  <a:close/>
                  <a:moveTo>
                    <a:pt x="21600" y="2400"/>
                  </a:moveTo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310" name="Group 87"/>
            <p:cNvGrpSpPr/>
            <p:nvPr/>
          </p:nvGrpSpPr>
          <p:grpSpPr>
            <a:xfrm>
              <a:off x="1897200" y="165240"/>
              <a:ext cx="6031800" cy="681120"/>
              <a:chOff x="1897200" y="165240"/>
              <a:chExt cx="6031800" cy="681120"/>
            </a:xfrm>
          </p:grpSpPr>
          <p:grpSp>
            <p:nvGrpSpPr>
              <p:cNvPr id="311" name="Group 50"/>
              <p:cNvGrpSpPr/>
              <p:nvPr/>
            </p:nvGrpSpPr>
            <p:grpSpPr>
              <a:xfrm>
                <a:off x="1897200" y="166680"/>
                <a:ext cx="3505680" cy="677880"/>
                <a:chOff x="1897200" y="166680"/>
                <a:chExt cx="3505680" cy="677880"/>
              </a:xfrm>
            </p:grpSpPr>
            <p:sp>
              <p:nvSpPr>
                <p:cNvPr id="312" name="Freeform 3"/>
                <p:cNvSpPr/>
                <p:nvPr/>
              </p:nvSpPr>
              <p:spPr>
                <a:xfrm>
                  <a:off x="3641760" y="7621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3" name="Freeform 4"/>
                <p:cNvSpPr/>
                <p:nvPr/>
              </p:nvSpPr>
              <p:spPr>
                <a:xfrm>
                  <a:off x="3327480" y="79200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4" name="Freeform 5"/>
                <p:cNvSpPr/>
                <p:nvPr/>
              </p:nvSpPr>
              <p:spPr>
                <a:xfrm>
                  <a:off x="3279960" y="79056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5" name="Freeform 6"/>
                <p:cNvSpPr/>
                <p:nvPr/>
              </p:nvSpPr>
              <p:spPr>
                <a:xfrm>
                  <a:off x="3030840" y="652320"/>
                  <a:ext cx="237960" cy="14616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6" name="Freeform 7"/>
                <p:cNvSpPr/>
                <p:nvPr/>
              </p:nvSpPr>
              <p:spPr>
                <a:xfrm>
                  <a:off x="3176640" y="642960"/>
                  <a:ext cx="10332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7" name="Freeform 8"/>
                <p:cNvSpPr/>
                <p:nvPr/>
              </p:nvSpPr>
              <p:spPr>
                <a:xfrm>
                  <a:off x="327996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8" name="Freeform 9"/>
                <p:cNvSpPr/>
                <p:nvPr/>
              </p:nvSpPr>
              <p:spPr>
                <a:xfrm>
                  <a:off x="3276720" y="717480"/>
                  <a:ext cx="4464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19" name="Freeform 10"/>
                <p:cNvSpPr/>
                <p:nvPr/>
              </p:nvSpPr>
              <p:spPr>
                <a:xfrm>
                  <a:off x="3362400" y="68724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0" name="Freeform 11"/>
                <p:cNvSpPr/>
                <p:nvPr/>
              </p:nvSpPr>
              <p:spPr>
                <a:xfrm>
                  <a:off x="3368880" y="736560"/>
                  <a:ext cx="31680" cy="1116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1" name="Freeform 12"/>
                <p:cNvSpPr/>
                <p:nvPr/>
              </p:nvSpPr>
              <p:spPr>
                <a:xfrm>
                  <a:off x="3402000" y="7128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2" name="Freeform 13"/>
                <p:cNvSpPr/>
                <p:nvPr/>
              </p:nvSpPr>
              <p:spPr>
                <a:xfrm>
                  <a:off x="3413160" y="725400"/>
                  <a:ext cx="19224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3" name="Freeform 14"/>
                <p:cNvSpPr/>
                <p:nvPr/>
              </p:nvSpPr>
              <p:spPr>
                <a:xfrm>
                  <a:off x="3581640" y="73512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4" name="Freeform 15"/>
                <p:cNvSpPr/>
                <p:nvPr/>
              </p:nvSpPr>
              <p:spPr>
                <a:xfrm>
                  <a:off x="3762720" y="71136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3051" h="21600">
                      <a:moveTo>
                        <a:pt x="1490" y="13745"/>
                      </a:moveTo>
                      <a:cubicBezTo>
                        <a:pt x="-1002" y="5891"/>
                        <a:pt x="-1002" y="2945"/>
                        <a:pt x="6475" y="0"/>
                      </a:cubicBezTo>
                      <a:cubicBezTo>
                        <a:pt x="16444" y="3927"/>
                        <a:pt x="13952" y="15709"/>
                        <a:pt x="6475" y="21600"/>
                      </a:cubicBezTo>
                      <a:cubicBezTo>
                        <a:pt x="-5156" y="16691"/>
                        <a:pt x="5644" y="2945"/>
                        <a:pt x="1490" y="13745"/>
                      </a:cubicBezTo>
                      <a:close/>
                      <a:moveTo>
                        <a:pt x="1490" y="137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5" name="Freeform 16"/>
                <p:cNvSpPr/>
                <p:nvPr/>
              </p:nvSpPr>
              <p:spPr>
                <a:xfrm>
                  <a:off x="330840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6" name="Freeform 17"/>
                <p:cNvSpPr/>
                <p:nvPr/>
              </p:nvSpPr>
              <p:spPr>
                <a:xfrm>
                  <a:off x="3292560" y="523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7" name="Freeform 18"/>
                <p:cNvSpPr/>
                <p:nvPr/>
              </p:nvSpPr>
              <p:spPr>
                <a:xfrm>
                  <a:off x="3308400" y="59040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8" name="Freeform 19"/>
                <p:cNvSpPr/>
                <p:nvPr/>
              </p:nvSpPr>
              <p:spPr>
                <a:xfrm>
                  <a:off x="3262320" y="596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29" name="Freeform 20"/>
                <p:cNvSpPr/>
                <p:nvPr/>
              </p:nvSpPr>
              <p:spPr>
                <a:xfrm>
                  <a:off x="4928040" y="56052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963" y="21523"/>
                      </a:moveTo>
                      <a:cubicBezTo>
                        <a:pt x="1468" y="21600"/>
                        <a:pt x="1146" y="19448"/>
                        <a:pt x="1101" y="19217"/>
                      </a:cubicBezTo>
                      <a:cubicBezTo>
                        <a:pt x="1055" y="19063"/>
                        <a:pt x="1009" y="18833"/>
                        <a:pt x="1009" y="18833"/>
                      </a:cubicBezTo>
                      <a:cubicBezTo>
                        <a:pt x="963" y="18679"/>
                        <a:pt x="917" y="16988"/>
                        <a:pt x="734" y="16757"/>
                      </a:cubicBezTo>
                      <a:cubicBezTo>
                        <a:pt x="596" y="16604"/>
                        <a:pt x="183" y="16527"/>
                        <a:pt x="183" y="16527"/>
                      </a:cubicBezTo>
                      <a:cubicBezTo>
                        <a:pt x="0" y="15912"/>
                        <a:pt x="138" y="15374"/>
                        <a:pt x="0" y="14682"/>
                      </a:cubicBezTo>
                      <a:cubicBezTo>
                        <a:pt x="92" y="14221"/>
                        <a:pt x="321" y="14298"/>
                        <a:pt x="550" y="13836"/>
                      </a:cubicBezTo>
                      <a:cubicBezTo>
                        <a:pt x="642" y="13221"/>
                        <a:pt x="642" y="12991"/>
                        <a:pt x="275" y="12683"/>
                      </a:cubicBezTo>
                      <a:cubicBezTo>
                        <a:pt x="183" y="12530"/>
                        <a:pt x="92" y="12453"/>
                        <a:pt x="92" y="12299"/>
                      </a:cubicBezTo>
                      <a:cubicBezTo>
                        <a:pt x="92" y="11530"/>
                        <a:pt x="734" y="9455"/>
                        <a:pt x="1284" y="9224"/>
                      </a:cubicBezTo>
                      <a:cubicBezTo>
                        <a:pt x="1468" y="8532"/>
                        <a:pt x="1834" y="8071"/>
                        <a:pt x="2018" y="7379"/>
                      </a:cubicBezTo>
                      <a:cubicBezTo>
                        <a:pt x="1789" y="6380"/>
                        <a:pt x="1743" y="6534"/>
                        <a:pt x="1926" y="5381"/>
                      </a:cubicBezTo>
                      <a:cubicBezTo>
                        <a:pt x="1743" y="4612"/>
                        <a:pt x="1559" y="3690"/>
                        <a:pt x="1101" y="3305"/>
                      </a:cubicBezTo>
                      <a:cubicBezTo>
                        <a:pt x="825" y="2767"/>
                        <a:pt x="459" y="2844"/>
                        <a:pt x="917" y="2460"/>
                      </a:cubicBezTo>
                      <a:cubicBezTo>
                        <a:pt x="1238" y="2614"/>
                        <a:pt x="1192" y="2460"/>
                        <a:pt x="1192" y="2767"/>
                      </a:cubicBezTo>
                      <a:cubicBezTo>
                        <a:pt x="1559" y="3152"/>
                        <a:pt x="1789" y="2998"/>
                        <a:pt x="2201" y="2690"/>
                      </a:cubicBezTo>
                      <a:cubicBezTo>
                        <a:pt x="2064" y="1691"/>
                        <a:pt x="2201" y="1076"/>
                        <a:pt x="2935" y="846"/>
                      </a:cubicBezTo>
                      <a:cubicBezTo>
                        <a:pt x="3256" y="615"/>
                        <a:pt x="3439" y="231"/>
                        <a:pt x="3761" y="0"/>
                      </a:cubicBezTo>
                      <a:cubicBezTo>
                        <a:pt x="3852" y="77"/>
                        <a:pt x="4036" y="0"/>
                        <a:pt x="4036" y="154"/>
                      </a:cubicBezTo>
                      <a:cubicBezTo>
                        <a:pt x="4127" y="922"/>
                        <a:pt x="3439" y="999"/>
                        <a:pt x="4219" y="692"/>
                      </a:cubicBezTo>
                      <a:cubicBezTo>
                        <a:pt x="4311" y="615"/>
                        <a:pt x="4403" y="384"/>
                        <a:pt x="4494" y="384"/>
                      </a:cubicBezTo>
                      <a:cubicBezTo>
                        <a:pt x="4678" y="307"/>
                        <a:pt x="4861" y="538"/>
                        <a:pt x="5045" y="615"/>
                      </a:cubicBezTo>
                      <a:cubicBezTo>
                        <a:pt x="5136" y="615"/>
                        <a:pt x="5320" y="692"/>
                        <a:pt x="5320" y="692"/>
                      </a:cubicBezTo>
                      <a:cubicBezTo>
                        <a:pt x="5595" y="1230"/>
                        <a:pt x="5916" y="999"/>
                        <a:pt x="6466" y="1076"/>
                      </a:cubicBezTo>
                      <a:cubicBezTo>
                        <a:pt x="6558" y="1614"/>
                        <a:pt x="6741" y="1691"/>
                        <a:pt x="7108" y="1845"/>
                      </a:cubicBezTo>
                      <a:cubicBezTo>
                        <a:pt x="7292" y="1691"/>
                        <a:pt x="7475" y="1537"/>
                        <a:pt x="7659" y="1307"/>
                      </a:cubicBezTo>
                      <a:cubicBezTo>
                        <a:pt x="7750" y="1230"/>
                        <a:pt x="7934" y="1076"/>
                        <a:pt x="7934" y="1076"/>
                      </a:cubicBezTo>
                      <a:cubicBezTo>
                        <a:pt x="8943" y="1999"/>
                        <a:pt x="8025" y="1537"/>
                        <a:pt x="8943" y="1076"/>
                      </a:cubicBezTo>
                      <a:cubicBezTo>
                        <a:pt x="9493" y="1307"/>
                        <a:pt x="9218" y="1999"/>
                        <a:pt x="9676" y="2460"/>
                      </a:cubicBezTo>
                      <a:cubicBezTo>
                        <a:pt x="9814" y="2921"/>
                        <a:pt x="10273" y="4228"/>
                        <a:pt x="10594" y="4535"/>
                      </a:cubicBezTo>
                      <a:cubicBezTo>
                        <a:pt x="11052" y="5381"/>
                        <a:pt x="10777" y="5150"/>
                        <a:pt x="11236" y="5381"/>
                      </a:cubicBezTo>
                      <a:cubicBezTo>
                        <a:pt x="11419" y="5304"/>
                        <a:pt x="11603" y="5304"/>
                        <a:pt x="11786" y="5227"/>
                      </a:cubicBezTo>
                      <a:cubicBezTo>
                        <a:pt x="11969" y="5150"/>
                        <a:pt x="12382" y="4996"/>
                        <a:pt x="12382" y="4996"/>
                      </a:cubicBezTo>
                      <a:cubicBezTo>
                        <a:pt x="12749" y="5073"/>
                        <a:pt x="12978" y="5150"/>
                        <a:pt x="13299" y="5458"/>
                      </a:cubicBezTo>
                      <a:cubicBezTo>
                        <a:pt x="13941" y="6764"/>
                        <a:pt x="12932" y="4766"/>
                        <a:pt x="13758" y="6226"/>
                      </a:cubicBezTo>
                      <a:cubicBezTo>
                        <a:pt x="13850" y="6457"/>
                        <a:pt x="14125" y="6918"/>
                        <a:pt x="14125" y="6918"/>
                      </a:cubicBezTo>
                      <a:cubicBezTo>
                        <a:pt x="14262" y="7533"/>
                        <a:pt x="14446" y="7917"/>
                        <a:pt x="14583" y="8532"/>
                      </a:cubicBezTo>
                      <a:cubicBezTo>
                        <a:pt x="14629" y="8763"/>
                        <a:pt x="14721" y="8994"/>
                        <a:pt x="14767" y="9224"/>
                      </a:cubicBezTo>
                      <a:cubicBezTo>
                        <a:pt x="14813" y="9378"/>
                        <a:pt x="14859" y="9609"/>
                        <a:pt x="14859" y="9609"/>
                      </a:cubicBezTo>
                      <a:cubicBezTo>
                        <a:pt x="14721" y="10147"/>
                        <a:pt x="14354" y="10300"/>
                        <a:pt x="14217" y="10915"/>
                      </a:cubicBezTo>
                      <a:cubicBezTo>
                        <a:pt x="14354" y="11607"/>
                        <a:pt x="14538" y="11223"/>
                        <a:pt x="14767" y="10838"/>
                      </a:cubicBezTo>
                      <a:cubicBezTo>
                        <a:pt x="15638" y="10992"/>
                        <a:pt x="15546" y="10915"/>
                        <a:pt x="15684" y="11915"/>
                      </a:cubicBezTo>
                      <a:cubicBezTo>
                        <a:pt x="16097" y="11530"/>
                        <a:pt x="16280" y="11684"/>
                        <a:pt x="16693" y="12068"/>
                      </a:cubicBezTo>
                      <a:cubicBezTo>
                        <a:pt x="16922" y="12453"/>
                        <a:pt x="17060" y="12760"/>
                        <a:pt x="17427" y="12914"/>
                      </a:cubicBezTo>
                      <a:cubicBezTo>
                        <a:pt x="17473" y="12991"/>
                        <a:pt x="17564" y="13144"/>
                        <a:pt x="17518" y="13221"/>
                      </a:cubicBezTo>
                      <a:cubicBezTo>
                        <a:pt x="17427" y="13529"/>
                        <a:pt x="16876" y="13221"/>
                        <a:pt x="17518" y="13529"/>
                      </a:cubicBezTo>
                      <a:cubicBezTo>
                        <a:pt x="17702" y="13452"/>
                        <a:pt x="17885" y="13298"/>
                        <a:pt x="18069" y="13221"/>
                      </a:cubicBezTo>
                      <a:cubicBezTo>
                        <a:pt x="18161" y="13221"/>
                        <a:pt x="18344" y="13144"/>
                        <a:pt x="18344" y="13144"/>
                      </a:cubicBezTo>
                      <a:cubicBezTo>
                        <a:pt x="18940" y="13606"/>
                        <a:pt x="19582" y="13759"/>
                        <a:pt x="20132" y="14221"/>
                      </a:cubicBezTo>
                      <a:cubicBezTo>
                        <a:pt x="20224" y="14605"/>
                        <a:pt x="20408" y="14912"/>
                        <a:pt x="20499" y="15297"/>
                      </a:cubicBezTo>
                      <a:cubicBezTo>
                        <a:pt x="20775" y="15220"/>
                        <a:pt x="21096" y="14989"/>
                        <a:pt x="21325" y="15451"/>
                      </a:cubicBezTo>
                      <a:cubicBezTo>
                        <a:pt x="21462" y="15758"/>
                        <a:pt x="21600" y="16527"/>
                        <a:pt x="21600" y="16527"/>
                      </a:cubicBezTo>
                      <a:cubicBezTo>
                        <a:pt x="21462" y="17757"/>
                        <a:pt x="21508" y="19063"/>
                        <a:pt x="20683" y="19832"/>
                      </a:cubicBezTo>
                      <a:cubicBezTo>
                        <a:pt x="20499" y="20140"/>
                        <a:pt x="20041" y="21139"/>
                        <a:pt x="19949" y="21600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0" name="Freeform 21"/>
                <p:cNvSpPr/>
                <p:nvPr/>
              </p:nvSpPr>
              <p:spPr>
                <a:xfrm>
                  <a:off x="4304160" y="168120"/>
                  <a:ext cx="647640" cy="446400"/>
                </a:xfrm>
                <a:custGeom>
                  <a:avLst/>
                  <a:gdLst/>
                  <a:ahLst/>
                  <a:rect l="l" t="t" r="r" b="b"/>
                  <a:pathLst>
                    <a:path w="21006" h="21465">
                      <a:moveTo>
                        <a:pt x="1623" y="922"/>
                      </a:moveTo>
                      <a:lnTo>
                        <a:pt x="8735" y="103"/>
                      </a:lnTo>
                      <a:cubicBezTo>
                        <a:pt x="10733" y="512"/>
                        <a:pt x="10030" y="-51"/>
                        <a:pt x="10228" y="1331"/>
                      </a:cubicBezTo>
                      <a:cubicBezTo>
                        <a:pt x="10623" y="1177"/>
                        <a:pt x="10447" y="973"/>
                        <a:pt x="10843" y="819"/>
                      </a:cubicBezTo>
                      <a:cubicBezTo>
                        <a:pt x="11018" y="896"/>
                        <a:pt x="11172" y="1126"/>
                        <a:pt x="11369" y="1126"/>
                      </a:cubicBezTo>
                      <a:cubicBezTo>
                        <a:pt x="11545" y="1126"/>
                        <a:pt x="11896" y="922"/>
                        <a:pt x="11896" y="922"/>
                      </a:cubicBezTo>
                      <a:cubicBezTo>
                        <a:pt x="12028" y="1357"/>
                        <a:pt x="11940" y="1485"/>
                        <a:pt x="11721" y="1843"/>
                      </a:cubicBezTo>
                      <a:cubicBezTo>
                        <a:pt x="12006" y="2867"/>
                        <a:pt x="11896" y="2559"/>
                        <a:pt x="12511" y="3276"/>
                      </a:cubicBezTo>
                      <a:cubicBezTo>
                        <a:pt x="12643" y="3737"/>
                        <a:pt x="12774" y="3737"/>
                        <a:pt x="13125" y="3481"/>
                      </a:cubicBezTo>
                      <a:cubicBezTo>
                        <a:pt x="12994" y="2994"/>
                        <a:pt x="12862" y="2687"/>
                        <a:pt x="12686" y="2252"/>
                      </a:cubicBezTo>
                      <a:cubicBezTo>
                        <a:pt x="12621" y="2048"/>
                        <a:pt x="12511" y="1638"/>
                        <a:pt x="12511" y="1638"/>
                      </a:cubicBezTo>
                      <a:cubicBezTo>
                        <a:pt x="12664" y="1075"/>
                        <a:pt x="12928" y="1382"/>
                        <a:pt x="13125" y="1740"/>
                      </a:cubicBezTo>
                      <a:cubicBezTo>
                        <a:pt x="13191" y="2150"/>
                        <a:pt x="13169" y="2943"/>
                        <a:pt x="13564" y="2252"/>
                      </a:cubicBezTo>
                      <a:cubicBezTo>
                        <a:pt x="14047" y="2431"/>
                        <a:pt x="14003" y="2611"/>
                        <a:pt x="13916" y="3174"/>
                      </a:cubicBezTo>
                      <a:cubicBezTo>
                        <a:pt x="14091" y="3788"/>
                        <a:pt x="14421" y="3558"/>
                        <a:pt x="14794" y="3276"/>
                      </a:cubicBezTo>
                      <a:cubicBezTo>
                        <a:pt x="14947" y="2713"/>
                        <a:pt x="14596" y="3122"/>
                        <a:pt x="14794" y="2457"/>
                      </a:cubicBezTo>
                      <a:cubicBezTo>
                        <a:pt x="14816" y="2355"/>
                        <a:pt x="14969" y="2406"/>
                        <a:pt x="15057" y="2355"/>
                      </a:cubicBezTo>
                      <a:cubicBezTo>
                        <a:pt x="15145" y="2304"/>
                        <a:pt x="15233" y="2227"/>
                        <a:pt x="15321" y="2150"/>
                      </a:cubicBezTo>
                      <a:cubicBezTo>
                        <a:pt x="15562" y="1331"/>
                        <a:pt x="14925" y="1331"/>
                        <a:pt x="16111" y="1126"/>
                      </a:cubicBezTo>
                      <a:cubicBezTo>
                        <a:pt x="16243" y="640"/>
                        <a:pt x="16089" y="179"/>
                        <a:pt x="16550" y="0"/>
                      </a:cubicBezTo>
                      <a:cubicBezTo>
                        <a:pt x="17121" y="231"/>
                        <a:pt x="16879" y="922"/>
                        <a:pt x="17428" y="1126"/>
                      </a:cubicBezTo>
                      <a:cubicBezTo>
                        <a:pt x="18064" y="870"/>
                        <a:pt x="17494" y="1561"/>
                        <a:pt x="17340" y="1740"/>
                      </a:cubicBezTo>
                      <a:cubicBezTo>
                        <a:pt x="17143" y="2406"/>
                        <a:pt x="17099" y="2406"/>
                        <a:pt x="17428" y="2969"/>
                      </a:cubicBezTo>
                      <a:cubicBezTo>
                        <a:pt x="17406" y="3071"/>
                        <a:pt x="17406" y="3199"/>
                        <a:pt x="17340" y="3276"/>
                      </a:cubicBezTo>
                      <a:cubicBezTo>
                        <a:pt x="17252" y="3353"/>
                        <a:pt x="17033" y="3250"/>
                        <a:pt x="16989" y="3378"/>
                      </a:cubicBezTo>
                      <a:cubicBezTo>
                        <a:pt x="16945" y="3583"/>
                        <a:pt x="17164" y="3993"/>
                        <a:pt x="17164" y="3993"/>
                      </a:cubicBezTo>
                      <a:cubicBezTo>
                        <a:pt x="17077" y="4069"/>
                        <a:pt x="17011" y="4172"/>
                        <a:pt x="16901" y="4197"/>
                      </a:cubicBezTo>
                      <a:cubicBezTo>
                        <a:pt x="16813" y="4223"/>
                        <a:pt x="16703" y="4018"/>
                        <a:pt x="16638" y="4095"/>
                      </a:cubicBezTo>
                      <a:cubicBezTo>
                        <a:pt x="16462" y="4300"/>
                        <a:pt x="17252" y="4607"/>
                        <a:pt x="17252" y="4607"/>
                      </a:cubicBezTo>
                      <a:cubicBezTo>
                        <a:pt x="17472" y="5349"/>
                        <a:pt x="16835" y="4812"/>
                        <a:pt x="16550" y="4709"/>
                      </a:cubicBezTo>
                      <a:cubicBezTo>
                        <a:pt x="16660" y="4914"/>
                        <a:pt x="16791" y="5119"/>
                        <a:pt x="16901" y="5323"/>
                      </a:cubicBezTo>
                      <a:cubicBezTo>
                        <a:pt x="17011" y="5528"/>
                        <a:pt x="17428" y="5733"/>
                        <a:pt x="17428" y="5733"/>
                      </a:cubicBezTo>
                      <a:cubicBezTo>
                        <a:pt x="17669" y="6142"/>
                        <a:pt x="17472" y="6219"/>
                        <a:pt x="17603" y="6654"/>
                      </a:cubicBezTo>
                      <a:cubicBezTo>
                        <a:pt x="17450" y="7166"/>
                        <a:pt x="17230" y="7652"/>
                        <a:pt x="17077" y="8190"/>
                      </a:cubicBezTo>
                      <a:cubicBezTo>
                        <a:pt x="17011" y="8394"/>
                        <a:pt x="16901" y="8804"/>
                        <a:pt x="16901" y="8804"/>
                      </a:cubicBezTo>
                      <a:cubicBezTo>
                        <a:pt x="17055" y="9316"/>
                        <a:pt x="17757" y="10032"/>
                        <a:pt x="18043" y="10544"/>
                      </a:cubicBezTo>
                      <a:cubicBezTo>
                        <a:pt x="18152" y="10749"/>
                        <a:pt x="18284" y="10954"/>
                        <a:pt x="18394" y="11158"/>
                      </a:cubicBezTo>
                      <a:cubicBezTo>
                        <a:pt x="18460" y="11261"/>
                        <a:pt x="18569" y="11466"/>
                        <a:pt x="18569" y="11466"/>
                      </a:cubicBezTo>
                      <a:cubicBezTo>
                        <a:pt x="18547" y="11645"/>
                        <a:pt x="18591" y="11875"/>
                        <a:pt x="18482" y="11977"/>
                      </a:cubicBezTo>
                      <a:cubicBezTo>
                        <a:pt x="18350" y="12105"/>
                        <a:pt x="18064" y="11491"/>
                        <a:pt x="18043" y="11466"/>
                      </a:cubicBezTo>
                      <a:cubicBezTo>
                        <a:pt x="17625" y="10979"/>
                        <a:pt x="17143" y="10723"/>
                        <a:pt x="16813" y="10135"/>
                      </a:cubicBezTo>
                      <a:cubicBezTo>
                        <a:pt x="16703" y="9649"/>
                        <a:pt x="16638" y="9444"/>
                        <a:pt x="16199" y="9623"/>
                      </a:cubicBezTo>
                      <a:cubicBezTo>
                        <a:pt x="15562" y="9367"/>
                        <a:pt x="15847" y="9367"/>
                        <a:pt x="15321" y="9521"/>
                      </a:cubicBezTo>
                      <a:cubicBezTo>
                        <a:pt x="14925" y="10237"/>
                        <a:pt x="15167" y="10058"/>
                        <a:pt x="14706" y="10237"/>
                      </a:cubicBezTo>
                      <a:cubicBezTo>
                        <a:pt x="14179" y="9828"/>
                        <a:pt x="14091" y="9930"/>
                        <a:pt x="13389" y="10032"/>
                      </a:cubicBezTo>
                      <a:cubicBezTo>
                        <a:pt x="13147" y="10467"/>
                        <a:pt x="13016" y="10851"/>
                        <a:pt x="12774" y="11261"/>
                      </a:cubicBezTo>
                      <a:cubicBezTo>
                        <a:pt x="12994" y="12003"/>
                        <a:pt x="12840" y="11696"/>
                        <a:pt x="13125" y="12182"/>
                      </a:cubicBezTo>
                      <a:cubicBezTo>
                        <a:pt x="12840" y="13206"/>
                        <a:pt x="13477" y="13974"/>
                        <a:pt x="13916" y="14741"/>
                      </a:cubicBezTo>
                      <a:cubicBezTo>
                        <a:pt x="14113" y="15074"/>
                        <a:pt x="14113" y="15330"/>
                        <a:pt x="14443" y="15458"/>
                      </a:cubicBezTo>
                      <a:cubicBezTo>
                        <a:pt x="14750" y="15995"/>
                        <a:pt x="14991" y="15893"/>
                        <a:pt x="15408" y="15560"/>
                      </a:cubicBezTo>
                      <a:cubicBezTo>
                        <a:pt x="15825" y="15714"/>
                        <a:pt x="15825" y="15458"/>
                        <a:pt x="15935" y="15049"/>
                      </a:cubicBezTo>
                      <a:cubicBezTo>
                        <a:pt x="15957" y="14716"/>
                        <a:pt x="15869" y="14332"/>
                        <a:pt x="16023" y="14025"/>
                      </a:cubicBezTo>
                      <a:cubicBezTo>
                        <a:pt x="16111" y="13846"/>
                        <a:pt x="16550" y="13820"/>
                        <a:pt x="16550" y="13820"/>
                      </a:cubicBezTo>
                      <a:cubicBezTo>
                        <a:pt x="17011" y="13948"/>
                        <a:pt x="17077" y="14076"/>
                        <a:pt x="16813" y="14537"/>
                      </a:cubicBezTo>
                      <a:cubicBezTo>
                        <a:pt x="16923" y="15049"/>
                        <a:pt x="17164" y="15432"/>
                        <a:pt x="16725" y="15765"/>
                      </a:cubicBezTo>
                      <a:cubicBezTo>
                        <a:pt x="16703" y="15867"/>
                        <a:pt x="16594" y="15970"/>
                        <a:pt x="16638" y="16072"/>
                      </a:cubicBezTo>
                      <a:cubicBezTo>
                        <a:pt x="16682" y="16175"/>
                        <a:pt x="16835" y="16175"/>
                        <a:pt x="16901" y="16277"/>
                      </a:cubicBezTo>
                      <a:cubicBezTo>
                        <a:pt x="17121" y="16610"/>
                        <a:pt x="17077" y="16840"/>
                        <a:pt x="17428" y="17096"/>
                      </a:cubicBezTo>
                      <a:cubicBezTo>
                        <a:pt x="17603" y="17019"/>
                        <a:pt x="17779" y="16968"/>
                        <a:pt x="17955" y="16891"/>
                      </a:cubicBezTo>
                      <a:cubicBezTo>
                        <a:pt x="18043" y="16866"/>
                        <a:pt x="18218" y="16789"/>
                        <a:pt x="18218" y="16789"/>
                      </a:cubicBezTo>
                      <a:cubicBezTo>
                        <a:pt x="18635" y="16942"/>
                        <a:pt x="18789" y="17352"/>
                        <a:pt x="18921" y="17813"/>
                      </a:cubicBezTo>
                      <a:cubicBezTo>
                        <a:pt x="18679" y="18657"/>
                        <a:pt x="19294" y="20269"/>
                        <a:pt x="20062" y="20576"/>
                      </a:cubicBezTo>
                      <a:cubicBezTo>
                        <a:pt x="20413" y="20449"/>
                        <a:pt x="20479" y="20218"/>
                        <a:pt x="20852" y="20372"/>
                      </a:cubicBezTo>
                      <a:cubicBezTo>
                        <a:pt x="21423" y="21370"/>
                        <a:pt x="20194" y="20013"/>
                        <a:pt x="20501" y="21088"/>
                      </a:cubicBezTo>
                      <a:cubicBezTo>
                        <a:pt x="20369" y="21549"/>
                        <a:pt x="20238" y="21549"/>
                        <a:pt x="19886" y="21293"/>
                      </a:cubicBezTo>
                      <a:cubicBezTo>
                        <a:pt x="19645" y="20858"/>
                        <a:pt x="19360" y="20960"/>
                        <a:pt x="19008" y="20679"/>
                      </a:cubicBezTo>
                      <a:cubicBezTo>
                        <a:pt x="18503" y="19809"/>
                        <a:pt x="19184" y="20832"/>
                        <a:pt x="18569" y="20269"/>
                      </a:cubicBezTo>
                      <a:cubicBezTo>
                        <a:pt x="18328" y="20039"/>
                        <a:pt x="18262" y="19604"/>
                        <a:pt x="18043" y="19348"/>
                      </a:cubicBezTo>
                      <a:cubicBezTo>
                        <a:pt x="17911" y="18862"/>
                        <a:pt x="17757" y="18478"/>
                        <a:pt x="17340" y="18324"/>
                      </a:cubicBezTo>
                      <a:cubicBezTo>
                        <a:pt x="17186" y="17761"/>
                        <a:pt x="17384" y="18171"/>
                        <a:pt x="16901" y="18120"/>
                      </a:cubicBezTo>
                      <a:cubicBezTo>
                        <a:pt x="16660" y="18094"/>
                        <a:pt x="16199" y="17915"/>
                        <a:pt x="16199" y="17915"/>
                      </a:cubicBezTo>
                      <a:cubicBezTo>
                        <a:pt x="15825" y="17633"/>
                        <a:pt x="15628" y="17198"/>
                        <a:pt x="15233" y="16891"/>
                      </a:cubicBezTo>
                      <a:cubicBezTo>
                        <a:pt x="15057" y="16968"/>
                        <a:pt x="14903" y="17173"/>
                        <a:pt x="14706" y="17198"/>
                      </a:cubicBezTo>
                      <a:cubicBezTo>
                        <a:pt x="14245" y="17275"/>
                        <a:pt x="13652" y="16763"/>
                        <a:pt x="13301" y="16482"/>
                      </a:cubicBezTo>
                      <a:cubicBezTo>
                        <a:pt x="12994" y="16251"/>
                        <a:pt x="12555" y="16303"/>
                        <a:pt x="12247" y="16072"/>
                      </a:cubicBezTo>
                      <a:cubicBezTo>
                        <a:pt x="11808" y="15740"/>
                        <a:pt x="11347" y="15484"/>
                        <a:pt x="10930" y="15151"/>
                      </a:cubicBezTo>
                      <a:cubicBezTo>
                        <a:pt x="11084" y="14588"/>
                        <a:pt x="10996" y="14050"/>
                        <a:pt x="10579" y="13718"/>
                      </a:cubicBezTo>
                      <a:cubicBezTo>
                        <a:pt x="10469" y="13308"/>
                        <a:pt x="10272" y="13129"/>
                        <a:pt x="9964" y="12899"/>
                      </a:cubicBezTo>
                      <a:cubicBezTo>
                        <a:pt x="9503" y="12080"/>
                        <a:pt x="10118" y="13078"/>
                        <a:pt x="9525" y="12387"/>
                      </a:cubicBezTo>
                      <a:cubicBezTo>
                        <a:pt x="9394" y="12233"/>
                        <a:pt x="9394" y="11926"/>
                        <a:pt x="9262" y="11773"/>
                      </a:cubicBezTo>
                      <a:cubicBezTo>
                        <a:pt x="9196" y="11696"/>
                        <a:pt x="9086" y="11696"/>
                        <a:pt x="8999" y="11670"/>
                      </a:cubicBezTo>
                      <a:cubicBezTo>
                        <a:pt x="8757" y="11389"/>
                        <a:pt x="8208" y="10954"/>
                        <a:pt x="8208" y="10954"/>
                      </a:cubicBezTo>
                      <a:cubicBezTo>
                        <a:pt x="7967" y="10519"/>
                        <a:pt x="7682" y="10160"/>
                        <a:pt x="7418" y="9725"/>
                      </a:cubicBezTo>
                      <a:cubicBezTo>
                        <a:pt x="7374" y="9623"/>
                        <a:pt x="7396" y="9495"/>
                        <a:pt x="7330" y="9418"/>
                      </a:cubicBezTo>
                      <a:cubicBezTo>
                        <a:pt x="7264" y="9341"/>
                        <a:pt x="7155" y="9341"/>
                        <a:pt x="7067" y="9316"/>
                      </a:cubicBezTo>
                      <a:cubicBezTo>
                        <a:pt x="6891" y="9930"/>
                        <a:pt x="7330" y="10135"/>
                        <a:pt x="7594" y="10544"/>
                      </a:cubicBezTo>
                      <a:cubicBezTo>
                        <a:pt x="7901" y="11005"/>
                        <a:pt x="7989" y="11363"/>
                        <a:pt x="8384" y="11670"/>
                      </a:cubicBezTo>
                      <a:cubicBezTo>
                        <a:pt x="8801" y="12413"/>
                        <a:pt x="8582" y="12105"/>
                        <a:pt x="8999" y="12592"/>
                      </a:cubicBezTo>
                      <a:cubicBezTo>
                        <a:pt x="9108" y="13001"/>
                        <a:pt x="9218" y="13180"/>
                        <a:pt x="9525" y="13411"/>
                      </a:cubicBezTo>
                      <a:cubicBezTo>
                        <a:pt x="9701" y="14025"/>
                        <a:pt x="9306" y="13590"/>
                        <a:pt x="9086" y="13411"/>
                      </a:cubicBezTo>
                      <a:cubicBezTo>
                        <a:pt x="8582" y="12540"/>
                        <a:pt x="9262" y="13564"/>
                        <a:pt x="8647" y="13001"/>
                      </a:cubicBezTo>
                      <a:cubicBezTo>
                        <a:pt x="8560" y="12924"/>
                        <a:pt x="8538" y="12771"/>
                        <a:pt x="8472" y="12694"/>
                      </a:cubicBezTo>
                      <a:cubicBezTo>
                        <a:pt x="8406" y="12617"/>
                        <a:pt x="8296" y="12566"/>
                        <a:pt x="8208" y="12489"/>
                      </a:cubicBezTo>
                      <a:cubicBezTo>
                        <a:pt x="8099" y="12080"/>
                        <a:pt x="7945" y="12003"/>
                        <a:pt x="7594" y="11875"/>
                      </a:cubicBezTo>
                      <a:cubicBezTo>
                        <a:pt x="7374" y="11517"/>
                        <a:pt x="7286" y="11389"/>
                        <a:pt x="7418" y="10954"/>
                      </a:cubicBezTo>
                      <a:cubicBezTo>
                        <a:pt x="7243" y="10647"/>
                        <a:pt x="6716" y="10237"/>
                        <a:pt x="6716" y="10237"/>
                      </a:cubicBezTo>
                      <a:cubicBezTo>
                        <a:pt x="6540" y="9930"/>
                        <a:pt x="6364" y="9623"/>
                        <a:pt x="6189" y="9316"/>
                      </a:cubicBezTo>
                      <a:cubicBezTo>
                        <a:pt x="6057" y="9085"/>
                        <a:pt x="5816" y="9009"/>
                        <a:pt x="5662" y="8804"/>
                      </a:cubicBezTo>
                      <a:cubicBezTo>
                        <a:pt x="5596" y="8702"/>
                        <a:pt x="5574" y="8574"/>
                        <a:pt x="5486" y="8497"/>
                      </a:cubicBezTo>
                      <a:cubicBezTo>
                        <a:pt x="5157" y="8241"/>
                        <a:pt x="4762" y="8241"/>
                        <a:pt x="4433" y="7985"/>
                      </a:cubicBezTo>
                      <a:cubicBezTo>
                        <a:pt x="4235" y="7627"/>
                        <a:pt x="4082" y="7396"/>
                        <a:pt x="3730" y="7268"/>
                      </a:cubicBezTo>
                      <a:cubicBezTo>
                        <a:pt x="3335" y="6603"/>
                        <a:pt x="4038" y="6270"/>
                        <a:pt x="3203" y="6040"/>
                      </a:cubicBezTo>
                      <a:cubicBezTo>
                        <a:pt x="2260" y="5298"/>
                        <a:pt x="2150" y="3762"/>
                        <a:pt x="1799" y="2559"/>
                      </a:cubicBezTo>
                      <a:cubicBezTo>
                        <a:pt x="1711" y="2252"/>
                        <a:pt x="1491" y="1817"/>
                        <a:pt x="1272" y="1638"/>
                      </a:cubicBezTo>
                      <a:cubicBezTo>
                        <a:pt x="1096" y="1485"/>
                        <a:pt x="745" y="1229"/>
                        <a:pt x="745" y="1229"/>
                      </a:cubicBezTo>
                      <a:cubicBezTo>
                        <a:pt x="679" y="1126"/>
                        <a:pt x="657" y="998"/>
                        <a:pt x="569" y="922"/>
                      </a:cubicBezTo>
                      <a:cubicBezTo>
                        <a:pt x="416" y="819"/>
                        <a:pt x="43" y="717"/>
                        <a:pt x="43" y="717"/>
                      </a:cubicBezTo>
                      <a:cubicBezTo>
                        <a:pt x="-177" y="-25"/>
                        <a:pt x="503" y="384"/>
                        <a:pt x="833" y="512"/>
                      </a:cubicBezTo>
                      <a:cubicBezTo>
                        <a:pt x="1250" y="1254"/>
                        <a:pt x="1162" y="998"/>
                        <a:pt x="1711" y="1433"/>
                      </a:cubicBezTo>
                      <a:cubicBezTo>
                        <a:pt x="1886" y="1740"/>
                        <a:pt x="1886" y="2329"/>
                        <a:pt x="2062" y="1740"/>
                      </a:cubicBezTo>
                      <a:cubicBezTo>
                        <a:pt x="1908" y="1203"/>
                        <a:pt x="1623" y="1536"/>
                        <a:pt x="1623" y="922"/>
                      </a:cubicBezTo>
                      <a:close/>
                      <a:moveTo>
                        <a:pt x="1623" y="9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1" name="Freeform 22"/>
                <p:cNvSpPr/>
                <p:nvPr/>
              </p:nvSpPr>
              <p:spPr>
                <a:xfrm>
                  <a:off x="4094640" y="498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4054" h="14065">
                      <a:moveTo>
                        <a:pt x="2457" y="5065"/>
                      </a:moveTo>
                      <a:cubicBezTo>
                        <a:pt x="13857" y="-7535"/>
                        <a:pt x="20457" y="6415"/>
                        <a:pt x="4857" y="14065"/>
                      </a:cubicBezTo>
                      <a:cubicBezTo>
                        <a:pt x="-1143" y="7765"/>
                        <a:pt x="-1143" y="10465"/>
                        <a:pt x="2457" y="5065"/>
                      </a:cubicBezTo>
                      <a:close/>
                      <a:moveTo>
                        <a:pt x="2457" y="506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2" name="Freeform 23"/>
                <p:cNvSpPr/>
                <p:nvPr/>
              </p:nvSpPr>
              <p:spPr>
                <a:xfrm>
                  <a:off x="4075560" y="48096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21600" h="15996">
                      <a:moveTo>
                        <a:pt x="0" y="2428"/>
                      </a:moveTo>
                      <a:cubicBezTo>
                        <a:pt x="2400" y="1844"/>
                        <a:pt x="4800" y="-491"/>
                        <a:pt x="7200" y="93"/>
                      </a:cubicBezTo>
                      <a:cubicBezTo>
                        <a:pt x="12600" y="1844"/>
                        <a:pt x="21600" y="9433"/>
                        <a:pt x="21600" y="9433"/>
                      </a:cubicBezTo>
                      <a:cubicBezTo>
                        <a:pt x="17400" y="21109"/>
                        <a:pt x="13200" y="14687"/>
                        <a:pt x="4800" y="9433"/>
                      </a:cubicBezTo>
                      <a:cubicBezTo>
                        <a:pt x="3000" y="7098"/>
                        <a:pt x="0" y="2428"/>
                        <a:pt x="0" y="2428"/>
                      </a:cubicBezTo>
                      <a:close/>
                      <a:moveTo>
                        <a:pt x="0" y="24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3" name="Freeform 24"/>
                <p:cNvSpPr/>
                <p:nvPr/>
              </p:nvSpPr>
              <p:spPr>
                <a:xfrm>
                  <a:off x="4845600" y="431640"/>
                  <a:ext cx="109440" cy="42840"/>
                </a:xfrm>
                <a:custGeom>
                  <a:avLst/>
                  <a:gdLst/>
                  <a:ahLst/>
                  <a:rect l="l" t="t" r="r" b="b"/>
                  <a:pathLst>
                    <a:path w="20548" h="17162">
                      <a:moveTo>
                        <a:pt x="0" y="9089"/>
                      </a:moveTo>
                      <a:cubicBezTo>
                        <a:pt x="635" y="5489"/>
                        <a:pt x="1525" y="4814"/>
                        <a:pt x="3558" y="3689"/>
                      </a:cubicBezTo>
                      <a:cubicBezTo>
                        <a:pt x="2541" y="-1936"/>
                        <a:pt x="5336" y="1664"/>
                        <a:pt x="7115" y="2789"/>
                      </a:cubicBezTo>
                      <a:cubicBezTo>
                        <a:pt x="7115" y="2789"/>
                        <a:pt x="9784" y="-586"/>
                        <a:pt x="10165" y="89"/>
                      </a:cubicBezTo>
                      <a:cubicBezTo>
                        <a:pt x="10800" y="1214"/>
                        <a:pt x="9021" y="3239"/>
                        <a:pt x="8132" y="3689"/>
                      </a:cubicBezTo>
                      <a:cubicBezTo>
                        <a:pt x="10419" y="6389"/>
                        <a:pt x="13087" y="7514"/>
                        <a:pt x="15755" y="9089"/>
                      </a:cubicBezTo>
                      <a:cubicBezTo>
                        <a:pt x="17280" y="9989"/>
                        <a:pt x="20329" y="12689"/>
                        <a:pt x="20329" y="12689"/>
                      </a:cubicBezTo>
                      <a:cubicBezTo>
                        <a:pt x="21600" y="19664"/>
                        <a:pt x="17026" y="16739"/>
                        <a:pt x="14739" y="15389"/>
                      </a:cubicBezTo>
                      <a:cubicBezTo>
                        <a:pt x="13849" y="10889"/>
                        <a:pt x="14739" y="12914"/>
                        <a:pt x="11181" y="10889"/>
                      </a:cubicBezTo>
                      <a:cubicBezTo>
                        <a:pt x="10673" y="10664"/>
                        <a:pt x="9656" y="9989"/>
                        <a:pt x="9656" y="9989"/>
                      </a:cubicBezTo>
                      <a:cubicBezTo>
                        <a:pt x="7242" y="5714"/>
                        <a:pt x="6734" y="6389"/>
                        <a:pt x="3049" y="7289"/>
                      </a:cubicBezTo>
                      <a:cubicBezTo>
                        <a:pt x="1144" y="9539"/>
                        <a:pt x="2160" y="9089"/>
                        <a:pt x="0" y="9089"/>
                      </a:cubicBezTo>
                      <a:close/>
                      <a:moveTo>
                        <a:pt x="0" y="90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4" name="Freeform 25"/>
                <p:cNvSpPr/>
                <p:nvPr/>
              </p:nvSpPr>
              <p:spPr>
                <a:xfrm>
                  <a:off x="4967640" y="471600"/>
                  <a:ext cx="84240" cy="23760"/>
                </a:xfrm>
                <a:custGeom>
                  <a:avLst/>
                  <a:gdLst/>
                  <a:ahLst/>
                  <a:rect l="l" t="t" r="r" b="b"/>
                  <a:pathLst>
                    <a:path w="19535" h="21600">
                      <a:moveTo>
                        <a:pt x="0" y="0"/>
                      </a:moveTo>
                      <a:cubicBezTo>
                        <a:pt x="2974" y="1473"/>
                        <a:pt x="5478" y="4909"/>
                        <a:pt x="8139" y="1964"/>
                      </a:cubicBezTo>
                      <a:cubicBezTo>
                        <a:pt x="13617" y="5400"/>
                        <a:pt x="9548" y="7364"/>
                        <a:pt x="13774" y="11782"/>
                      </a:cubicBezTo>
                      <a:cubicBezTo>
                        <a:pt x="15026" y="11291"/>
                        <a:pt x="16278" y="9327"/>
                        <a:pt x="17530" y="9818"/>
                      </a:cubicBezTo>
                      <a:cubicBezTo>
                        <a:pt x="21600" y="11291"/>
                        <a:pt x="18470" y="20127"/>
                        <a:pt x="16904" y="21600"/>
                      </a:cubicBezTo>
                      <a:cubicBezTo>
                        <a:pt x="12209" y="16691"/>
                        <a:pt x="14400" y="16691"/>
                        <a:pt x="10017" y="19636"/>
                      </a:cubicBezTo>
                      <a:cubicBezTo>
                        <a:pt x="6417" y="18164"/>
                        <a:pt x="3443" y="20127"/>
                        <a:pt x="0" y="17673"/>
                      </a:cubicBezTo>
                      <a:cubicBezTo>
                        <a:pt x="939" y="5400"/>
                        <a:pt x="1096" y="13255"/>
                        <a:pt x="4383" y="9818"/>
                      </a:cubicBezTo>
                      <a:cubicBezTo>
                        <a:pt x="2661" y="6382"/>
                        <a:pt x="0" y="6382"/>
                        <a:pt x="0" y="0"/>
                      </a:cubicBez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>
                  <a:off x="4924800" y="487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2677" h="11240">
                      <a:moveTo>
                        <a:pt x="2391" y="8694"/>
                      </a:moveTo>
                      <a:cubicBezTo>
                        <a:pt x="-4051" y="-4163"/>
                        <a:pt x="3907" y="466"/>
                        <a:pt x="9970" y="2523"/>
                      </a:cubicBezTo>
                      <a:cubicBezTo>
                        <a:pt x="17549" y="17437"/>
                        <a:pt x="7317" y="8694"/>
                        <a:pt x="2391" y="8694"/>
                      </a:cubicBezTo>
                      <a:close/>
                      <a:moveTo>
                        <a:pt x="2391" y="869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6" name="Freeform 27"/>
                <p:cNvSpPr/>
                <p:nvPr/>
              </p:nvSpPr>
              <p:spPr>
                <a:xfrm>
                  <a:off x="4897800" y="4158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10960" h="15340">
                      <a:moveTo>
                        <a:pt x="5506" y="13292"/>
                      </a:moveTo>
                      <a:cubicBezTo>
                        <a:pt x="2183" y="5815"/>
                        <a:pt x="-5017" y="5400"/>
                        <a:pt x="5506" y="0"/>
                      </a:cubicBezTo>
                      <a:cubicBezTo>
                        <a:pt x="7721" y="2077"/>
                        <a:pt x="16583" y="21600"/>
                        <a:pt x="5506" y="13292"/>
                      </a:cubicBezTo>
                      <a:close/>
                      <a:moveTo>
                        <a:pt x="5506" y="1329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7" name="Freeform 28"/>
                <p:cNvSpPr/>
                <p:nvPr/>
              </p:nvSpPr>
              <p:spPr>
                <a:xfrm>
                  <a:off x="5094720" y="5032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9487" h="19095">
                      <a:moveTo>
                        <a:pt x="1964" y="1262"/>
                      </a:moveTo>
                      <a:cubicBezTo>
                        <a:pt x="4418" y="3422"/>
                        <a:pt x="8836" y="5312"/>
                        <a:pt x="9818" y="7742"/>
                      </a:cubicBezTo>
                      <a:cubicBezTo>
                        <a:pt x="10309" y="9092"/>
                        <a:pt x="10309" y="10982"/>
                        <a:pt x="11782" y="12062"/>
                      </a:cubicBezTo>
                      <a:cubicBezTo>
                        <a:pt x="13255" y="12872"/>
                        <a:pt x="15709" y="12872"/>
                        <a:pt x="17673" y="13142"/>
                      </a:cubicBezTo>
                      <a:cubicBezTo>
                        <a:pt x="20127" y="17192"/>
                        <a:pt x="21600" y="20432"/>
                        <a:pt x="11782" y="18542"/>
                      </a:cubicBezTo>
                      <a:cubicBezTo>
                        <a:pt x="9327" y="13682"/>
                        <a:pt x="5400" y="8822"/>
                        <a:pt x="0" y="4502"/>
                      </a:cubicBezTo>
                      <a:cubicBezTo>
                        <a:pt x="1964" y="-88"/>
                        <a:pt x="1964" y="-1168"/>
                        <a:pt x="1964" y="1262"/>
                      </a:cubicBezTo>
                      <a:close/>
                      <a:moveTo>
                        <a:pt x="1964" y="126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>
                  <a:off x="4556520" y="176040"/>
                  <a:ext cx="322200" cy="63720"/>
                </a:xfrm>
                <a:custGeom>
                  <a:avLst/>
                  <a:gdLst/>
                  <a:ahLst/>
                  <a:rect l="l" t="t" r="r" b="b"/>
                  <a:pathLst>
                    <a:path w="21403" h="21263">
                      <a:moveTo>
                        <a:pt x="14646" y="338"/>
                      </a:moveTo>
                      <a:cubicBezTo>
                        <a:pt x="14312" y="4050"/>
                        <a:pt x="14980" y="5738"/>
                        <a:pt x="15382" y="2700"/>
                      </a:cubicBezTo>
                      <a:cubicBezTo>
                        <a:pt x="15649" y="0"/>
                        <a:pt x="15248" y="2363"/>
                        <a:pt x="15649" y="0"/>
                      </a:cubicBezTo>
                      <a:lnTo>
                        <a:pt x="17655" y="0"/>
                      </a:lnTo>
                      <a:cubicBezTo>
                        <a:pt x="18458" y="2025"/>
                        <a:pt x="18391" y="3713"/>
                        <a:pt x="19127" y="5738"/>
                      </a:cubicBezTo>
                      <a:cubicBezTo>
                        <a:pt x="20531" y="3713"/>
                        <a:pt x="19528" y="2363"/>
                        <a:pt x="21267" y="3375"/>
                      </a:cubicBezTo>
                      <a:cubicBezTo>
                        <a:pt x="21534" y="6413"/>
                        <a:pt x="21400" y="7425"/>
                        <a:pt x="20932" y="9788"/>
                      </a:cubicBezTo>
                      <a:cubicBezTo>
                        <a:pt x="20798" y="13163"/>
                        <a:pt x="20865" y="16875"/>
                        <a:pt x="19862" y="15525"/>
                      </a:cubicBezTo>
                      <a:cubicBezTo>
                        <a:pt x="19795" y="13500"/>
                        <a:pt x="19862" y="11475"/>
                        <a:pt x="19662" y="9788"/>
                      </a:cubicBezTo>
                      <a:cubicBezTo>
                        <a:pt x="19595" y="9113"/>
                        <a:pt x="19327" y="10463"/>
                        <a:pt x="19127" y="10463"/>
                      </a:cubicBezTo>
                      <a:cubicBezTo>
                        <a:pt x="18926" y="10463"/>
                        <a:pt x="18792" y="10125"/>
                        <a:pt x="18592" y="9788"/>
                      </a:cubicBezTo>
                      <a:cubicBezTo>
                        <a:pt x="18257" y="9113"/>
                        <a:pt x="17522" y="7088"/>
                        <a:pt x="17522" y="7088"/>
                      </a:cubicBezTo>
                      <a:cubicBezTo>
                        <a:pt x="16585" y="7763"/>
                        <a:pt x="16050" y="10463"/>
                        <a:pt x="15181" y="12825"/>
                      </a:cubicBezTo>
                      <a:cubicBezTo>
                        <a:pt x="14646" y="13838"/>
                        <a:pt x="13910" y="14175"/>
                        <a:pt x="13375" y="14850"/>
                      </a:cubicBezTo>
                      <a:cubicBezTo>
                        <a:pt x="12841" y="18225"/>
                        <a:pt x="13309" y="17888"/>
                        <a:pt x="14111" y="19238"/>
                      </a:cubicBezTo>
                      <a:cubicBezTo>
                        <a:pt x="13309" y="20925"/>
                        <a:pt x="13242" y="19238"/>
                        <a:pt x="12506" y="21263"/>
                      </a:cubicBezTo>
                      <a:cubicBezTo>
                        <a:pt x="12038" y="20925"/>
                        <a:pt x="11570" y="21600"/>
                        <a:pt x="11236" y="20588"/>
                      </a:cubicBezTo>
                      <a:cubicBezTo>
                        <a:pt x="11035" y="19913"/>
                        <a:pt x="11637" y="19913"/>
                        <a:pt x="11771" y="19238"/>
                      </a:cubicBezTo>
                      <a:cubicBezTo>
                        <a:pt x="12038" y="16200"/>
                        <a:pt x="9898" y="9450"/>
                        <a:pt x="11369" y="13500"/>
                      </a:cubicBezTo>
                      <a:cubicBezTo>
                        <a:pt x="12239" y="18563"/>
                        <a:pt x="12239" y="12150"/>
                        <a:pt x="11236" y="10463"/>
                      </a:cubicBezTo>
                      <a:cubicBezTo>
                        <a:pt x="11102" y="9113"/>
                        <a:pt x="11102" y="7425"/>
                        <a:pt x="10500" y="7763"/>
                      </a:cubicBezTo>
                      <a:cubicBezTo>
                        <a:pt x="10166" y="7763"/>
                        <a:pt x="9430" y="9113"/>
                        <a:pt x="9430" y="9113"/>
                      </a:cubicBezTo>
                      <a:cubicBezTo>
                        <a:pt x="9029" y="13163"/>
                        <a:pt x="9497" y="10463"/>
                        <a:pt x="8895" y="9113"/>
                      </a:cubicBezTo>
                      <a:cubicBezTo>
                        <a:pt x="8627" y="8438"/>
                        <a:pt x="8360" y="8438"/>
                        <a:pt x="8159" y="8438"/>
                      </a:cubicBezTo>
                      <a:cubicBezTo>
                        <a:pt x="7758" y="3713"/>
                        <a:pt x="6621" y="2025"/>
                        <a:pt x="5484" y="675"/>
                      </a:cubicBezTo>
                      <a:cubicBezTo>
                        <a:pt x="4615" y="1350"/>
                        <a:pt x="4548" y="3038"/>
                        <a:pt x="3880" y="4725"/>
                      </a:cubicBezTo>
                      <a:cubicBezTo>
                        <a:pt x="2943" y="4725"/>
                        <a:pt x="-66" y="4050"/>
                        <a:pt x="1" y="0"/>
                      </a:cubicBezTo>
                      <a:lnTo>
                        <a:pt x="14646" y="338"/>
                      </a:lnTo>
                      <a:close/>
                      <a:moveTo>
                        <a:pt x="14646" y="3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9" name="Freeform 30"/>
                <p:cNvSpPr/>
                <p:nvPr/>
              </p:nvSpPr>
              <p:spPr>
                <a:xfrm>
                  <a:off x="4291560" y="174600"/>
                  <a:ext cx="276120" cy="31680"/>
                </a:xfrm>
                <a:custGeom>
                  <a:avLst/>
                  <a:gdLst/>
                  <a:ahLst/>
                  <a:rect l="l" t="t" r="r" b="b"/>
                  <a:pathLst>
                    <a:path w="19726" h="21600">
                      <a:moveTo>
                        <a:pt x="5865" y="21600"/>
                      </a:moveTo>
                      <a:cubicBezTo>
                        <a:pt x="4281" y="13239"/>
                        <a:pt x="-1695" y="4181"/>
                        <a:pt x="465" y="697"/>
                      </a:cubicBezTo>
                      <a:lnTo>
                        <a:pt x="18825" y="0"/>
                      </a:lnTo>
                      <a:cubicBezTo>
                        <a:pt x="19617" y="2787"/>
                        <a:pt x="19905" y="3484"/>
                        <a:pt x="19617" y="9755"/>
                      </a:cubicBezTo>
                      <a:cubicBezTo>
                        <a:pt x="18825" y="7665"/>
                        <a:pt x="18177" y="11148"/>
                        <a:pt x="17313" y="11148"/>
                      </a:cubicBezTo>
                      <a:lnTo>
                        <a:pt x="5865" y="21600"/>
                      </a:lnTo>
                      <a:close/>
                      <a:moveTo>
                        <a:pt x="5865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0" name="Freeform 31"/>
                <p:cNvSpPr/>
                <p:nvPr/>
              </p:nvSpPr>
              <p:spPr>
                <a:xfrm>
                  <a:off x="3603600" y="22536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1" name="Freeform 32"/>
                <p:cNvSpPr/>
                <p:nvPr/>
              </p:nvSpPr>
              <p:spPr>
                <a:xfrm>
                  <a:off x="2826000" y="174600"/>
                  <a:ext cx="691920" cy="24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17" y="142"/>
                      </a:moveTo>
                      <a:lnTo>
                        <a:pt x="21600" y="0"/>
                      </a:lnTo>
                      <a:cubicBezTo>
                        <a:pt x="21303" y="2132"/>
                        <a:pt x="21253" y="5968"/>
                        <a:pt x="20609" y="7674"/>
                      </a:cubicBezTo>
                      <a:cubicBezTo>
                        <a:pt x="20312" y="8526"/>
                        <a:pt x="20064" y="8953"/>
                        <a:pt x="19668" y="9663"/>
                      </a:cubicBezTo>
                      <a:cubicBezTo>
                        <a:pt x="19618" y="9805"/>
                        <a:pt x="19420" y="9947"/>
                        <a:pt x="19420" y="9947"/>
                      </a:cubicBezTo>
                      <a:cubicBezTo>
                        <a:pt x="18677" y="8953"/>
                        <a:pt x="19073" y="9663"/>
                        <a:pt x="18578" y="10374"/>
                      </a:cubicBezTo>
                      <a:cubicBezTo>
                        <a:pt x="18380" y="11653"/>
                        <a:pt x="18380" y="11795"/>
                        <a:pt x="17884" y="12505"/>
                      </a:cubicBezTo>
                      <a:cubicBezTo>
                        <a:pt x="17785" y="13074"/>
                        <a:pt x="18033" y="13216"/>
                        <a:pt x="17934" y="14068"/>
                      </a:cubicBezTo>
                      <a:cubicBezTo>
                        <a:pt x="17983" y="14495"/>
                        <a:pt x="18033" y="14921"/>
                        <a:pt x="18033" y="15205"/>
                      </a:cubicBezTo>
                      <a:cubicBezTo>
                        <a:pt x="18083" y="15489"/>
                        <a:pt x="18132" y="15774"/>
                        <a:pt x="18132" y="16058"/>
                      </a:cubicBezTo>
                      <a:cubicBezTo>
                        <a:pt x="18083" y="16342"/>
                        <a:pt x="18033" y="17053"/>
                        <a:pt x="17934" y="17337"/>
                      </a:cubicBezTo>
                      <a:cubicBezTo>
                        <a:pt x="17785" y="17479"/>
                        <a:pt x="17538" y="16911"/>
                        <a:pt x="17389" y="17053"/>
                      </a:cubicBezTo>
                      <a:cubicBezTo>
                        <a:pt x="17191" y="18332"/>
                        <a:pt x="17439" y="18047"/>
                        <a:pt x="16943" y="18332"/>
                      </a:cubicBezTo>
                      <a:cubicBezTo>
                        <a:pt x="16844" y="17479"/>
                        <a:pt x="17092" y="15774"/>
                        <a:pt x="17191" y="14921"/>
                      </a:cubicBezTo>
                      <a:cubicBezTo>
                        <a:pt x="17191" y="14211"/>
                        <a:pt x="16745" y="14495"/>
                        <a:pt x="16745" y="14211"/>
                      </a:cubicBezTo>
                      <a:cubicBezTo>
                        <a:pt x="16745" y="13926"/>
                        <a:pt x="17042" y="13500"/>
                        <a:pt x="17042" y="13216"/>
                      </a:cubicBezTo>
                      <a:cubicBezTo>
                        <a:pt x="17042" y="13074"/>
                        <a:pt x="17042" y="12647"/>
                        <a:pt x="16943" y="12647"/>
                      </a:cubicBezTo>
                      <a:cubicBezTo>
                        <a:pt x="16794" y="12647"/>
                        <a:pt x="16051" y="13358"/>
                        <a:pt x="15853" y="13358"/>
                      </a:cubicBezTo>
                      <a:cubicBezTo>
                        <a:pt x="15705" y="12221"/>
                        <a:pt x="16250" y="12505"/>
                        <a:pt x="15705" y="12079"/>
                      </a:cubicBezTo>
                      <a:cubicBezTo>
                        <a:pt x="15407" y="12932"/>
                        <a:pt x="15160" y="13216"/>
                        <a:pt x="14714" y="13358"/>
                      </a:cubicBezTo>
                      <a:cubicBezTo>
                        <a:pt x="14862" y="14779"/>
                        <a:pt x="15209" y="14353"/>
                        <a:pt x="15853" y="14637"/>
                      </a:cubicBezTo>
                      <a:cubicBezTo>
                        <a:pt x="15754" y="15489"/>
                        <a:pt x="15407" y="15774"/>
                        <a:pt x="15110" y="16626"/>
                      </a:cubicBezTo>
                      <a:lnTo>
                        <a:pt x="15407" y="17905"/>
                      </a:lnTo>
                      <a:lnTo>
                        <a:pt x="15606" y="19611"/>
                      </a:lnTo>
                      <a:lnTo>
                        <a:pt x="15308" y="19753"/>
                      </a:lnTo>
                      <a:lnTo>
                        <a:pt x="15556" y="20463"/>
                      </a:lnTo>
                      <a:lnTo>
                        <a:pt x="15209" y="21600"/>
                      </a:lnTo>
                      <a:lnTo>
                        <a:pt x="0" y="21174"/>
                      </a:lnTo>
                      <a:lnTo>
                        <a:pt x="3617" y="142"/>
                      </a:lnTo>
                      <a:close/>
                      <a:moveTo>
                        <a:pt x="3617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>
                  <a:off x="3519720" y="16668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3" name="Freeform 34"/>
                <p:cNvSpPr/>
                <p:nvPr/>
              </p:nvSpPr>
              <p:spPr>
                <a:xfrm>
                  <a:off x="3500640" y="24300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4" name="Freeform 35"/>
                <p:cNvSpPr/>
                <p:nvPr/>
              </p:nvSpPr>
              <p:spPr>
                <a:xfrm>
                  <a:off x="3400560" y="2905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>
                  <a:off x="277344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6" name="Freeform 37"/>
                <p:cNvSpPr/>
                <p:nvPr/>
              </p:nvSpPr>
              <p:spPr>
                <a:xfrm>
                  <a:off x="287028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7" name="Freeform 38"/>
                <p:cNvSpPr/>
                <p:nvPr/>
              </p:nvSpPr>
              <p:spPr>
                <a:xfrm>
                  <a:off x="3292560" y="452520"/>
                  <a:ext cx="27000" cy="3636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8" name="Freeform 39"/>
                <p:cNvSpPr/>
                <p:nvPr/>
              </p:nvSpPr>
              <p:spPr>
                <a:xfrm>
                  <a:off x="1897200" y="282600"/>
                  <a:ext cx="684360" cy="56052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>
                  <a:off x="2163960" y="552600"/>
                  <a:ext cx="258840" cy="29196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0" name="Freeform 41"/>
                <p:cNvSpPr/>
                <p:nvPr/>
              </p:nvSpPr>
              <p:spPr>
                <a:xfrm>
                  <a:off x="2621160" y="7570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1" name="Freeform 42"/>
                <p:cNvSpPr/>
                <p:nvPr/>
              </p:nvSpPr>
              <p:spPr>
                <a:xfrm>
                  <a:off x="19846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>
                  <a:off x="2457720" y="204840"/>
                  <a:ext cx="4683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3" name="Freeform 44"/>
                <p:cNvSpPr/>
                <p:nvPr/>
              </p:nvSpPr>
              <p:spPr>
                <a:xfrm>
                  <a:off x="2138400" y="174600"/>
                  <a:ext cx="87480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4" name="Freeform 45"/>
                <p:cNvSpPr/>
                <p:nvPr/>
              </p:nvSpPr>
              <p:spPr>
                <a:xfrm>
                  <a:off x="2330640" y="23184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5" name="Freeform 46"/>
                <p:cNvSpPr/>
                <p:nvPr/>
              </p:nvSpPr>
              <p:spPr>
                <a:xfrm>
                  <a:off x="23068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6" name="Freeform 47"/>
                <p:cNvSpPr/>
                <p:nvPr/>
              </p:nvSpPr>
              <p:spPr>
                <a:xfrm>
                  <a:off x="2413080" y="318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7" name="Freeform 48"/>
                <p:cNvSpPr/>
                <p:nvPr/>
              </p:nvSpPr>
              <p:spPr>
                <a:xfrm>
                  <a:off x="2490840" y="3207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58" name="Freeform 49"/>
                <p:cNvSpPr/>
                <p:nvPr/>
              </p:nvSpPr>
              <p:spPr>
                <a:xfrm>
                  <a:off x="2260800" y="2556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359" name="Group 86"/>
              <p:cNvGrpSpPr/>
              <p:nvPr/>
            </p:nvGrpSpPr>
            <p:grpSpPr>
              <a:xfrm>
                <a:off x="6165000" y="165240"/>
                <a:ext cx="1764000" cy="681120"/>
                <a:chOff x="6165000" y="165240"/>
                <a:chExt cx="1764000" cy="681120"/>
              </a:xfrm>
            </p:grpSpPr>
            <p:sp>
              <p:nvSpPr>
                <p:cNvPr id="360" name="Freeform 51"/>
                <p:cNvSpPr/>
                <p:nvPr/>
              </p:nvSpPr>
              <p:spPr>
                <a:xfrm>
                  <a:off x="7908480" y="76212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1" name="Freeform 52"/>
                <p:cNvSpPr/>
                <p:nvPr/>
              </p:nvSpPr>
              <p:spPr>
                <a:xfrm>
                  <a:off x="7595640" y="79236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2" name="Freeform 53"/>
                <p:cNvSpPr/>
                <p:nvPr/>
              </p:nvSpPr>
              <p:spPr>
                <a:xfrm>
                  <a:off x="7546320" y="79056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3" name="Freeform 54"/>
                <p:cNvSpPr/>
                <p:nvPr/>
              </p:nvSpPr>
              <p:spPr>
                <a:xfrm>
                  <a:off x="7299000" y="652680"/>
                  <a:ext cx="237960" cy="14580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4" name="Freeform 55"/>
                <p:cNvSpPr/>
                <p:nvPr/>
              </p:nvSpPr>
              <p:spPr>
                <a:xfrm>
                  <a:off x="7443360" y="6429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5" name="Freeform 56"/>
                <p:cNvSpPr/>
                <p:nvPr/>
              </p:nvSpPr>
              <p:spPr>
                <a:xfrm>
                  <a:off x="754812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6" name="Freeform 57"/>
                <p:cNvSpPr/>
                <p:nvPr/>
              </p:nvSpPr>
              <p:spPr>
                <a:xfrm>
                  <a:off x="7543440" y="7178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7" name="Freeform 58"/>
                <p:cNvSpPr/>
                <p:nvPr/>
              </p:nvSpPr>
              <p:spPr>
                <a:xfrm>
                  <a:off x="7630560" y="6876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8" name="Freeform 59"/>
                <p:cNvSpPr/>
                <p:nvPr/>
              </p:nvSpPr>
              <p:spPr>
                <a:xfrm>
                  <a:off x="7637040" y="736920"/>
                  <a:ext cx="30240" cy="1080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69" name="Freeform 60"/>
                <p:cNvSpPr/>
                <p:nvPr/>
              </p:nvSpPr>
              <p:spPr>
                <a:xfrm>
                  <a:off x="7670160" y="7128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0" name="Freeform 61"/>
                <p:cNvSpPr/>
                <p:nvPr/>
              </p:nvSpPr>
              <p:spPr>
                <a:xfrm>
                  <a:off x="7679880" y="725760"/>
                  <a:ext cx="19368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1" name="Freeform 62"/>
                <p:cNvSpPr/>
                <p:nvPr/>
              </p:nvSpPr>
              <p:spPr>
                <a:xfrm>
                  <a:off x="7849800" y="73512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2" name="Freeform 63"/>
                <p:cNvSpPr/>
                <p:nvPr/>
              </p:nvSpPr>
              <p:spPr>
                <a:xfrm>
                  <a:off x="757512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3" name="Freeform 64"/>
                <p:cNvSpPr/>
                <p:nvPr/>
              </p:nvSpPr>
              <p:spPr>
                <a:xfrm>
                  <a:off x="7560720" y="52416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4" name="Freeform 65"/>
                <p:cNvSpPr/>
                <p:nvPr/>
              </p:nvSpPr>
              <p:spPr>
                <a:xfrm>
                  <a:off x="7576560" y="59076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5" name="Freeform 66"/>
                <p:cNvSpPr/>
                <p:nvPr/>
              </p:nvSpPr>
              <p:spPr>
                <a:xfrm>
                  <a:off x="7529040" y="5968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6" name="Freeform 67"/>
                <p:cNvSpPr/>
                <p:nvPr/>
              </p:nvSpPr>
              <p:spPr>
                <a:xfrm>
                  <a:off x="7870320" y="2257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7" name="Freeform 68"/>
                <p:cNvSpPr/>
                <p:nvPr/>
              </p:nvSpPr>
              <p:spPr>
                <a:xfrm>
                  <a:off x="7090920" y="174600"/>
                  <a:ext cx="695160" cy="24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00" y="142"/>
                      </a:moveTo>
                      <a:lnTo>
                        <a:pt x="21600" y="0"/>
                      </a:lnTo>
                      <a:cubicBezTo>
                        <a:pt x="21304" y="2132"/>
                        <a:pt x="21156" y="5968"/>
                        <a:pt x="20515" y="7674"/>
                      </a:cubicBezTo>
                      <a:cubicBezTo>
                        <a:pt x="20219" y="8526"/>
                        <a:pt x="19973" y="8953"/>
                        <a:pt x="19578" y="9663"/>
                      </a:cubicBezTo>
                      <a:cubicBezTo>
                        <a:pt x="19529" y="9805"/>
                        <a:pt x="19332" y="9947"/>
                        <a:pt x="19332" y="9947"/>
                      </a:cubicBezTo>
                      <a:cubicBezTo>
                        <a:pt x="18592" y="8953"/>
                        <a:pt x="18986" y="9663"/>
                        <a:pt x="18493" y="10374"/>
                      </a:cubicBezTo>
                      <a:cubicBezTo>
                        <a:pt x="18296" y="11653"/>
                        <a:pt x="18296" y="11795"/>
                        <a:pt x="17803" y="12505"/>
                      </a:cubicBezTo>
                      <a:cubicBezTo>
                        <a:pt x="17704" y="13074"/>
                        <a:pt x="17951" y="13216"/>
                        <a:pt x="17852" y="14068"/>
                      </a:cubicBezTo>
                      <a:cubicBezTo>
                        <a:pt x="17901" y="14495"/>
                        <a:pt x="17951" y="14921"/>
                        <a:pt x="17951" y="15205"/>
                      </a:cubicBezTo>
                      <a:cubicBezTo>
                        <a:pt x="18000" y="15489"/>
                        <a:pt x="18049" y="15774"/>
                        <a:pt x="18049" y="16058"/>
                      </a:cubicBezTo>
                      <a:cubicBezTo>
                        <a:pt x="18000" y="16342"/>
                        <a:pt x="17951" y="17053"/>
                        <a:pt x="17852" y="17337"/>
                      </a:cubicBezTo>
                      <a:cubicBezTo>
                        <a:pt x="17704" y="17479"/>
                        <a:pt x="17458" y="16911"/>
                        <a:pt x="17310" y="17053"/>
                      </a:cubicBezTo>
                      <a:cubicBezTo>
                        <a:pt x="17112" y="18332"/>
                        <a:pt x="17359" y="18047"/>
                        <a:pt x="16866" y="18332"/>
                      </a:cubicBezTo>
                      <a:cubicBezTo>
                        <a:pt x="16767" y="17479"/>
                        <a:pt x="17014" y="15774"/>
                        <a:pt x="17112" y="14921"/>
                      </a:cubicBezTo>
                      <a:cubicBezTo>
                        <a:pt x="17112" y="14211"/>
                        <a:pt x="16668" y="14495"/>
                        <a:pt x="16668" y="14211"/>
                      </a:cubicBezTo>
                      <a:cubicBezTo>
                        <a:pt x="16668" y="13926"/>
                        <a:pt x="16964" y="13500"/>
                        <a:pt x="16964" y="13216"/>
                      </a:cubicBezTo>
                      <a:cubicBezTo>
                        <a:pt x="16964" y="13074"/>
                        <a:pt x="16964" y="12647"/>
                        <a:pt x="16866" y="12647"/>
                      </a:cubicBezTo>
                      <a:cubicBezTo>
                        <a:pt x="16718" y="12647"/>
                        <a:pt x="15978" y="13358"/>
                        <a:pt x="15781" y="13358"/>
                      </a:cubicBezTo>
                      <a:cubicBezTo>
                        <a:pt x="15633" y="12221"/>
                        <a:pt x="16175" y="12505"/>
                        <a:pt x="15633" y="12079"/>
                      </a:cubicBezTo>
                      <a:cubicBezTo>
                        <a:pt x="15337" y="12932"/>
                        <a:pt x="15090" y="13216"/>
                        <a:pt x="14647" y="13358"/>
                      </a:cubicBezTo>
                      <a:cubicBezTo>
                        <a:pt x="14795" y="14779"/>
                        <a:pt x="15140" y="14353"/>
                        <a:pt x="15781" y="14637"/>
                      </a:cubicBezTo>
                      <a:cubicBezTo>
                        <a:pt x="15682" y="15489"/>
                        <a:pt x="15337" y="15774"/>
                        <a:pt x="15041" y="16626"/>
                      </a:cubicBezTo>
                      <a:lnTo>
                        <a:pt x="15337" y="17905"/>
                      </a:lnTo>
                      <a:lnTo>
                        <a:pt x="15534" y="19611"/>
                      </a:lnTo>
                      <a:lnTo>
                        <a:pt x="15238" y="19753"/>
                      </a:lnTo>
                      <a:lnTo>
                        <a:pt x="15485" y="20463"/>
                      </a:lnTo>
                      <a:lnTo>
                        <a:pt x="15140" y="21600"/>
                      </a:lnTo>
                      <a:lnTo>
                        <a:pt x="0" y="21174"/>
                      </a:lnTo>
                      <a:lnTo>
                        <a:pt x="3600" y="142"/>
                      </a:lnTo>
                      <a:close/>
                      <a:moveTo>
                        <a:pt x="3600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8" name="Freeform 69"/>
                <p:cNvSpPr/>
                <p:nvPr/>
              </p:nvSpPr>
              <p:spPr>
                <a:xfrm>
                  <a:off x="7787880" y="16524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79" name="Freeform 70"/>
                <p:cNvSpPr/>
                <p:nvPr/>
              </p:nvSpPr>
              <p:spPr>
                <a:xfrm>
                  <a:off x="7767000" y="243000"/>
                  <a:ext cx="9396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0" name="Freeform 71"/>
                <p:cNvSpPr/>
                <p:nvPr/>
              </p:nvSpPr>
              <p:spPr>
                <a:xfrm>
                  <a:off x="7667280" y="29052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1" name="Freeform 72"/>
                <p:cNvSpPr/>
                <p:nvPr/>
              </p:nvSpPr>
              <p:spPr>
                <a:xfrm>
                  <a:off x="703980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2" name="Freeform 73"/>
                <p:cNvSpPr/>
                <p:nvPr/>
              </p:nvSpPr>
              <p:spPr>
                <a:xfrm>
                  <a:off x="713844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3" name="Freeform 74"/>
                <p:cNvSpPr/>
                <p:nvPr/>
              </p:nvSpPr>
              <p:spPr>
                <a:xfrm>
                  <a:off x="7560720" y="4525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4" name="Freeform 75"/>
                <p:cNvSpPr/>
                <p:nvPr/>
              </p:nvSpPr>
              <p:spPr>
                <a:xfrm>
                  <a:off x="6165000" y="284400"/>
                  <a:ext cx="684360" cy="56016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5" name="Freeform 76"/>
                <p:cNvSpPr/>
                <p:nvPr/>
              </p:nvSpPr>
              <p:spPr>
                <a:xfrm>
                  <a:off x="6429960" y="554040"/>
                  <a:ext cx="25884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6" name="Freeform 77"/>
                <p:cNvSpPr/>
                <p:nvPr/>
              </p:nvSpPr>
              <p:spPr>
                <a:xfrm>
                  <a:off x="6888960" y="7574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7" name="Freeform 78"/>
                <p:cNvSpPr/>
                <p:nvPr/>
              </p:nvSpPr>
              <p:spPr>
                <a:xfrm>
                  <a:off x="62524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8" name="Freeform 79"/>
                <p:cNvSpPr/>
                <p:nvPr/>
              </p:nvSpPr>
              <p:spPr>
                <a:xfrm>
                  <a:off x="6725520" y="204840"/>
                  <a:ext cx="4665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89" name="Freeform 80"/>
                <p:cNvSpPr/>
                <p:nvPr/>
              </p:nvSpPr>
              <p:spPr>
                <a:xfrm>
                  <a:off x="6404760" y="174600"/>
                  <a:ext cx="87624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0" name="Freeform 81"/>
                <p:cNvSpPr/>
                <p:nvPr/>
              </p:nvSpPr>
              <p:spPr>
                <a:xfrm>
                  <a:off x="6598440" y="231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1" name="Freeform 82"/>
                <p:cNvSpPr/>
                <p:nvPr/>
              </p:nvSpPr>
              <p:spPr>
                <a:xfrm>
                  <a:off x="65746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2" name="Freeform 83"/>
                <p:cNvSpPr/>
                <p:nvPr/>
              </p:nvSpPr>
              <p:spPr>
                <a:xfrm>
                  <a:off x="6680880" y="3193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3" name="Freeform 84"/>
                <p:cNvSpPr/>
                <p:nvPr/>
              </p:nvSpPr>
              <p:spPr>
                <a:xfrm>
                  <a:off x="6757200" y="320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94" name="Freeform 85"/>
                <p:cNvSpPr/>
                <p:nvPr/>
              </p:nvSpPr>
              <p:spPr>
                <a:xfrm>
                  <a:off x="6528600" y="25560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395" name="Group 109"/>
            <p:cNvGrpSpPr/>
            <p:nvPr/>
          </p:nvGrpSpPr>
          <p:grpSpPr>
            <a:xfrm>
              <a:off x="1266840" y="176400"/>
              <a:ext cx="7464240" cy="663480"/>
              <a:chOff x="1266840" y="176400"/>
              <a:chExt cx="7464240" cy="663480"/>
            </a:xfrm>
          </p:grpSpPr>
          <p:sp>
            <p:nvSpPr>
              <p:cNvPr id="396" name="Line 88"/>
              <p:cNvSpPr/>
              <p:nvPr/>
            </p:nvSpPr>
            <p:spPr>
              <a:xfrm>
                <a:off x="1266840" y="527400"/>
                <a:ext cx="7464240" cy="14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7" name="Line 89"/>
              <p:cNvSpPr/>
              <p:nvPr/>
            </p:nvSpPr>
            <p:spPr>
              <a:xfrm>
                <a:off x="16282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8" name="Line 90"/>
              <p:cNvSpPr/>
              <p:nvPr/>
            </p:nvSpPr>
            <p:spPr>
              <a:xfrm>
                <a:off x="19904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399" name="Line 91"/>
              <p:cNvSpPr/>
              <p:nvPr/>
            </p:nvSpPr>
            <p:spPr>
              <a:xfrm>
                <a:off x="23522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0" name="Line 92"/>
              <p:cNvSpPr/>
              <p:nvPr/>
            </p:nvSpPr>
            <p:spPr>
              <a:xfrm>
                <a:off x="27144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1" name="Line 93"/>
              <p:cNvSpPr/>
              <p:nvPr/>
            </p:nvSpPr>
            <p:spPr>
              <a:xfrm>
                <a:off x="30762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2" name="Line 94"/>
              <p:cNvSpPr/>
              <p:nvPr/>
            </p:nvSpPr>
            <p:spPr>
              <a:xfrm>
                <a:off x="34383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3" name="Line 95"/>
              <p:cNvSpPr/>
              <p:nvPr/>
            </p:nvSpPr>
            <p:spPr>
              <a:xfrm>
                <a:off x="38001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4" name="Line 96"/>
              <p:cNvSpPr/>
              <p:nvPr/>
            </p:nvSpPr>
            <p:spPr>
              <a:xfrm>
                <a:off x="41619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5" name="Line 97"/>
              <p:cNvSpPr/>
              <p:nvPr/>
            </p:nvSpPr>
            <p:spPr>
              <a:xfrm>
                <a:off x="452412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6" name="Line 98"/>
              <p:cNvSpPr/>
              <p:nvPr/>
            </p:nvSpPr>
            <p:spPr>
              <a:xfrm>
                <a:off x="488592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7" name="Line 99"/>
              <p:cNvSpPr/>
              <p:nvPr/>
            </p:nvSpPr>
            <p:spPr>
              <a:xfrm>
                <a:off x="52480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8" name="Line 100"/>
              <p:cNvSpPr/>
              <p:nvPr/>
            </p:nvSpPr>
            <p:spPr>
              <a:xfrm>
                <a:off x="56098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09" name="Line 101"/>
              <p:cNvSpPr/>
              <p:nvPr/>
            </p:nvSpPr>
            <p:spPr>
              <a:xfrm>
                <a:off x="59716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0" name="Line 102"/>
              <p:cNvSpPr/>
              <p:nvPr/>
            </p:nvSpPr>
            <p:spPr>
              <a:xfrm>
                <a:off x="63338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1" name="Line 103"/>
              <p:cNvSpPr/>
              <p:nvPr/>
            </p:nvSpPr>
            <p:spPr>
              <a:xfrm>
                <a:off x="66956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2" name="Line 104"/>
              <p:cNvSpPr/>
              <p:nvPr/>
            </p:nvSpPr>
            <p:spPr>
              <a:xfrm>
                <a:off x="70578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3" name="Line 105"/>
              <p:cNvSpPr/>
              <p:nvPr/>
            </p:nvSpPr>
            <p:spPr>
              <a:xfrm>
                <a:off x="74196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4" name="Line 106"/>
              <p:cNvSpPr/>
              <p:nvPr/>
            </p:nvSpPr>
            <p:spPr>
              <a:xfrm>
                <a:off x="77817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5" name="Line 107"/>
              <p:cNvSpPr/>
              <p:nvPr/>
            </p:nvSpPr>
            <p:spPr>
              <a:xfrm>
                <a:off x="81435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6" name="Line 108"/>
              <p:cNvSpPr/>
              <p:nvPr/>
            </p:nvSpPr>
            <p:spPr>
              <a:xfrm>
                <a:off x="85053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17" name="Group 135"/>
            <p:cNvGrpSpPr/>
            <p:nvPr/>
          </p:nvGrpSpPr>
          <p:grpSpPr>
            <a:xfrm>
              <a:off x="1917720" y="172800"/>
              <a:ext cx="5865840" cy="671760"/>
              <a:chOff x="1917720" y="172800"/>
              <a:chExt cx="5865840" cy="671760"/>
            </a:xfrm>
          </p:grpSpPr>
          <p:sp>
            <p:nvSpPr>
              <p:cNvPr id="418" name="Line 110"/>
              <p:cNvSpPr/>
              <p:nvPr/>
            </p:nvSpPr>
            <p:spPr>
              <a:xfrm>
                <a:off x="4524480" y="174600"/>
                <a:ext cx="1440" cy="2257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19" name="Line 111"/>
              <p:cNvSpPr/>
              <p:nvPr/>
            </p:nvSpPr>
            <p:spPr>
              <a:xfrm>
                <a:off x="4718160" y="527040"/>
                <a:ext cx="1108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0" name="Line 112"/>
              <p:cNvSpPr/>
              <p:nvPr/>
            </p:nvSpPr>
            <p:spPr>
              <a:xfrm>
                <a:off x="4886280" y="555840"/>
                <a:ext cx="180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1" name="Line 113"/>
              <p:cNvSpPr/>
              <p:nvPr/>
            </p:nvSpPr>
            <p:spPr>
              <a:xfrm>
                <a:off x="5248440" y="714600"/>
                <a:ext cx="1440" cy="125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2" name="Line 114"/>
              <p:cNvSpPr/>
              <p:nvPr/>
            </p:nvSpPr>
            <p:spPr>
              <a:xfrm>
                <a:off x="6334200" y="352440"/>
                <a:ext cx="1440" cy="285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3" name="Line 115"/>
              <p:cNvSpPr/>
              <p:nvPr/>
            </p:nvSpPr>
            <p:spPr>
              <a:xfrm>
                <a:off x="618480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4" name="Line 116"/>
              <p:cNvSpPr/>
              <p:nvPr/>
            </p:nvSpPr>
            <p:spPr>
              <a:xfrm>
                <a:off x="6696000" y="374760"/>
                <a:ext cx="180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5" name="Line 117"/>
              <p:cNvSpPr/>
              <p:nvPr/>
            </p:nvSpPr>
            <p:spPr>
              <a:xfrm flipV="1">
                <a:off x="6699240" y="177480"/>
                <a:ext cx="1440" cy="79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6" name="Line 118"/>
              <p:cNvSpPr/>
              <p:nvPr/>
            </p:nvSpPr>
            <p:spPr>
              <a:xfrm flipV="1">
                <a:off x="7058160" y="174240"/>
                <a:ext cx="1440" cy="2890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7" name="Line 119"/>
              <p:cNvSpPr/>
              <p:nvPr/>
            </p:nvSpPr>
            <p:spPr>
              <a:xfrm flipH="1">
                <a:off x="7296120" y="527040"/>
                <a:ext cx="1238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8" name="Line 120"/>
              <p:cNvSpPr/>
              <p:nvPr/>
            </p:nvSpPr>
            <p:spPr>
              <a:xfrm flipH="1">
                <a:off x="7086240" y="527040"/>
                <a:ext cx="982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29" name="Line 121"/>
              <p:cNvSpPr/>
              <p:nvPr/>
            </p:nvSpPr>
            <p:spPr>
              <a:xfrm flipV="1">
                <a:off x="7419240" y="174240"/>
                <a:ext cx="1800" cy="4287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0" name="Line 122"/>
              <p:cNvSpPr/>
              <p:nvPr/>
            </p:nvSpPr>
            <p:spPr>
              <a:xfrm>
                <a:off x="7782120" y="746280"/>
                <a:ext cx="1440" cy="54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1" name="Line 123"/>
              <p:cNvSpPr/>
              <p:nvPr/>
            </p:nvSpPr>
            <p:spPr>
              <a:xfrm>
                <a:off x="3438720" y="181080"/>
                <a:ext cx="144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2" name="Line 124"/>
              <p:cNvSpPr/>
              <p:nvPr/>
            </p:nvSpPr>
            <p:spPr>
              <a:xfrm>
                <a:off x="3076560" y="176400"/>
                <a:ext cx="1800" cy="5349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3" name="Line 125"/>
              <p:cNvSpPr/>
              <p:nvPr/>
            </p:nvSpPr>
            <p:spPr>
              <a:xfrm flipH="1">
                <a:off x="3035160" y="527040"/>
                <a:ext cx="1080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4" name="Line 126"/>
              <p:cNvSpPr/>
              <p:nvPr/>
            </p:nvSpPr>
            <p:spPr>
              <a:xfrm>
                <a:off x="2822760" y="527040"/>
                <a:ext cx="950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5" name="Line 127"/>
              <p:cNvSpPr/>
              <p:nvPr/>
            </p:nvSpPr>
            <p:spPr>
              <a:xfrm flipH="1">
                <a:off x="2504880" y="527040"/>
                <a:ext cx="12996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6" name="Line 128"/>
              <p:cNvSpPr/>
              <p:nvPr/>
            </p:nvSpPr>
            <p:spPr>
              <a:xfrm>
                <a:off x="191772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7" name="Line 129"/>
              <p:cNvSpPr/>
              <p:nvPr/>
            </p:nvSpPr>
            <p:spPr>
              <a:xfrm>
                <a:off x="2349360" y="371520"/>
                <a:ext cx="1800" cy="473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8" name="Line 130"/>
              <p:cNvSpPr/>
              <p:nvPr/>
            </p:nvSpPr>
            <p:spPr>
              <a:xfrm>
                <a:off x="1990800" y="400320"/>
                <a:ext cx="1440" cy="247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39" name="Line 131"/>
              <p:cNvSpPr/>
              <p:nvPr/>
            </p:nvSpPr>
            <p:spPr>
              <a:xfrm flipH="1" flipV="1">
                <a:off x="2352240" y="172800"/>
                <a:ext cx="1800" cy="42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40" name="Line 132"/>
              <p:cNvSpPr/>
              <p:nvPr/>
            </p:nvSpPr>
            <p:spPr>
              <a:xfrm>
                <a:off x="2714760" y="285840"/>
                <a:ext cx="144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41" name="Line 133"/>
              <p:cNvSpPr/>
              <p:nvPr/>
            </p:nvSpPr>
            <p:spPr>
              <a:xfrm flipV="1">
                <a:off x="2714760" y="176040"/>
                <a:ext cx="1440" cy="3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42" name="Line 134"/>
              <p:cNvSpPr/>
              <p:nvPr/>
            </p:nvSpPr>
            <p:spPr>
              <a:xfrm>
                <a:off x="6777000" y="525600"/>
                <a:ext cx="127080" cy="14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Times New Roman Italic"/>
              </a:rPr>
              <a:t>            </a:t>
            </a:r>
            <a:r>
              <a:rPr b="0" lang="en-US" sz="4400" spc="-1" strike="noStrike">
                <a:solidFill>
                  <a:srgbClr val="262673"/>
                </a:solidFill>
                <a:latin typeface="Times New Roman Italic"/>
              </a:rPr>
              <a:t>Karma &amp; Dharma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444" name="Rectangle 138"/>
          <p:cNvSpPr/>
          <p:nvPr/>
        </p:nvSpPr>
        <p:spPr>
          <a:xfrm>
            <a:off x="762120" y="2666880"/>
            <a:ext cx="694692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rma:  “action” or “deed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action produces a Justified effect based on its moral worthines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ma determines all the particular circumstances and Situations of one’s lif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harma:  ethical duty based on the divine order of reality. The word is the closest equivalent to “religion.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1" descr=""/>
          <p:cNvPicPr/>
          <p:nvPr/>
        </p:nvPicPr>
        <p:blipFill>
          <a:blip r:embed="rId1"/>
          <a:stretch/>
        </p:blipFill>
        <p:spPr>
          <a:xfrm>
            <a:off x="228600" y="3348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136"/>
          <p:cNvGrpSpPr/>
          <p:nvPr/>
        </p:nvGrpSpPr>
        <p:grpSpPr>
          <a:xfrm>
            <a:off x="1054080" y="165240"/>
            <a:ext cx="7696080" cy="685800"/>
            <a:chOff x="1054080" y="165240"/>
            <a:chExt cx="7696080" cy="685800"/>
          </a:xfrm>
        </p:grpSpPr>
        <p:sp>
          <p:nvSpPr>
            <p:cNvPr id="447" name="Freeform 2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400"/>
                  </a:moveTo>
                  <a:lnTo>
                    <a:pt x="21600" y="21600"/>
                  </a:lnTo>
                  <a:cubicBezTo>
                    <a:pt x="21600" y="21600"/>
                    <a:pt x="10800" y="21600"/>
                    <a:pt x="0" y="21600"/>
                  </a:cubicBezTo>
                  <a:cubicBezTo>
                    <a:pt x="717" y="17250"/>
                    <a:pt x="753" y="3050"/>
                    <a:pt x="0" y="0"/>
                  </a:cubicBezTo>
                  <a:cubicBezTo>
                    <a:pt x="10800" y="0"/>
                    <a:pt x="21600" y="0"/>
                    <a:pt x="21600" y="0"/>
                  </a:cubicBezTo>
                  <a:lnTo>
                    <a:pt x="21600" y="2400"/>
                  </a:lnTo>
                  <a:close/>
                  <a:moveTo>
                    <a:pt x="21600" y="2400"/>
                  </a:moveTo>
                </a:path>
              </a:pathLst>
            </a:custGeom>
            <a:solidFill>
              <a:srgbClr val="b6ab82"/>
            </a:solidFill>
            <a:ln w="9360">
              <a:solidFill>
                <a:srgbClr val="cec7a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448" name="Group 87"/>
            <p:cNvGrpSpPr/>
            <p:nvPr/>
          </p:nvGrpSpPr>
          <p:grpSpPr>
            <a:xfrm>
              <a:off x="1897200" y="165240"/>
              <a:ext cx="6031800" cy="681120"/>
              <a:chOff x="1897200" y="165240"/>
              <a:chExt cx="6031800" cy="681120"/>
            </a:xfrm>
          </p:grpSpPr>
          <p:grpSp>
            <p:nvGrpSpPr>
              <p:cNvPr id="449" name="Group 50"/>
              <p:cNvGrpSpPr/>
              <p:nvPr/>
            </p:nvGrpSpPr>
            <p:grpSpPr>
              <a:xfrm>
                <a:off x="1897200" y="166680"/>
                <a:ext cx="3505680" cy="677880"/>
                <a:chOff x="1897200" y="166680"/>
                <a:chExt cx="3505680" cy="677880"/>
              </a:xfrm>
            </p:grpSpPr>
            <p:sp>
              <p:nvSpPr>
                <p:cNvPr id="450" name="Freeform 3"/>
                <p:cNvSpPr/>
                <p:nvPr/>
              </p:nvSpPr>
              <p:spPr>
                <a:xfrm>
                  <a:off x="3641760" y="762120"/>
                  <a:ext cx="2088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1" name="Freeform 4"/>
                <p:cNvSpPr/>
                <p:nvPr/>
              </p:nvSpPr>
              <p:spPr>
                <a:xfrm>
                  <a:off x="3327480" y="792000"/>
                  <a:ext cx="38160" cy="2556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2" name="Freeform 5"/>
                <p:cNvSpPr/>
                <p:nvPr/>
              </p:nvSpPr>
              <p:spPr>
                <a:xfrm>
                  <a:off x="3279960" y="790560"/>
                  <a:ext cx="428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3" name="Freeform 6"/>
                <p:cNvSpPr/>
                <p:nvPr/>
              </p:nvSpPr>
              <p:spPr>
                <a:xfrm>
                  <a:off x="3030840" y="652320"/>
                  <a:ext cx="237960" cy="14616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4" name="Freeform 7"/>
                <p:cNvSpPr/>
                <p:nvPr/>
              </p:nvSpPr>
              <p:spPr>
                <a:xfrm>
                  <a:off x="3176640" y="642960"/>
                  <a:ext cx="10332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5" name="Freeform 8"/>
                <p:cNvSpPr/>
                <p:nvPr/>
              </p:nvSpPr>
              <p:spPr>
                <a:xfrm>
                  <a:off x="327996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6" name="Freeform 9"/>
                <p:cNvSpPr/>
                <p:nvPr/>
              </p:nvSpPr>
              <p:spPr>
                <a:xfrm>
                  <a:off x="3276720" y="717480"/>
                  <a:ext cx="4464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7" name="Freeform 10"/>
                <p:cNvSpPr/>
                <p:nvPr/>
              </p:nvSpPr>
              <p:spPr>
                <a:xfrm>
                  <a:off x="3362400" y="68724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8" name="Freeform 11"/>
                <p:cNvSpPr/>
                <p:nvPr/>
              </p:nvSpPr>
              <p:spPr>
                <a:xfrm>
                  <a:off x="3368880" y="736560"/>
                  <a:ext cx="31680" cy="1116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59" name="Freeform 12"/>
                <p:cNvSpPr/>
                <p:nvPr/>
              </p:nvSpPr>
              <p:spPr>
                <a:xfrm>
                  <a:off x="3402000" y="7128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0" name="Freeform 13"/>
                <p:cNvSpPr/>
                <p:nvPr/>
              </p:nvSpPr>
              <p:spPr>
                <a:xfrm>
                  <a:off x="3413160" y="725400"/>
                  <a:ext cx="19224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1" name="Freeform 14"/>
                <p:cNvSpPr/>
                <p:nvPr/>
              </p:nvSpPr>
              <p:spPr>
                <a:xfrm>
                  <a:off x="3581640" y="735120"/>
                  <a:ext cx="50760" cy="4104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2" name="Freeform 15"/>
                <p:cNvSpPr/>
                <p:nvPr/>
              </p:nvSpPr>
              <p:spPr>
                <a:xfrm>
                  <a:off x="3762720" y="71136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3051" h="21600">
                      <a:moveTo>
                        <a:pt x="1490" y="13745"/>
                      </a:moveTo>
                      <a:cubicBezTo>
                        <a:pt x="-1002" y="5891"/>
                        <a:pt x="-1002" y="2945"/>
                        <a:pt x="6475" y="0"/>
                      </a:cubicBezTo>
                      <a:cubicBezTo>
                        <a:pt x="16444" y="3927"/>
                        <a:pt x="13952" y="15709"/>
                        <a:pt x="6475" y="21600"/>
                      </a:cubicBezTo>
                      <a:cubicBezTo>
                        <a:pt x="-5156" y="16691"/>
                        <a:pt x="5644" y="2945"/>
                        <a:pt x="1490" y="13745"/>
                      </a:cubicBezTo>
                      <a:close/>
                      <a:moveTo>
                        <a:pt x="1490" y="137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3" name="Freeform 16"/>
                <p:cNvSpPr/>
                <p:nvPr/>
              </p:nvSpPr>
              <p:spPr>
                <a:xfrm>
                  <a:off x="330840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4" name="Freeform 17"/>
                <p:cNvSpPr/>
                <p:nvPr/>
              </p:nvSpPr>
              <p:spPr>
                <a:xfrm>
                  <a:off x="3292560" y="523800"/>
                  <a:ext cx="58680" cy="9216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5" name="Freeform 18"/>
                <p:cNvSpPr/>
                <p:nvPr/>
              </p:nvSpPr>
              <p:spPr>
                <a:xfrm>
                  <a:off x="3308400" y="59040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6" name="Freeform 19"/>
                <p:cNvSpPr/>
                <p:nvPr/>
              </p:nvSpPr>
              <p:spPr>
                <a:xfrm>
                  <a:off x="3262320" y="5968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7" name="Freeform 20"/>
                <p:cNvSpPr/>
                <p:nvPr/>
              </p:nvSpPr>
              <p:spPr>
                <a:xfrm>
                  <a:off x="4928040" y="56052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963" y="21523"/>
                      </a:moveTo>
                      <a:cubicBezTo>
                        <a:pt x="1468" y="21600"/>
                        <a:pt x="1146" y="19448"/>
                        <a:pt x="1101" y="19217"/>
                      </a:cubicBezTo>
                      <a:cubicBezTo>
                        <a:pt x="1055" y="19063"/>
                        <a:pt x="1009" y="18833"/>
                        <a:pt x="1009" y="18833"/>
                      </a:cubicBezTo>
                      <a:cubicBezTo>
                        <a:pt x="963" y="18679"/>
                        <a:pt x="917" y="16988"/>
                        <a:pt x="734" y="16757"/>
                      </a:cubicBezTo>
                      <a:cubicBezTo>
                        <a:pt x="596" y="16604"/>
                        <a:pt x="183" y="16527"/>
                        <a:pt x="183" y="16527"/>
                      </a:cubicBezTo>
                      <a:cubicBezTo>
                        <a:pt x="0" y="15912"/>
                        <a:pt x="138" y="15374"/>
                        <a:pt x="0" y="14682"/>
                      </a:cubicBezTo>
                      <a:cubicBezTo>
                        <a:pt x="92" y="14221"/>
                        <a:pt x="321" y="14298"/>
                        <a:pt x="550" y="13836"/>
                      </a:cubicBezTo>
                      <a:cubicBezTo>
                        <a:pt x="642" y="13221"/>
                        <a:pt x="642" y="12991"/>
                        <a:pt x="275" y="12683"/>
                      </a:cubicBezTo>
                      <a:cubicBezTo>
                        <a:pt x="183" y="12530"/>
                        <a:pt x="92" y="12453"/>
                        <a:pt x="92" y="12299"/>
                      </a:cubicBezTo>
                      <a:cubicBezTo>
                        <a:pt x="92" y="11530"/>
                        <a:pt x="734" y="9455"/>
                        <a:pt x="1284" y="9224"/>
                      </a:cubicBezTo>
                      <a:cubicBezTo>
                        <a:pt x="1468" y="8532"/>
                        <a:pt x="1834" y="8071"/>
                        <a:pt x="2018" y="7379"/>
                      </a:cubicBezTo>
                      <a:cubicBezTo>
                        <a:pt x="1789" y="6380"/>
                        <a:pt x="1743" y="6534"/>
                        <a:pt x="1926" y="5381"/>
                      </a:cubicBezTo>
                      <a:cubicBezTo>
                        <a:pt x="1743" y="4612"/>
                        <a:pt x="1559" y="3690"/>
                        <a:pt x="1101" y="3305"/>
                      </a:cubicBezTo>
                      <a:cubicBezTo>
                        <a:pt x="825" y="2767"/>
                        <a:pt x="459" y="2844"/>
                        <a:pt x="917" y="2460"/>
                      </a:cubicBezTo>
                      <a:cubicBezTo>
                        <a:pt x="1238" y="2614"/>
                        <a:pt x="1192" y="2460"/>
                        <a:pt x="1192" y="2767"/>
                      </a:cubicBezTo>
                      <a:cubicBezTo>
                        <a:pt x="1559" y="3152"/>
                        <a:pt x="1789" y="2998"/>
                        <a:pt x="2201" y="2690"/>
                      </a:cubicBezTo>
                      <a:cubicBezTo>
                        <a:pt x="2064" y="1691"/>
                        <a:pt x="2201" y="1076"/>
                        <a:pt x="2935" y="846"/>
                      </a:cubicBezTo>
                      <a:cubicBezTo>
                        <a:pt x="3256" y="615"/>
                        <a:pt x="3439" y="231"/>
                        <a:pt x="3761" y="0"/>
                      </a:cubicBezTo>
                      <a:cubicBezTo>
                        <a:pt x="3852" y="77"/>
                        <a:pt x="4036" y="0"/>
                        <a:pt x="4036" y="154"/>
                      </a:cubicBezTo>
                      <a:cubicBezTo>
                        <a:pt x="4127" y="922"/>
                        <a:pt x="3439" y="999"/>
                        <a:pt x="4219" y="692"/>
                      </a:cubicBezTo>
                      <a:cubicBezTo>
                        <a:pt x="4311" y="615"/>
                        <a:pt x="4403" y="384"/>
                        <a:pt x="4494" y="384"/>
                      </a:cubicBezTo>
                      <a:cubicBezTo>
                        <a:pt x="4678" y="307"/>
                        <a:pt x="4861" y="538"/>
                        <a:pt x="5045" y="615"/>
                      </a:cubicBezTo>
                      <a:cubicBezTo>
                        <a:pt x="5136" y="615"/>
                        <a:pt x="5320" y="692"/>
                        <a:pt x="5320" y="692"/>
                      </a:cubicBezTo>
                      <a:cubicBezTo>
                        <a:pt x="5595" y="1230"/>
                        <a:pt x="5916" y="999"/>
                        <a:pt x="6466" y="1076"/>
                      </a:cubicBezTo>
                      <a:cubicBezTo>
                        <a:pt x="6558" y="1614"/>
                        <a:pt x="6741" y="1691"/>
                        <a:pt x="7108" y="1845"/>
                      </a:cubicBezTo>
                      <a:cubicBezTo>
                        <a:pt x="7292" y="1691"/>
                        <a:pt x="7475" y="1537"/>
                        <a:pt x="7659" y="1307"/>
                      </a:cubicBezTo>
                      <a:cubicBezTo>
                        <a:pt x="7750" y="1230"/>
                        <a:pt x="7934" y="1076"/>
                        <a:pt x="7934" y="1076"/>
                      </a:cubicBezTo>
                      <a:cubicBezTo>
                        <a:pt x="8943" y="1999"/>
                        <a:pt x="8025" y="1537"/>
                        <a:pt x="8943" y="1076"/>
                      </a:cubicBezTo>
                      <a:cubicBezTo>
                        <a:pt x="9493" y="1307"/>
                        <a:pt x="9218" y="1999"/>
                        <a:pt x="9676" y="2460"/>
                      </a:cubicBezTo>
                      <a:cubicBezTo>
                        <a:pt x="9814" y="2921"/>
                        <a:pt x="10273" y="4228"/>
                        <a:pt x="10594" y="4535"/>
                      </a:cubicBezTo>
                      <a:cubicBezTo>
                        <a:pt x="11052" y="5381"/>
                        <a:pt x="10777" y="5150"/>
                        <a:pt x="11236" y="5381"/>
                      </a:cubicBezTo>
                      <a:cubicBezTo>
                        <a:pt x="11419" y="5304"/>
                        <a:pt x="11603" y="5304"/>
                        <a:pt x="11786" y="5227"/>
                      </a:cubicBezTo>
                      <a:cubicBezTo>
                        <a:pt x="11969" y="5150"/>
                        <a:pt x="12382" y="4996"/>
                        <a:pt x="12382" y="4996"/>
                      </a:cubicBezTo>
                      <a:cubicBezTo>
                        <a:pt x="12749" y="5073"/>
                        <a:pt x="12978" y="5150"/>
                        <a:pt x="13299" y="5458"/>
                      </a:cubicBezTo>
                      <a:cubicBezTo>
                        <a:pt x="13941" y="6764"/>
                        <a:pt x="12932" y="4766"/>
                        <a:pt x="13758" y="6226"/>
                      </a:cubicBezTo>
                      <a:cubicBezTo>
                        <a:pt x="13850" y="6457"/>
                        <a:pt x="14125" y="6918"/>
                        <a:pt x="14125" y="6918"/>
                      </a:cubicBezTo>
                      <a:cubicBezTo>
                        <a:pt x="14262" y="7533"/>
                        <a:pt x="14446" y="7917"/>
                        <a:pt x="14583" y="8532"/>
                      </a:cubicBezTo>
                      <a:cubicBezTo>
                        <a:pt x="14629" y="8763"/>
                        <a:pt x="14721" y="8994"/>
                        <a:pt x="14767" y="9224"/>
                      </a:cubicBezTo>
                      <a:cubicBezTo>
                        <a:pt x="14813" y="9378"/>
                        <a:pt x="14859" y="9609"/>
                        <a:pt x="14859" y="9609"/>
                      </a:cubicBezTo>
                      <a:cubicBezTo>
                        <a:pt x="14721" y="10147"/>
                        <a:pt x="14354" y="10300"/>
                        <a:pt x="14217" y="10915"/>
                      </a:cubicBezTo>
                      <a:cubicBezTo>
                        <a:pt x="14354" y="11607"/>
                        <a:pt x="14538" y="11223"/>
                        <a:pt x="14767" y="10838"/>
                      </a:cubicBezTo>
                      <a:cubicBezTo>
                        <a:pt x="15638" y="10992"/>
                        <a:pt x="15546" y="10915"/>
                        <a:pt x="15684" y="11915"/>
                      </a:cubicBezTo>
                      <a:cubicBezTo>
                        <a:pt x="16097" y="11530"/>
                        <a:pt x="16280" y="11684"/>
                        <a:pt x="16693" y="12068"/>
                      </a:cubicBezTo>
                      <a:cubicBezTo>
                        <a:pt x="16922" y="12453"/>
                        <a:pt x="17060" y="12760"/>
                        <a:pt x="17427" y="12914"/>
                      </a:cubicBezTo>
                      <a:cubicBezTo>
                        <a:pt x="17473" y="12991"/>
                        <a:pt x="17564" y="13144"/>
                        <a:pt x="17518" y="13221"/>
                      </a:cubicBezTo>
                      <a:cubicBezTo>
                        <a:pt x="17427" y="13529"/>
                        <a:pt x="16876" y="13221"/>
                        <a:pt x="17518" y="13529"/>
                      </a:cubicBezTo>
                      <a:cubicBezTo>
                        <a:pt x="17702" y="13452"/>
                        <a:pt x="17885" y="13298"/>
                        <a:pt x="18069" y="13221"/>
                      </a:cubicBezTo>
                      <a:cubicBezTo>
                        <a:pt x="18161" y="13221"/>
                        <a:pt x="18344" y="13144"/>
                        <a:pt x="18344" y="13144"/>
                      </a:cubicBezTo>
                      <a:cubicBezTo>
                        <a:pt x="18940" y="13606"/>
                        <a:pt x="19582" y="13759"/>
                        <a:pt x="20132" y="14221"/>
                      </a:cubicBezTo>
                      <a:cubicBezTo>
                        <a:pt x="20224" y="14605"/>
                        <a:pt x="20408" y="14912"/>
                        <a:pt x="20499" y="15297"/>
                      </a:cubicBezTo>
                      <a:cubicBezTo>
                        <a:pt x="20775" y="15220"/>
                        <a:pt x="21096" y="14989"/>
                        <a:pt x="21325" y="15451"/>
                      </a:cubicBezTo>
                      <a:cubicBezTo>
                        <a:pt x="21462" y="15758"/>
                        <a:pt x="21600" y="16527"/>
                        <a:pt x="21600" y="16527"/>
                      </a:cubicBezTo>
                      <a:cubicBezTo>
                        <a:pt x="21462" y="17757"/>
                        <a:pt x="21508" y="19063"/>
                        <a:pt x="20683" y="19832"/>
                      </a:cubicBezTo>
                      <a:cubicBezTo>
                        <a:pt x="20499" y="20140"/>
                        <a:pt x="20041" y="21139"/>
                        <a:pt x="19949" y="21600"/>
                      </a:cubicBez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8" name="Freeform 21"/>
                <p:cNvSpPr/>
                <p:nvPr/>
              </p:nvSpPr>
              <p:spPr>
                <a:xfrm>
                  <a:off x="4304160" y="168120"/>
                  <a:ext cx="647640" cy="446400"/>
                </a:xfrm>
                <a:custGeom>
                  <a:avLst/>
                  <a:gdLst/>
                  <a:ahLst/>
                  <a:rect l="l" t="t" r="r" b="b"/>
                  <a:pathLst>
                    <a:path w="21006" h="21465">
                      <a:moveTo>
                        <a:pt x="1623" y="922"/>
                      </a:moveTo>
                      <a:lnTo>
                        <a:pt x="8735" y="103"/>
                      </a:lnTo>
                      <a:cubicBezTo>
                        <a:pt x="10733" y="512"/>
                        <a:pt x="10030" y="-51"/>
                        <a:pt x="10228" y="1331"/>
                      </a:cubicBezTo>
                      <a:cubicBezTo>
                        <a:pt x="10623" y="1177"/>
                        <a:pt x="10447" y="973"/>
                        <a:pt x="10843" y="819"/>
                      </a:cubicBezTo>
                      <a:cubicBezTo>
                        <a:pt x="11018" y="896"/>
                        <a:pt x="11172" y="1126"/>
                        <a:pt x="11369" y="1126"/>
                      </a:cubicBezTo>
                      <a:cubicBezTo>
                        <a:pt x="11545" y="1126"/>
                        <a:pt x="11896" y="922"/>
                        <a:pt x="11896" y="922"/>
                      </a:cubicBezTo>
                      <a:cubicBezTo>
                        <a:pt x="12028" y="1357"/>
                        <a:pt x="11940" y="1485"/>
                        <a:pt x="11721" y="1843"/>
                      </a:cubicBezTo>
                      <a:cubicBezTo>
                        <a:pt x="12006" y="2867"/>
                        <a:pt x="11896" y="2559"/>
                        <a:pt x="12511" y="3276"/>
                      </a:cubicBezTo>
                      <a:cubicBezTo>
                        <a:pt x="12643" y="3737"/>
                        <a:pt x="12774" y="3737"/>
                        <a:pt x="13125" y="3481"/>
                      </a:cubicBezTo>
                      <a:cubicBezTo>
                        <a:pt x="12994" y="2994"/>
                        <a:pt x="12862" y="2687"/>
                        <a:pt x="12686" y="2252"/>
                      </a:cubicBezTo>
                      <a:cubicBezTo>
                        <a:pt x="12621" y="2048"/>
                        <a:pt x="12511" y="1638"/>
                        <a:pt x="12511" y="1638"/>
                      </a:cubicBezTo>
                      <a:cubicBezTo>
                        <a:pt x="12664" y="1075"/>
                        <a:pt x="12928" y="1382"/>
                        <a:pt x="13125" y="1740"/>
                      </a:cubicBezTo>
                      <a:cubicBezTo>
                        <a:pt x="13191" y="2150"/>
                        <a:pt x="13169" y="2943"/>
                        <a:pt x="13564" y="2252"/>
                      </a:cubicBezTo>
                      <a:cubicBezTo>
                        <a:pt x="14047" y="2431"/>
                        <a:pt x="14003" y="2611"/>
                        <a:pt x="13916" y="3174"/>
                      </a:cubicBezTo>
                      <a:cubicBezTo>
                        <a:pt x="14091" y="3788"/>
                        <a:pt x="14421" y="3558"/>
                        <a:pt x="14794" y="3276"/>
                      </a:cubicBezTo>
                      <a:cubicBezTo>
                        <a:pt x="14947" y="2713"/>
                        <a:pt x="14596" y="3122"/>
                        <a:pt x="14794" y="2457"/>
                      </a:cubicBezTo>
                      <a:cubicBezTo>
                        <a:pt x="14816" y="2355"/>
                        <a:pt x="14969" y="2406"/>
                        <a:pt x="15057" y="2355"/>
                      </a:cubicBezTo>
                      <a:cubicBezTo>
                        <a:pt x="15145" y="2304"/>
                        <a:pt x="15233" y="2227"/>
                        <a:pt x="15321" y="2150"/>
                      </a:cubicBezTo>
                      <a:cubicBezTo>
                        <a:pt x="15562" y="1331"/>
                        <a:pt x="14925" y="1331"/>
                        <a:pt x="16111" y="1126"/>
                      </a:cubicBezTo>
                      <a:cubicBezTo>
                        <a:pt x="16243" y="640"/>
                        <a:pt x="16089" y="179"/>
                        <a:pt x="16550" y="0"/>
                      </a:cubicBezTo>
                      <a:cubicBezTo>
                        <a:pt x="17121" y="231"/>
                        <a:pt x="16879" y="922"/>
                        <a:pt x="17428" y="1126"/>
                      </a:cubicBezTo>
                      <a:cubicBezTo>
                        <a:pt x="18064" y="870"/>
                        <a:pt x="17494" y="1561"/>
                        <a:pt x="17340" y="1740"/>
                      </a:cubicBezTo>
                      <a:cubicBezTo>
                        <a:pt x="17143" y="2406"/>
                        <a:pt x="17099" y="2406"/>
                        <a:pt x="17428" y="2969"/>
                      </a:cubicBezTo>
                      <a:cubicBezTo>
                        <a:pt x="17406" y="3071"/>
                        <a:pt x="17406" y="3199"/>
                        <a:pt x="17340" y="3276"/>
                      </a:cubicBezTo>
                      <a:cubicBezTo>
                        <a:pt x="17252" y="3353"/>
                        <a:pt x="17033" y="3250"/>
                        <a:pt x="16989" y="3378"/>
                      </a:cubicBezTo>
                      <a:cubicBezTo>
                        <a:pt x="16945" y="3583"/>
                        <a:pt x="17164" y="3993"/>
                        <a:pt x="17164" y="3993"/>
                      </a:cubicBezTo>
                      <a:cubicBezTo>
                        <a:pt x="17077" y="4069"/>
                        <a:pt x="17011" y="4172"/>
                        <a:pt x="16901" y="4197"/>
                      </a:cubicBezTo>
                      <a:cubicBezTo>
                        <a:pt x="16813" y="4223"/>
                        <a:pt x="16703" y="4018"/>
                        <a:pt x="16638" y="4095"/>
                      </a:cubicBezTo>
                      <a:cubicBezTo>
                        <a:pt x="16462" y="4300"/>
                        <a:pt x="17252" y="4607"/>
                        <a:pt x="17252" y="4607"/>
                      </a:cubicBezTo>
                      <a:cubicBezTo>
                        <a:pt x="17472" y="5349"/>
                        <a:pt x="16835" y="4812"/>
                        <a:pt x="16550" y="4709"/>
                      </a:cubicBezTo>
                      <a:cubicBezTo>
                        <a:pt x="16660" y="4914"/>
                        <a:pt x="16791" y="5119"/>
                        <a:pt x="16901" y="5323"/>
                      </a:cubicBezTo>
                      <a:cubicBezTo>
                        <a:pt x="17011" y="5528"/>
                        <a:pt x="17428" y="5733"/>
                        <a:pt x="17428" y="5733"/>
                      </a:cubicBezTo>
                      <a:cubicBezTo>
                        <a:pt x="17669" y="6142"/>
                        <a:pt x="17472" y="6219"/>
                        <a:pt x="17603" y="6654"/>
                      </a:cubicBezTo>
                      <a:cubicBezTo>
                        <a:pt x="17450" y="7166"/>
                        <a:pt x="17230" y="7652"/>
                        <a:pt x="17077" y="8190"/>
                      </a:cubicBezTo>
                      <a:cubicBezTo>
                        <a:pt x="17011" y="8394"/>
                        <a:pt x="16901" y="8804"/>
                        <a:pt x="16901" y="8804"/>
                      </a:cubicBezTo>
                      <a:cubicBezTo>
                        <a:pt x="17055" y="9316"/>
                        <a:pt x="17757" y="10032"/>
                        <a:pt x="18043" y="10544"/>
                      </a:cubicBezTo>
                      <a:cubicBezTo>
                        <a:pt x="18152" y="10749"/>
                        <a:pt x="18284" y="10954"/>
                        <a:pt x="18394" y="11158"/>
                      </a:cubicBezTo>
                      <a:cubicBezTo>
                        <a:pt x="18460" y="11261"/>
                        <a:pt x="18569" y="11466"/>
                        <a:pt x="18569" y="11466"/>
                      </a:cubicBezTo>
                      <a:cubicBezTo>
                        <a:pt x="18547" y="11645"/>
                        <a:pt x="18591" y="11875"/>
                        <a:pt x="18482" y="11977"/>
                      </a:cubicBezTo>
                      <a:cubicBezTo>
                        <a:pt x="18350" y="12105"/>
                        <a:pt x="18064" y="11491"/>
                        <a:pt x="18043" y="11466"/>
                      </a:cubicBezTo>
                      <a:cubicBezTo>
                        <a:pt x="17625" y="10979"/>
                        <a:pt x="17143" y="10723"/>
                        <a:pt x="16813" y="10135"/>
                      </a:cubicBezTo>
                      <a:cubicBezTo>
                        <a:pt x="16703" y="9649"/>
                        <a:pt x="16638" y="9444"/>
                        <a:pt x="16199" y="9623"/>
                      </a:cubicBezTo>
                      <a:cubicBezTo>
                        <a:pt x="15562" y="9367"/>
                        <a:pt x="15847" y="9367"/>
                        <a:pt x="15321" y="9521"/>
                      </a:cubicBezTo>
                      <a:cubicBezTo>
                        <a:pt x="14925" y="10237"/>
                        <a:pt x="15167" y="10058"/>
                        <a:pt x="14706" y="10237"/>
                      </a:cubicBezTo>
                      <a:cubicBezTo>
                        <a:pt x="14179" y="9828"/>
                        <a:pt x="14091" y="9930"/>
                        <a:pt x="13389" y="10032"/>
                      </a:cubicBezTo>
                      <a:cubicBezTo>
                        <a:pt x="13147" y="10467"/>
                        <a:pt x="13016" y="10851"/>
                        <a:pt x="12774" y="11261"/>
                      </a:cubicBezTo>
                      <a:cubicBezTo>
                        <a:pt x="12994" y="12003"/>
                        <a:pt x="12840" y="11696"/>
                        <a:pt x="13125" y="12182"/>
                      </a:cubicBezTo>
                      <a:cubicBezTo>
                        <a:pt x="12840" y="13206"/>
                        <a:pt x="13477" y="13974"/>
                        <a:pt x="13916" y="14741"/>
                      </a:cubicBezTo>
                      <a:cubicBezTo>
                        <a:pt x="14113" y="15074"/>
                        <a:pt x="14113" y="15330"/>
                        <a:pt x="14443" y="15458"/>
                      </a:cubicBezTo>
                      <a:cubicBezTo>
                        <a:pt x="14750" y="15995"/>
                        <a:pt x="14991" y="15893"/>
                        <a:pt x="15408" y="15560"/>
                      </a:cubicBezTo>
                      <a:cubicBezTo>
                        <a:pt x="15825" y="15714"/>
                        <a:pt x="15825" y="15458"/>
                        <a:pt x="15935" y="15049"/>
                      </a:cubicBezTo>
                      <a:cubicBezTo>
                        <a:pt x="15957" y="14716"/>
                        <a:pt x="15869" y="14332"/>
                        <a:pt x="16023" y="14025"/>
                      </a:cubicBezTo>
                      <a:cubicBezTo>
                        <a:pt x="16111" y="13846"/>
                        <a:pt x="16550" y="13820"/>
                        <a:pt x="16550" y="13820"/>
                      </a:cubicBezTo>
                      <a:cubicBezTo>
                        <a:pt x="17011" y="13948"/>
                        <a:pt x="17077" y="14076"/>
                        <a:pt x="16813" y="14537"/>
                      </a:cubicBezTo>
                      <a:cubicBezTo>
                        <a:pt x="16923" y="15049"/>
                        <a:pt x="17164" y="15432"/>
                        <a:pt x="16725" y="15765"/>
                      </a:cubicBezTo>
                      <a:cubicBezTo>
                        <a:pt x="16703" y="15867"/>
                        <a:pt x="16594" y="15970"/>
                        <a:pt x="16638" y="16072"/>
                      </a:cubicBezTo>
                      <a:cubicBezTo>
                        <a:pt x="16682" y="16175"/>
                        <a:pt x="16835" y="16175"/>
                        <a:pt x="16901" y="16277"/>
                      </a:cubicBezTo>
                      <a:cubicBezTo>
                        <a:pt x="17121" y="16610"/>
                        <a:pt x="17077" y="16840"/>
                        <a:pt x="17428" y="17096"/>
                      </a:cubicBezTo>
                      <a:cubicBezTo>
                        <a:pt x="17603" y="17019"/>
                        <a:pt x="17779" y="16968"/>
                        <a:pt x="17955" y="16891"/>
                      </a:cubicBezTo>
                      <a:cubicBezTo>
                        <a:pt x="18043" y="16866"/>
                        <a:pt x="18218" y="16789"/>
                        <a:pt x="18218" y="16789"/>
                      </a:cubicBezTo>
                      <a:cubicBezTo>
                        <a:pt x="18635" y="16942"/>
                        <a:pt x="18789" y="17352"/>
                        <a:pt x="18921" y="17813"/>
                      </a:cubicBezTo>
                      <a:cubicBezTo>
                        <a:pt x="18679" y="18657"/>
                        <a:pt x="19294" y="20269"/>
                        <a:pt x="20062" y="20576"/>
                      </a:cubicBezTo>
                      <a:cubicBezTo>
                        <a:pt x="20413" y="20449"/>
                        <a:pt x="20479" y="20218"/>
                        <a:pt x="20852" y="20372"/>
                      </a:cubicBezTo>
                      <a:cubicBezTo>
                        <a:pt x="21423" y="21370"/>
                        <a:pt x="20194" y="20013"/>
                        <a:pt x="20501" y="21088"/>
                      </a:cubicBezTo>
                      <a:cubicBezTo>
                        <a:pt x="20369" y="21549"/>
                        <a:pt x="20238" y="21549"/>
                        <a:pt x="19886" y="21293"/>
                      </a:cubicBezTo>
                      <a:cubicBezTo>
                        <a:pt x="19645" y="20858"/>
                        <a:pt x="19360" y="20960"/>
                        <a:pt x="19008" y="20679"/>
                      </a:cubicBezTo>
                      <a:cubicBezTo>
                        <a:pt x="18503" y="19809"/>
                        <a:pt x="19184" y="20832"/>
                        <a:pt x="18569" y="20269"/>
                      </a:cubicBezTo>
                      <a:cubicBezTo>
                        <a:pt x="18328" y="20039"/>
                        <a:pt x="18262" y="19604"/>
                        <a:pt x="18043" y="19348"/>
                      </a:cubicBezTo>
                      <a:cubicBezTo>
                        <a:pt x="17911" y="18862"/>
                        <a:pt x="17757" y="18478"/>
                        <a:pt x="17340" y="18324"/>
                      </a:cubicBezTo>
                      <a:cubicBezTo>
                        <a:pt x="17186" y="17761"/>
                        <a:pt x="17384" y="18171"/>
                        <a:pt x="16901" y="18120"/>
                      </a:cubicBezTo>
                      <a:cubicBezTo>
                        <a:pt x="16660" y="18094"/>
                        <a:pt x="16199" y="17915"/>
                        <a:pt x="16199" y="17915"/>
                      </a:cubicBezTo>
                      <a:cubicBezTo>
                        <a:pt x="15825" y="17633"/>
                        <a:pt x="15628" y="17198"/>
                        <a:pt x="15233" y="16891"/>
                      </a:cubicBezTo>
                      <a:cubicBezTo>
                        <a:pt x="15057" y="16968"/>
                        <a:pt x="14903" y="17173"/>
                        <a:pt x="14706" y="17198"/>
                      </a:cubicBezTo>
                      <a:cubicBezTo>
                        <a:pt x="14245" y="17275"/>
                        <a:pt x="13652" y="16763"/>
                        <a:pt x="13301" y="16482"/>
                      </a:cubicBezTo>
                      <a:cubicBezTo>
                        <a:pt x="12994" y="16251"/>
                        <a:pt x="12555" y="16303"/>
                        <a:pt x="12247" y="16072"/>
                      </a:cubicBezTo>
                      <a:cubicBezTo>
                        <a:pt x="11808" y="15740"/>
                        <a:pt x="11347" y="15484"/>
                        <a:pt x="10930" y="15151"/>
                      </a:cubicBezTo>
                      <a:cubicBezTo>
                        <a:pt x="11084" y="14588"/>
                        <a:pt x="10996" y="14050"/>
                        <a:pt x="10579" y="13718"/>
                      </a:cubicBezTo>
                      <a:cubicBezTo>
                        <a:pt x="10469" y="13308"/>
                        <a:pt x="10272" y="13129"/>
                        <a:pt x="9964" y="12899"/>
                      </a:cubicBezTo>
                      <a:cubicBezTo>
                        <a:pt x="9503" y="12080"/>
                        <a:pt x="10118" y="13078"/>
                        <a:pt x="9525" y="12387"/>
                      </a:cubicBezTo>
                      <a:cubicBezTo>
                        <a:pt x="9394" y="12233"/>
                        <a:pt x="9394" y="11926"/>
                        <a:pt x="9262" y="11773"/>
                      </a:cubicBezTo>
                      <a:cubicBezTo>
                        <a:pt x="9196" y="11696"/>
                        <a:pt x="9086" y="11696"/>
                        <a:pt x="8999" y="11670"/>
                      </a:cubicBezTo>
                      <a:cubicBezTo>
                        <a:pt x="8757" y="11389"/>
                        <a:pt x="8208" y="10954"/>
                        <a:pt x="8208" y="10954"/>
                      </a:cubicBezTo>
                      <a:cubicBezTo>
                        <a:pt x="7967" y="10519"/>
                        <a:pt x="7682" y="10160"/>
                        <a:pt x="7418" y="9725"/>
                      </a:cubicBezTo>
                      <a:cubicBezTo>
                        <a:pt x="7374" y="9623"/>
                        <a:pt x="7396" y="9495"/>
                        <a:pt x="7330" y="9418"/>
                      </a:cubicBezTo>
                      <a:cubicBezTo>
                        <a:pt x="7264" y="9341"/>
                        <a:pt x="7155" y="9341"/>
                        <a:pt x="7067" y="9316"/>
                      </a:cubicBezTo>
                      <a:cubicBezTo>
                        <a:pt x="6891" y="9930"/>
                        <a:pt x="7330" y="10135"/>
                        <a:pt x="7594" y="10544"/>
                      </a:cubicBezTo>
                      <a:cubicBezTo>
                        <a:pt x="7901" y="11005"/>
                        <a:pt x="7989" y="11363"/>
                        <a:pt x="8384" y="11670"/>
                      </a:cubicBezTo>
                      <a:cubicBezTo>
                        <a:pt x="8801" y="12413"/>
                        <a:pt x="8582" y="12105"/>
                        <a:pt x="8999" y="12592"/>
                      </a:cubicBezTo>
                      <a:cubicBezTo>
                        <a:pt x="9108" y="13001"/>
                        <a:pt x="9218" y="13180"/>
                        <a:pt x="9525" y="13411"/>
                      </a:cubicBezTo>
                      <a:cubicBezTo>
                        <a:pt x="9701" y="14025"/>
                        <a:pt x="9306" y="13590"/>
                        <a:pt x="9086" y="13411"/>
                      </a:cubicBezTo>
                      <a:cubicBezTo>
                        <a:pt x="8582" y="12540"/>
                        <a:pt x="9262" y="13564"/>
                        <a:pt x="8647" y="13001"/>
                      </a:cubicBezTo>
                      <a:cubicBezTo>
                        <a:pt x="8560" y="12924"/>
                        <a:pt x="8538" y="12771"/>
                        <a:pt x="8472" y="12694"/>
                      </a:cubicBezTo>
                      <a:cubicBezTo>
                        <a:pt x="8406" y="12617"/>
                        <a:pt x="8296" y="12566"/>
                        <a:pt x="8208" y="12489"/>
                      </a:cubicBezTo>
                      <a:cubicBezTo>
                        <a:pt x="8099" y="12080"/>
                        <a:pt x="7945" y="12003"/>
                        <a:pt x="7594" y="11875"/>
                      </a:cubicBezTo>
                      <a:cubicBezTo>
                        <a:pt x="7374" y="11517"/>
                        <a:pt x="7286" y="11389"/>
                        <a:pt x="7418" y="10954"/>
                      </a:cubicBezTo>
                      <a:cubicBezTo>
                        <a:pt x="7243" y="10647"/>
                        <a:pt x="6716" y="10237"/>
                        <a:pt x="6716" y="10237"/>
                      </a:cubicBezTo>
                      <a:cubicBezTo>
                        <a:pt x="6540" y="9930"/>
                        <a:pt x="6364" y="9623"/>
                        <a:pt x="6189" y="9316"/>
                      </a:cubicBezTo>
                      <a:cubicBezTo>
                        <a:pt x="6057" y="9085"/>
                        <a:pt x="5816" y="9009"/>
                        <a:pt x="5662" y="8804"/>
                      </a:cubicBezTo>
                      <a:cubicBezTo>
                        <a:pt x="5596" y="8702"/>
                        <a:pt x="5574" y="8574"/>
                        <a:pt x="5486" y="8497"/>
                      </a:cubicBezTo>
                      <a:cubicBezTo>
                        <a:pt x="5157" y="8241"/>
                        <a:pt x="4762" y="8241"/>
                        <a:pt x="4433" y="7985"/>
                      </a:cubicBezTo>
                      <a:cubicBezTo>
                        <a:pt x="4235" y="7627"/>
                        <a:pt x="4082" y="7396"/>
                        <a:pt x="3730" y="7268"/>
                      </a:cubicBezTo>
                      <a:cubicBezTo>
                        <a:pt x="3335" y="6603"/>
                        <a:pt x="4038" y="6270"/>
                        <a:pt x="3203" y="6040"/>
                      </a:cubicBezTo>
                      <a:cubicBezTo>
                        <a:pt x="2260" y="5298"/>
                        <a:pt x="2150" y="3762"/>
                        <a:pt x="1799" y="2559"/>
                      </a:cubicBezTo>
                      <a:cubicBezTo>
                        <a:pt x="1711" y="2252"/>
                        <a:pt x="1491" y="1817"/>
                        <a:pt x="1272" y="1638"/>
                      </a:cubicBezTo>
                      <a:cubicBezTo>
                        <a:pt x="1096" y="1485"/>
                        <a:pt x="745" y="1229"/>
                        <a:pt x="745" y="1229"/>
                      </a:cubicBezTo>
                      <a:cubicBezTo>
                        <a:pt x="679" y="1126"/>
                        <a:pt x="657" y="998"/>
                        <a:pt x="569" y="922"/>
                      </a:cubicBezTo>
                      <a:cubicBezTo>
                        <a:pt x="416" y="819"/>
                        <a:pt x="43" y="717"/>
                        <a:pt x="43" y="717"/>
                      </a:cubicBezTo>
                      <a:cubicBezTo>
                        <a:pt x="-177" y="-25"/>
                        <a:pt x="503" y="384"/>
                        <a:pt x="833" y="512"/>
                      </a:cubicBezTo>
                      <a:cubicBezTo>
                        <a:pt x="1250" y="1254"/>
                        <a:pt x="1162" y="998"/>
                        <a:pt x="1711" y="1433"/>
                      </a:cubicBezTo>
                      <a:cubicBezTo>
                        <a:pt x="1886" y="1740"/>
                        <a:pt x="1886" y="2329"/>
                        <a:pt x="2062" y="1740"/>
                      </a:cubicBezTo>
                      <a:cubicBezTo>
                        <a:pt x="1908" y="1203"/>
                        <a:pt x="1623" y="1536"/>
                        <a:pt x="1623" y="922"/>
                      </a:cubicBezTo>
                      <a:close/>
                      <a:moveTo>
                        <a:pt x="1623" y="9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69" name="Freeform 22"/>
                <p:cNvSpPr/>
                <p:nvPr/>
              </p:nvSpPr>
              <p:spPr>
                <a:xfrm>
                  <a:off x="4094640" y="4986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4054" h="14065">
                      <a:moveTo>
                        <a:pt x="2457" y="5065"/>
                      </a:moveTo>
                      <a:cubicBezTo>
                        <a:pt x="13857" y="-7535"/>
                        <a:pt x="20457" y="6415"/>
                        <a:pt x="4857" y="14065"/>
                      </a:cubicBezTo>
                      <a:cubicBezTo>
                        <a:pt x="-1143" y="7765"/>
                        <a:pt x="-1143" y="10465"/>
                        <a:pt x="2457" y="5065"/>
                      </a:cubicBezTo>
                      <a:close/>
                      <a:moveTo>
                        <a:pt x="2457" y="506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0" name="Freeform 23"/>
                <p:cNvSpPr/>
                <p:nvPr/>
              </p:nvSpPr>
              <p:spPr>
                <a:xfrm>
                  <a:off x="4075560" y="480960"/>
                  <a:ext cx="25560" cy="14400"/>
                </a:xfrm>
                <a:custGeom>
                  <a:avLst/>
                  <a:gdLst/>
                  <a:ahLst/>
                  <a:rect l="l" t="t" r="r" b="b"/>
                  <a:pathLst>
                    <a:path w="21600" h="15996">
                      <a:moveTo>
                        <a:pt x="0" y="2428"/>
                      </a:moveTo>
                      <a:cubicBezTo>
                        <a:pt x="2400" y="1844"/>
                        <a:pt x="4800" y="-491"/>
                        <a:pt x="7200" y="93"/>
                      </a:cubicBezTo>
                      <a:cubicBezTo>
                        <a:pt x="12600" y="1844"/>
                        <a:pt x="21600" y="9433"/>
                        <a:pt x="21600" y="9433"/>
                      </a:cubicBezTo>
                      <a:cubicBezTo>
                        <a:pt x="17400" y="21109"/>
                        <a:pt x="13200" y="14687"/>
                        <a:pt x="4800" y="9433"/>
                      </a:cubicBezTo>
                      <a:cubicBezTo>
                        <a:pt x="3000" y="7098"/>
                        <a:pt x="0" y="2428"/>
                        <a:pt x="0" y="2428"/>
                      </a:cubicBezTo>
                      <a:close/>
                      <a:moveTo>
                        <a:pt x="0" y="24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1" name="Freeform 24"/>
                <p:cNvSpPr/>
                <p:nvPr/>
              </p:nvSpPr>
              <p:spPr>
                <a:xfrm>
                  <a:off x="4845600" y="431640"/>
                  <a:ext cx="109440" cy="42840"/>
                </a:xfrm>
                <a:custGeom>
                  <a:avLst/>
                  <a:gdLst/>
                  <a:ahLst/>
                  <a:rect l="l" t="t" r="r" b="b"/>
                  <a:pathLst>
                    <a:path w="20548" h="17162">
                      <a:moveTo>
                        <a:pt x="0" y="9089"/>
                      </a:moveTo>
                      <a:cubicBezTo>
                        <a:pt x="635" y="5489"/>
                        <a:pt x="1525" y="4814"/>
                        <a:pt x="3558" y="3689"/>
                      </a:cubicBezTo>
                      <a:cubicBezTo>
                        <a:pt x="2541" y="-1936"/>
                        <a:pt x="5336" y="1664"/>
                        <a:pt x="7115" y="2789"/>
                      </a:cubicBezTo>
                      <a:cubicBezTo>
                        <a:pt x="7115" y="2789"/>
                        <a:pt x="9784" y="-586"/>
                        <a:pt x="10165" y="89"/>
                      </a:cubicBezTo>
                      <a:cubicBezTo>
                        <a:pt x="10800" y="1214"/>
                        <a:pt x="9021" y="3239"/>
                        <a:pt x="8132" y="3689"/>
                      </a:cubicBezTo>
                      <a:cubicBezTo>
                        <a:pt x="10419" y="6389"/>
                        <a:pt x="13087" y="7514"/>
                        <a:pt x="15755" y="9089"/>
                      </a:cubicBezTo>
                      <a:cubicBezTo>
                        <a:pt x="17280" y="9989"/>
                        <a:pt x="20329" y="12689"/>
                        <a:pt x="20329" y="12689"/>
                      </a:cubicBezTo>
                      <a:cubicBezTo>
                        <a:pt x="21600" y="19664"/>
                        <a:pt x="17026" y="16739"/>
                        <a:pt x="14739" y="15389"/>
                      </a:cubicBezTo>
                      <a:cubicBezTo>
                        <a:pt x="13849" y="10889"/>
                        <a:pt x="14739" y="12914"/>
                        <a:pt x="11181" y="10889"/>
                      </a:cubicBezTo>
                      <a:cubicBezTo>
                        <a:pt x="10673" y="10664"/>
                        <a:pt x="9656" y="9989"/>
                        <a:pt x="9656" y="9989"/>
                      </a:cubicBezTo>
                      <a:cubicBezTo>
                        <a:pt x="7242" y="5714"/>
                        <a:pt x="6734" y="6389"/>
                        <a:pt x="3049" y="7289"/>
                      </a:cubicBezTo>
                      <a:cubicBezTo>
                        <a:pt x="1144" y="9539"/>
                        <a:pt x="2160" y="9089"/>
                        <a:pt x="0" y="9089"/>
                      </a:cubicBezTo>
                      <a:close/>
                      <a:moveTo>
                        <a:pt x="0" y="90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2" name="Freeform 25"/>
                <p:cNvSpPr/>
                <p:nvPr/>
              </p:nvSpPr>
              <p:spPr>
                <a:xfrm>
                  <a:off x="4967640" y="471600"/>
                  <a:ext cx="84240" cy="23760"/>
                </a:xfrm>
                <a:custGeom>
                  <a:avLst/>
                  <a:gdLst/>
                  <a:ahLst/>
                  <a:rect l="l" t="t" r="r" b="b"/>
                  <a:pathLst>
                    <a:path w="19535" h="21600">
                      <a:moveTo>
                        <a:pt x="0" y="0"/>
                      </a:moveTo>
                      <a:cubicBezTo>
                        <a:pt x="2974" y="1473"/>
                        <a:pt x="5478" y="4909"/>
                        <a:pt x="8139" y="1964"/>
                      </a:cubicBezTo>
                      <a:cubicBezTo>
                        <a:pt x="13617" y="5400"/>
                        <a:pt x="9548" y="7364"/>
                        <a:pt x="13774" y="11782"/>
                      </a:cubicBezTo>
                      <a:cubicBezTo>
                        <a:pt x="15026" y="11291"/>
                        <a:pt x="16278" y="9327"/>
                        <a:pt x="17530" y="9818"/>
                      </a:cubicBezTo>
                      <a:cubicBezTo>
                        <a:pt x="21600" y="11291"/>
                        <a:pt x="18470" y="20127"/>
                        <a:pt x="16904" y="21600"/>
                      </a:cubicBezTo>
                      <a:cubicBezTo>
                        <a:pt x="12209" y="16691"/>
                        <a:pt x="14400" y="16691"/>
                        <a:pt x="10017" y="19636"/>
                      </a:cubicBezTo>
                      <a:cubicBezTo>
                        <a:pt x="6417" y="18164"/>
                        <a:pt x="3443" y="20127"/>
                        <a:pt x="0" y="17673"/>
                      </a:cubicBezTo>
                      <a:cubicBezTo>
                        <a:pt x="939" y="5400"/>
                        <a:pt x="1096" y="13255"/>
                        <a:pt x="4383" y="9818"/>
                      </a:cubicBezTo>
                      <a:cubicBezTo>
                        <a:pt x="2661" y="6382"/>
                        <a:pt x="0" y="6382"/>
                        <a:pt x="0" y="0"/>
                      </a:cubicBezTo>
                      <a:close/>
                      <a:moveTo>
                        <a:pt x="0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3" name="Freeform 26"/>
                <p:cNvSpPr/>
                <p:nvPr/>
              </p:nvSpPr>
              <p:spPr>
                <a:xfrm>
                  <a:off x="4924800" y="487440"/>
                  <a:ext cx="22320" cy="11160"/>
                </a:xfrm>
                <a:custGeom>
                  <a:avLst/>
                  <a:gdLst/>
                  <a:ahLst/>
                  <a:rect l="l" t="t" r="r" b="b"/>
                  <a:pathLst>
                    <a:path w="12677" h="11240">
                      <a:moveTo>
                        <a:pt x="2391" y="8694"/>
                      </a:moveTo>
                      <a:cubicBezTo>
                        <a:pt x="-4051" y="-4163"/>
                        <a:pt x="3907" y="466"/>
                        <a:pt x="9970" y="2523"/>
                      </a:cubicBezTo>
                      <a:cubicBezTo>
                        <a:pt x="17549" y="17437"/>
                        <a:pt x="7317" y="8694"/>
                        <a:pt x="2391" y="8694"/>
                      </a:cubicBezTo>
                      <a:close/>
                      <a:moveTo>
                        <a:pt x="2391" y="869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4" name="Freeform 27"/>
                <p:cNvSpPr/>
                <p:nvPr/>
              </p:nvSpPr>
              <p:spPr>
                <a:xfrm>
                  <a:off x="4897800" y="415800"/>
                  <a:ext cx="12960" cy="19080"/>
                </a:xfrm>
                <a:custGeom>
                  <a:avLst/>
                  <a:gdLst/>
                  <a:ahLst/>
                  <a:rect l="l" t="t" r="r" b="b"/>
                  <a:pathLst>
                    <a:path w="10960" h="15340">
                      <a:moveTo>
                        <a:pt x="5506" y="13292"/>
                      </a:moveTo>
                      <a:cubicBezTo>
                        <a:pt x="2183" y="5815"/>
                        <a:pt x="-5017" y="5400"/>
                        <a:pt x="5506" y="0"/>
                      </a:cubicBezTo>
                      <a:cubicBezTo>
                        <a:pt x="7721" y="2077"/>
                        <a:pt x="16583" y="21600"/>
                        <a:pt x="5506" y="13292"/>
                      </a:cubicBezTo>
                      <a:close/>
                      <a:moveTo>
                        <a:pt x="5506" y="1329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5" name="Freeform 28"/>
                <p:cNvSpPr/>
                <p:nvPr/>
              </p:nvSpPr>
              <p:spPr>
                <a:xfrm>
                  <a:off x="5094720" y="503280"/>
                  <a:ext cx="27000" cy="38160"/>
                </a:xfrm>
                <a:custGeom>
                  <a:avLst/>
                  <a:gdLst/>
                  <a:ahLst/>
                  <a:rect l="l" t="t" r="r" b="b"/>
                  <a:pathLst>
                    <a:path w="19487" h="19095">
                      <a:moveTo>
                        <a:pt x="1964" y="1262"/>
                      </a:moveTo>
                      <a:cubicBezTo>
                        <a:pt x="4418" y="3422"/>
                        <a:pt x="8836" y="5312"/>
                        <a:pt x="9818" y="7742"/>
                      </a:cubicBezTo>
                      <a:cubicBezTo>
                        <a:pt x="10309" y="9092"/>
                        <a:pt x="10309" y="10982"/>
                        <a:pt x="11782" y="12062"/>
                      </a:cubicBezTo>
                      <a:cubicBezTo>
                        <a:pt x="13255" y="12872"/>
                        <a:pt x="15709" y="12872"/>
                        <a:pt x="17673" y="13142"/>
                      </a:cubicBezTo>
                      <a:cubicBezTo>
                        <a:pt x="20127" y="17192"/>
                        <a:pt x="21600" y="20432"/>
                        <a:pt x="11782" y="18542"/>
                      </a:cubicBezTo>
                      <a:cubicBezTo>
                        <a:pt x="9327" y="13682"/>
                        <a:pt x="5400" y="8822"/>
                        <a:pt x="0" y="4502"/>
                      </a:cubicBezTo>
                      <a:cubicBezTo>
                        <a:pt x="1964" y="-88"/>
                        <a:pt x="1964" y="-1168"/>
                        <a:pt x="1964" y="1262"/>
                      </a:cubicBezTo>
                      <a:close/>
                      <a:moveTo>
                        <a:pt x="1964" y="126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6" name="Freeform 29"/>
                <p:cNvSpPr/>
                <p:nvPr/>
              </p:nvSpPr>
              <p:spPr>
                <a:xfrm>
                  <a:off x="4556520" y="176040"/>
                  <a:ext cx="322200" cy="63720"/>
                </a:xfrm>
                <a:custGeom>
                  <a:avLst/>
                  <a:gdLst/>
                  <a:ahLst/>
                  <a:rect l="l" t="t" r="r" b="b"/>
                  <a:pathLst>
                    <a:path w="21403" h="21263">
                      <a:moveTo>
                        <a:pt x="14646" y="338"/>
                      </a:moveTo>
                      <a:cubicBezTo>
                        <a:pt x="14312" y="4050"/>
                        <a:pt x="14980" y="5738"/>
                        <a:pt x="15382" y="2700"/>
                      </a:cubicBezTo>
                      <a:cubicBezTo>
                        <a:pt x="15649" y="0"/>
                        <a:pt x="15248" y="2363"/>
                        <a:pt x="15649" y="0"/>
                      </a:cubicBezTo>
                      <a:lnTo>
                        <a:pt x="17655" y="0"/>
                      </a:lnTo>
                      <a:cubicBezTo>
                        <a:pt x="18458" y="2025"/>
                        <a:pt x="18391" y="3713"/>
                        <a:pt x="19127" y="5738"/>
                      </a:cubicBezTo>
                      <a:cubicBezTo>
                        <a:pt x="20531" y="3713"/>
                        <a:pt x="19528" y="2363"/>
                        <a:pt x="21267" y="3375"/>
                      </a:cubicBezTo>
                      <a:cubicBezTo>
                        <a:pt x="21534" y="6413"/>
                        <a:pt x="21400" y="7425"/>
                        <a:pt x="20932" y="9788"/>
                      </a:cubicBezTo>
                      <a:cubicBezTo>
                        <a:pt x="20798" y="13163"/>
                        <a:pt x="20865" y="16875"/>
                        <a:pt x="19862" y="15525"/>
                      </a:cubicBezTo>
                      <a:cubicBezTo>
                        <a:pt x="19795" y="13500"/>
                        <a:pt x="19862" y="11475"/>
                        <a:pt x="19662" y="9788"/>
                      </a:cubicBezTo>
                      <a:cubicBezTo>
                        <a:pt x="19595" y="9113"/>
                        <a:pt x="19327" y="10463"/>
                        <a:pt x="19127" y="10463"/>
                      </a:cubicBezTo>
                      <a:cubicBezTo>
                        <a:pt x="18926" y="10463"/>
                        <a:pt x="18792" y="10125"/>
                        <a:pt x="18592" y="9788"/>
                      </a:cubicBezTo>
                      <a:cubicBezTo>
                        <a:pt x="18257" y="9113"/>
                        <a:pt x="17522" y="7088"/>
                        <a:pt x="17522" y="7088"/>
                      </a:cubicBezTo>
                      <a:cubicBezTo>
                        <a:pt x="16585" y="7763"/>
                        <a:pt x="16050" y="10463"/>
                        <a:pt x="15181" y="12825"/>
                      </a:cubicBezTo>
                      <a:cubicBezTo>
                        <a:pt x="14646" y="13838"/>
                        <a:pt x="13910" y="14175"/>
                        <a:pt x="13375" y="14850"/>
                      </a:cubicBezTo>
                      <a:cubicBezTo>
                        <a:pt x="12841" y="18225"/>
                        <a:pt x="13309" y="17888"/>
                        <a:pt x="14111" y="19238"/>
                      </a:cubicBezTo>
                      <a:cubicBezTo>
                        <a:pt x="13309" y="20925"/>
                        <a:pt x="13242" y="19238"/>
                        <a:pt x="12506" y="21263"/>
                      </a:cubicBezTo>
                      <a:cubicBezTo>
                        <a:pt x="12038" y="20925"/>
                        <a:pt x="11570" y="21600"/>
                        <a:pt x="11236" y="20588"/>
                      </a:cubicBezTo>
                      <a:cubicBezTo>
                        <a:pt x="11035" y="19913"/>
                        <a:pt x="11637" y="19913"/>
                        <a:pt x="11771" y="19238"/>
                      </a:cubicBezTo>
                      <a:cubicBezTo>
                        <a:pt x="12038" y="16200"/>
                        <a:pt x="9898" y="9450"/>
                        <a:pt x="11369" y="13500"/>
                      </a:cubicBezTo>
                      <a:cubicBezTo>
                        <a:pt x="12239" y="18563"/>
                        <a:pt x="12239" y="12150"/>
                        <a:pt x="11236" y="10463"/>
                      </a:cubicBezTo>
                      <a:cubicBezTo>
                        <a:pt x="11102" y="9113"/>
                        <a:pt x="11102" y="7425"/>
                        <a:pt x="10500" y="7763"/>
                      </a:cubicBezTo>
                      <a:cubicBezTo>
                        <a:pt x="10166" y="7763"/>
                        <a:pt x="9430" y="9113"/>
                        <a:pt x="9430" y="9113"/>
                      </a:cubicBezTo>
                      <a:cubicBezTo>
                        <a:pt x="9029" y="13163"/>
                        <a:pt x="9497" y="10463"/>
                        <a:pt x="8895" y="9113"/>
                      </a:cubicBezTo>
                      <a:cubicBezTo>
                        <a:pt x="8627" y="8438"/>
                        <a:pt x="8360" y="8438"/>
                        <a:pt x="8159" y="8438"/>
                      </a:cubicBezTo>
                      <a:cubicBezTo>
                        <a:pt x="7758" y="3713"/>
                        <a:pt x="6621" y="2025"/>
                        <a:pt x="5484" y="675"/>
                      </a:cubicBezTo>
                      <a:cubicBezTo>
                        <a:pt x="4615" y="1350"/>
                        <a:pt x="4548" y="3038"/>
                        <a:pt x="3880" y="4725"/>
                      </a:cubicBezTo>
                      <a:cubicBezTo>
                        <a:pt x="2943" y="4725"/>
                        <a:pt x="-66" y="4050"/>
                        <a:pt x="1" y="0"/>
                      </a:cubicBezTo>
                      <a:lnTo>
                        <a:pt x="14646" y="338"/>
                      </a:lnTo>
                      <a:close/>
                      <a:moveTo>
                        <a:pt x="14646" y="3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7" name="Freeform 30"/>
                <p:cNvSpPr/>
                <p:nvPr/>
              </p:nvSpPr>
              <p:spPr>
                <a:xfrm>
                  <a:off x="4291560" y="174600"/>
                  <a:ext cx="276120" cy="31680"/>
                </a:xfrm>
                <a:custGeom>
                  <a:avLst/>
                  <a:gdLst/>
                  <a:ahLst/>
                  <a:rect l="l" t="t" r="r" b="b"/>
                  <a:pathLst>
                    <a:path w="19726" h="21600">
                      <a:moveTo>
                        <a:pt x="5865" y="21600"/>
                      </a:moveTo>
                      <a:cubicBezTo>
                        <a:pt x="4281" y="13239"/>
                        <a:pt x="-1695" y="4181"/>
                        <a:pt x="465" y="697"/>
                      </a:cubicBezTo>
                      <a:lnTo>
                        <a:pt x="18825" y="0"/>
                      </a:lnTo>
                      <a:cubicBezTo>
                        <a:pt x="19617" y="2787"/>
                        <a:pt x="19905" y="3484"/>
                        <a:pt x="19617" y="9755"/>
                      </a:cubicBezTo>
                      <a:cubicBezTo>
                        <a:pt x="18825" y="7665"/>
                        <a:pt x="18177" y="11148"/>
                        <a:pt x="17313" y="11148"/>
                      </a:cubicBezTo>
                      <a:lnTo>
                        <a:pt x="5865" y="21600"/>
                      </a:lnTo>
                      <a:close/>
                      <a:moveTo>
                        <a:pt x="5865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8" name="Freeform 31"/>
                <p:cNvSpPr/>
                <p:nvPr/>
              </p:nvSpPr>
              <p:spPr>
                <a:xfrm>
                  <a:off x="3603600" y="225360"/>
                  <a:ext cx="16200" cy="1116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79" name="Freeform 32"/>
                <p:cNvSpPr/>
                <p:nvPr/>
              </p:nvSpPr>
              <p:spPr>
                <a:xfrm>
                  <a:off x="2826000" y="174600"/>
                  <a:ext cx="691920" cy="24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17" y="142"/>
                      </a:moveTo>
                      <a:lnTo>
                        <a:pt x="21600" y="0"/>
                      </a:lnTo>
                      <a:cubicBezTo>
                        <a:pt x="21303" y="2132"/>
                        <a:pt x="21253" y="5968"/>
                        <a:pt x="20609" y="7674"/>
                      </a:cubicBezTo>
                      <a:cubicBezTo>
                        <a:pt x="20312" y="8526"/>
                        <a:pt x="20064" y="8953"/>
                        <a:pt x="19668" y="9663"/>
                      </a:cubicBezTo>
                      <a:cubicBezTo>
                        <a:pt x="19618" y="9805"/>
                        <a:pt x="19420" y="9947"/>
                        <a:pt x="19420" y="9947"/>
                      </a:cubicBezTo>
                      <a:cubicBezTo>
                        <a:pt x="18677" y="8953"/>
                        <a:pt x="19073" y="9663"/>
                        <a:pt x="18578" y="10374"/>
                      </a:cubicBezTo>
                      <a:cubicBezTo>
                        <a:pt x="18380" y="11653"/>
                        <a:pt x="18380" y="11795"/>
                        <a:pt x="17884" y="12505"/>
                      </a:cubicBezTo>
                      <a:cubicBezTo>
                        <a:pt x="17785" y="13074"/>
                        <a:pt x="18033" y="13216"/>
                        <a:pt x="17934" y="14068"/>
                      </a:cubicBezTo>
                      <a:cubicBezTo>
                        <a:pt x="17983" y="14495"/>
                        <a:pt x="18033" y="14921"/>
                        <a:pt x="18033" y="15205"/>
                      </a:cubicBezTo>
                      <a:cubicBezTo>
                        <a:pt x="18083" y="15489"/>
                        <a:pt x="18132" y="15774"/>
                        <a:pt x="18132" y="16058"/>
                      </a:cubicBezTo>
                      <a:cubicBezTo>
                        <a:pt x="18083" y="16342"/>
                        <a:pt x="18033" y="17053"/>
                        <a:pt x="17934" y="17337"/>
                      </a:cubicBezTo>
                      <a:cubicBezTo>
                        <a:pt x="17785" y="17479"/>
                        <a:pt x="17538" y="16911"/>
                        <a:pt x="17389" y="17053"/>
                      </a:cubicBezTo>
                      <a:cubicBezTo>
                        <a:pt x="17191" y="18332"/>
                        <a:pt x="17439" y="18047"/>
                        <a:pt x="16943" y="18332"/>
                      </a:cubicBezTo>
                      <a:cubicBezTo>
                        <a:pt x="16844" y="17479"/>
                        <a:pt x="17092" y="15774"/>
                        <a:pt x="17191" y="14921"/>
                      </a:cubicBezTo>
                      <a:cubicBezTo>
                        <a:pt x="17191" y="14211"/>
                        <a:pt x="16745" y="14495"/>
                        <a:pt x="16745" y="14211"/>
                      </a:cubicBezTo>
                      <a:cubicBezTo>
                        <a:pt x="16745" y="13926"/>
                        <a:pt x="17042" y="13500"/>
                        <a:pt x="17042" y="13216"/>
                      </a:cubicBezTo>
                      <a:cubicBezTo>
                        <a:pt x="17042" y="13074"/>
                        <a:pt x="17042" y="12647"/>
                        <a:pt x="16943" y="12647"/>
                      </a:cubicBezTo>
                      <a:cubicBezTo>
                        <a:pt x="16794" y="12647"/>
                        <a:pt x="16051" y="13358"/>
                        <a:pt x="15853" y="13358"/>
                      </a:cubicBezTo>
                      <a:cubicBezTo>
                        <a:pt x="15705" y="12221"/>
                        <a:pt x="16250" y="12505"/>
                        <a:pt x="15705" y="12079"/>
                      </a:cubicBezTo>
                      <a:cubicBezTo>
                        <a:pt x="15407" y="12932"/>
                        <a:pt x="15160" y="13216"/>
                        <a:pt x="14714" y="13358"/>
                      </a:cubicBezTo>
                      <a:cubicBezTo>
                        <a:pt x="14862" y="14779"/>
                        <a:pt x="15209" y="14353"/>
                        <a:pt x="15853" y="14637"/>
                      </a:cubicBezTo>
                      <a:cubicBezTo>
                        <a:pt x="15754" y="15489"/>
                        <a:pt x="15407" y="15774"/>
                        <a:pt x="15110" y="16626"/>
                      </a:cubicBezTo>
                      <a:lnTo>
                        <a:pt x="15407" y="17905"/>
                      </a:lnTo>
                      <a:lnTo>
                        <a:pt x="15606" y="19611"/>
                      </a:lnTo>
                      <a:lnTo>
                        <a:pt x="15308" y="19753"/>
                      </a:lnTo>
                      <a:lnTo>
                        <a:pt x="15556" y="20463"/>
                      </a:lnTo>
                      <a:lnTo>
                        <a:pt x="15209" y="21600"/>
                      </a:lnTo>
                      <a:lnTo>
                        <a:pt x="0" y="21174"/>
                      </a:lnTo>
                      <a:lnTo>
                        <a:pt x="3617" y="142"/>
                      </a:lnTo>
                      <a:close/>
                      <a:moveTo>
                        <a:pt x="3617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0" name="Freeform 33"/>
                <p:cNvSpPr/>
                <p:nvPr/>
              </p:nvSpPr>
              <p:spPr>
                <a:xfrm>
                  <a:off x="3519720" y="16668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1" name="Freeform 34"/>
                <p:cNvSpPr/>
                <p:nvPr/>
              </p:nvSpPr>
              <p:spPr>
                <a:xfrm>
                  <a:off x="3500640" y="243000"/>
                  <a:ext cx="9360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2" name="Freeform 35"/>
                <p:cNvSpPr/>
                <p:nvPr/>
              </p:nvSpPr>
              <p:spPr>
                <a:xfrm>
                  <a:off x="3400560" y="290520"/>
                  <a:ext cx="127080" cy="114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3" name="Freeform 36"/>
                <p:cNvSpPr/>
                <p:nvPr/>
              </p:nvSpPr>
              <p:spPr>
                <a:xfrm>
                  <a:off x="277344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4" name="Freeform 37"/>
                <p:cNvSpPr/>
                <p:nvPr/>
              </p:nvSpPr>
              <p:spPr>
                <a:xfrm>
                  <a:off x="287028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5" name="Freeform 38"/>
                <p:cNvSpPr/>
                <p:nvPr/>
              </p:nvSpPr>
              <p:spPr>
                <a:xfrm>
                  <a:off x="3292560" y="452520"/>
                  <a:ext cx="27000" cy="3636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6" name="Freeform 39"/>
                <p:cNvSpPr/>
                <p:nvPr/>
              </p:nvSpPr>
              <p:spPr>
                <a:xfrm>
                  <a:off x="1897200" y="282600"/>
                  <a:ext cx="684360" cy="56052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7" name="Freeform 40"/>
                <p:cNvSpPr/>
                <p:nvPr/>
              </p:nvSpPr>
              <p:spPr>
                <a:xfrm>
                  <a:off x="2163960" y="552600"/>
                  <a:ext cx="258840" cy="29196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8" name="Freeform 41"/>
                <p:cNvSpPr/>
                <p:nvPr/>
              </p:nvSpPr>
              <p:spPr>
                <a:xfrm>
                  <a:off x="2621160" y="757080"/>
                  <a:ext cx="9360" cy="1296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89" name="Freeform 42"/>
                <p:cNvSpPr/>
                <p:nvPr/>
              </p:nvSpPr>
              <p:spPr>
                <a:xfrm>
                  <a:off x="19846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0" name="Freeform 43"/>
                <p:cNvSpPr/>
                <p:nvPr/>
              </p:nvSpPr>
              <p:spPr>
                <a:xfrm>
                  <a:off x="2457720" y="204840"/>
                  <a:ext cx="4683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1" name="Freeform 44"/>
                <p:cNvSpPr/>
                <p:nvPr/>
              </p:nvSpPr>
              <p:spPr>
                <a:xfrm>
                  <a:off x="2138400" y="174600"/>
                  <a:ext cx="87480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2" name="Freeform 45"/>
                <p:cNvSpPr/>
                <p:nvPr/>
              </p:nvSpPr>
              <p:spPr>
                <a:xfrm>
                  <a:off x="2330640" y="23184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3" name="Freeform 46"/>
                <p:cNvSpPr/>
                <p:nvPr/>
              </p:nvSpPr>
              <p:spPr>
                <a:xfrm>
                  <a:off x="23068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4" name="Freeform 47"/>
                <p:cNvSpPr/>
                <p:nvPr/>
              </p:nvSpPr>
              <p:spPr>
                <a:xfrm>
                  <a:off x="2413080" y="31896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5" name="Freeform 48"/>
                <p:cNvSpPr/>
                <p:nvPr/>
              </p:nvSpPr>
              <p:spPr>
                <a:xfrm>
                  <a:off x="2490840" y="320760"/>
                  <a:ext cx="1764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6" name="Freeform 49"/>
                <p:cNvSpPr/>
                <p:nvPr/>
              </p:nvSpPr>
              <p:spPr>
                <a:xfrm>
                  <a:off x="2260800" y="255600"/>
                  <a:ext cx="17280" cy="936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497" name="Group 86"/>
              <p:cNvGrpSpPr/>
              <p:nvPr/>
            </p:nvGrpSpPr>
            <p:grpSpPr>
              <a:xfrm>
                <a:off x="6165000" y="165240"/>
                <a:ext cx="1764000" cy="681120"/>
                <a:chOff x="6165000" y="165240"/>
                <a:chExt cx="1764000" cy="681120"/>
              </a:xfrm>
            </p:grpSpPr>
            <p:sp>
              <p:nvSpPr>
                <p:cNvPr id="498" name="Freeform 51"/>
                <p:cNvSpPr/>
                <p:nvPr/>
              </p:nvSpPr>
              <p:spPr>
                <a:xfrm>
                  <a:off x="7908480" y="76212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21600" h="18812">
                      <a:moveTo>
                        <a:pt x="11520" y="16228"/>
                      </a:moveTo>
                      <a:cubicBezTo>
                        <a:pt x="2160" y="9543"/>
                        <a:pt x="10800" y="16743"/>
                        <a:pt x="5760" y="10057"/>
                      </a:cubicBezTo>
                      <a:cubicBezTo>
                        <a:pt x="4320" y="8000"/>
                        <a:pt x="0" y="3886"/>
                        <a:pt x="0" y="3886"/>
                      </a:cubicBezTo>
                      <a:cubicBezTo>
                        <a:pt x="3600" y="-229"/>
                        <a:pt x="5040" y="-743"/>
                        <a:pt x="11520" y="800"/>
                      </a:cubicBezTo>
                      <a:cubicBezTo>
                        <a:pt x="18000" y="7486"/>
                        <a:pt x="7200" y="7486"/>
                        <a:pt x="21600" y="11086"/>
                      </a:cubicBezTo>
                      <a:cubicBezTo>
                        <a:pt x="20880" y="12628"/>
                        <a:pt x="21600" y="14171"/>
                        <a:pt x="20160" y="15200"/>
                      </a:cubicBezTo>
                      <a:cubicBezTo>
                        <a:pt x="10800" y="20857"/>
                        <a:pt x="11520" y="18800"/>
                        <a:pt x="11520" y="16228"/>
                      </a:cubicBezTo>
                      <a:close/>
                      <a:moveTo>
                        <a:pt x="11520" y="1622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499" name="Freeform 52"/>
                <p:cNvSpPr/>
                <p:nvPr/>
              </p:nvSpPr>
              <p:spPr>
                <a:xfrm>
                  <a:off x="7595640" y="792360"/>
                  <a:ext cx="38160" cy="25200"/>
                </a:xfrm>
                <a:custGeom>
                  <a:avLst/>
                  <a:gdLst/>
                  <a:ahLst/>
                  <a:rect l="l" t="t" r="r" b="b"/>
                  <a:pathLst>
                    <a:path w="18424" h="21600">
                      <a:moveTo>
                        <a:pt x="3200" y="11270"/>
                      </a:moveTo>
                      <a:cubicBezTo>
                        <a:pt x="4530" y="6104"/>
                        <a:pt x="3865" y="4226"/>
                        <a:pt x="8517" y="1878"/>
                      </a:cubicBezTo>
                      <a:cubicBezTo>
                        <a:pt x="9846" y="1409"/>
                        <a:pt x="12505" y="0"/>
                        <a:pt x="12505" y="0"/>
                      </a:cubicBezTo>
                      <a:cubicBezTo>
                        <a:pt x="15163" y="470"/>
                        <a:pt x="20148" y="0"/>
                        <a:pt x="17822" y="5635"/>
                      </a:cubicBezTo>
                      <a:cubicBezTo>
                        <a:pt x="16160" y="9861"/>
                        <a:pt x="11840" y="9861"/>
                        <a:pt x="9182" y="12209"/>
                      </a:cubicBezTo>
                      <a:cubicBezTo>
                        <a:pt x="7188" y="16435"/>
                        <a:pt x="6191" y="19722"/>
                        <a:pt x="2536" y="21600"/>
                      </a:cubicBezTo>
                      <a:cubicBezTo>
                        <a:pt x="-1452" y="19722"/>
                        <a:pt x="210" y="14087"/>
                        <a:pt x="1206" y="9391"/>
                      </a:cubicBezTo>
                      <a:cubicBezTo>
                        <a:pt x="1539" y="8452"/>
                        <a:pt x="1871" y="6104"/>
                        <a:pt x="2536" y="6574"/>
                      </a:cubicBezTo>
                      <a:cubicBezTo>
                        <a:pt x="3533" y="7513"/>
                        <a:pt x="2868" y="9861"/>
                        <a:pt x="3200" y="11270"/>
                      </a:cubicBezTo>
                      <a:close/>
                      <a:moveTo>
                        <a:pt x="3200" y="1127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0" name="Freeform 53"/>
                <p:cNvSpPr/>
                <p:nvPr/>
              </p:nvSpPr>
              <p:spPr>
                <a:xfrm>
                  <a:off x="7546320" y="790560"/>
                  <a:ext cx="44640" cy="25560"/>
                </a:xfrm>
                <a:custGeom>
                  <a:avLst/>
                  <a:gdLst/>
                  <a:ahLst/>
                  <a:rect l="l" t="t" r="r" b="b"/>
                  <a:pathLst>
                    <a:path w="20297" h="21140">
                      <a:moveTo>
                        <a:pt x="0" y="13787"/>
                      </a:moveTo>
                      <a:cubicBezTo>
                        <a:pt x="2191" y="10570"/>
                        <a:pt x="2817" y="9651"/>
                        <a:pt x="5635" y="11029"/>
                      </a:cubicBezTo>
                      <a:cubicBezTo>
                        <a:pt x="7826" y="1378"/>
                        <a:pt x="11270" y="5055"/>
                        <a:pt x="16278" y="0"/>
                      </a:cubicBezTo>
                      <a:cubicBezTo>
                        <a:pt x="17530" y="459"/>
                        <a:pt x="19096" y="-460"/>
                        <a:pt x="20035" y="919"/>
                      </a:cubicBezTo>
                      <a:cubicBezTo>
                        <a:pt x="21600" y="3217"/>
                        <a:pt x="15652" y="8272"/>
                        <a:pt x="15652" y="8272"/>
                      </a:cubicBezTo>
                      <a:cubicBezTo>
                        <a:pt x="14400" y="13787"/>
                        <a:pt x="10957" y="9651"/>
                        <a:pt x="8765" y="14706"/>
                      </a:cubicBezTo>
                      <a:cubicBezTo>
                        <a:pt x="9704" y="18383"/>
                        <a:pt x="9704" y="19761"/>
                        <a:pt x="6887" y="21140"/>
                      </a:cubicBezTo>
                      <a:cubicBezTo>
                        <a:pt x="6261" y="20680"/>
                        <a:pt x="5635" y="20680"/>
                        <a:pt x="5009" y="20221"/>
                      </a:cubicBezTo>
                      <a:cubicBezTo>
                        <a:pt x="4383" y="19302"/>
                        <a:pt x="4383" y="17923"/>
                        <a:pt x="3757" y="17463"/>
                      </a:cubicBezTo>
                      <a:cubicBezTo>
                        <a:pt x="2504" y="16544"/>
                        <a:pt x="0" y="15625"/>
                        <a:pt x="0" y="15625"/>
                      </a:cubicBezTo>
                      <a:cubicBezTo>
                        <a:pt x="626" y="11489"/>
                        <a:pt x="939" y="11029"/>
                        <a:pt x="0" y="13787"/>
                      </a:cubicBezTo>
                      <a:close/>
                      <a:moveTo>
                        <a:pt x="0" y="1378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1" name="Freeform 54"/>
                <p:cNvSpPr/>
                <p:nvPr/>
              </p:nvSpPr>
              <p:spPr>
                <a:xfrm>
                  <a:off x="7299000" y="652680"/>
                  <a:ext cx="237960" cy="145800"/>
                </a:xfrm>
                <a:custGeom>
                  <a:avLst/>
                  <a:gdLst/>
                  <a:ahLst/>
                  <a:rect l="l" t="t" r="r" b="b"/>
                  <a:pathLst>
                    <a:path w="21353" h="21312">
                      <a:moveTo>
                        <a:pt x="490" y="156"/>
                      </a:moveTo>
                      <a:cubicBezTo>
                        <a:pt x="1221" y="-156"/>
                        <a:pt x="1342" y="936"/>
                        <a:pt x="2072" y="1248"/>
                      </a:cubicBezTo>
                      <a:cubicBezTo>
                        <a:pt x="2133" y="1326"/>
                        <a:pt x="2620" y="2105"/>
                        <a:pt x="2681" y="2183"/>
                      </a:cubicBezTo>
                      <a:cubicBezTo>
                        <a:pt x="3289" y="2963"/>
                        <a:pt x="3959" y="2807"/>
                        <a:pt x="4506" y="3899"/>
                      </a:cubicBezTo>
                      <a:cubicBezTo>
                        <a:pt x="4750" y="4367"/>
                        <a:pt x="5480" y="4991"/>
                        <a:pt x="5480" y="4991"/>
                      </a:cubicBezTo>
                      <a:cubicBezTo>
                        <a:pt x="5723" y="6004"/>
                        <a:pt x="6697" y="6706"/>
                        <a:pt x="7305" y="7486"/>
                      </a:cubicBezTo>
                      <a:cubicBezTo>
                        <a:pt x="7427" y="8032"/>
                        <a:pt x="7792" y="9513"/>
                        <a:pt x="8157" y="9825"/>
                      </a:cubicBezTo>
                      <a:cubicBezTo>
                        <a:pt x="8400" y="9981"/>
                        <a:pt x="8887" y="10137"/>
                        <a:pt x="8887" y="10137"/>
                      </a:cubicBezTo>
                      <a:cubicBezTo>
                        <a:pt x="9009" y="10605"/>
                        <a:pt x="9252" y="11541"/>
                        <a:pt x="9252" y="11541"/>
                      </a:cubicBezTo>
                      <a:cubicBezTo>
                        <a:pt x="9678" y="10683"/>
                        <a:pt x="10104" y="11073"/>
                        <a:pt x="10591" y="11697"/>
                      </a:cubicBezTo>
                      <a:cubicBezTo>
                        <a:pt x="10469" y="12866"/>
                        <a:pt x="10408" y="13958"/>
                        <a:pt x="10226" y="15128"/>
                      </a:cubicBezTo>
                      <a:cubicBezTo>
                        <a:pt x="10287" y="15596"/>
                        <a:pt x="10469" y="16999"/>
                        <a:pt x="10834" y="17311"/>
                      </a:cubicBezTo>
                      <a:cubicBezTo>
                        <a:pt x="11138" y="17623"/>
                        <a:pt x="11625" y="17623"/>
                        <a:pt x="11929" y="17935"/>
                      </a:cubicBezTo>
                      <a:cubicBezTo>
                        <a:pt x="12294" y="17779"/>
                        <a:pt x="13025" y="18091"/>
                        <a:pt x="13025" y="18091"/>
                      </a:cubicBezTo>
                      <a:cubicBezTo>
                        <a:pt x="13450" y="18637"/>
                        <a:pt x="13572" y="18949"/>
                        <a:pt x="14241" y="18715"/>
                      </a:cubicBezTo>
                      <a:cubicBezTo>
                        <a:pt x="14607" y="18559"/>
                        <a:pt x="15337" y="18247"/>
                        <a:pt x="15337" y="18247"/>
                      </a:cubicBezTo>
                      <a:cubicBezTo>
                        <a:pt x="15702" y="18559"/>
                        <a:pt x="16006" y="19027"/>
                        <a:pt x="16432" y="19183"/>
                      </a:cubicBezTo>
                      <a:cubicBezTo>
                        <a:pt x="16736" y="19339"/>
                        <a:pt x="17588" y="19495"/>
                        <a:pt x="17892" y="19806"/>
                      </a:cubicBezTo>
                      <a:cubicBezTo>
                        <a:pt x="18196" y="20118"/>
                        <a:pt x="18987" y="20430"/>
                        <a:pt x="18987" y="20430"/>
                      </a:cubicBezTo>
                      <a:cubicBezTo>
                        <a:pt x="19961" y="20352"/>
                        <a:pt x="20448" y="20196"/>
                        <a:pt x="21299" y="20586"/>
                      </a:cubicBezTo>
                      <a:cubicBezTo>
                        <a:pt x="21482" y="21288"/>
                        <a:pt x="21178" y="21444"/>
                        <a:pt x="20691" y="21210"/>
                      </a:cubicBezTo>
                      <a:cubicBezTo>
                        <a:pt x="20326" y="21366"/>
                        <a:pt x="19474" y="21054"/>
                        <a:pt x="19474" y="21054"/>
                      </a:cubicBezTo>
                      <a:cubicBezTo>
                        <a:pt x="18987" y="21288"/>
                        <a:pt x="18622" y="21054"/>
                        <a:pt x="18136" y="20898"/>
                      </a:cubicBezTo>
                      <a:cubicBezTo>
                        <a:pt x="17892" y="20820"/>
                        <a:pt x="17405" y="20586"/>
                        <a:pt x="17405" y="20586"/>
                      </a:cubicBezTo>
                      <a:cubicBezTo>
                        <a:pt x="16675" y="20898"/>
                        <a:pt x="15945" y="20586"/>
                        <a:pt x="15215" y="20430"/>
                      </a:cubicBezTo>
                      <a:cubicBezTo>
                        <a:pt x="14789" y="20040"/>
                        <a:pt x="14607" y="19884"/>
                        <a:pt x="14120" y="20118"/>
                      </a:cubicBezTo>
                      <a:cubicBezTo>
                        <a:pt x="12720" y="19495"/>
                        <a:pt x="11564" y="19806"/>
                        <a:pt x="10347" y="18715"/>
                      </a:cubicBezTo>
                      <a:cubicBezTo>
                        <a:pt x="9921" y="17857"/>
                        <a:pt x="10591" y="17077"/>
                        <a:pt x="9617" y="16687"/>
                      </a:cubicBezTo>
                      <a:cubicBezTo>
                        <a:pt x="9252" y="18013"/>
                        <a:pt x="8157" y="15674"/>
                        <a:pt x="7548" y="15440"/>
                      </a:cubicBezTo>
                      <a:cubicBezTo>
                        <a:pt x="7183" y="15128"/>
                        <a:pt x="6818" y="14660"/>
                        <a:pt x="6453" y="14348"/>
                      </a:cubicBezTo>
                      <a:cubicBezTo>
                        <a:pt x="6210" y="13490"/>
                        <a:pt x="6210" y="12710"/>
                        <a:pt x="5601" y="12165"/>
                      </a:cubicBezTo>
                      <a:cubicBezTo>
                        <a:pt x="4932" y="10917"/>
                        <a:pt x="5054" y="9123"/>
                        <a:pt x="4019" y="8266"/>
                      </a:cubicBezTo>
                      <a:cubicBezTo>
                        <a:pt x="3959" y="8110"/>
                        <a:pt x="3898" y="7954"/>
                        <a:pt x="3776" y="7798"/>
                      </a:cubicBezTo>
                      <a:cubicBezTo>
                        <a:pt x="3654" y="7720"/>
                        <a:pt x="3472" y="7798"/>
                        <a:pt x="3411" y="7642"/>
                      </a:cubicBezTo>
                      <a:cubicBezTo>
                        <a:pt x="3289" y="7408"/>
                        <a:pt x="3168" y="6706"/>
                        <a:pt x="3168" y="6706"/>
                      </a:cubicBezTo>
                      <a:cubicBezTo>
                        <a:pt x="3472" y="5536"/>
                        <a:pt x="3046" y="4601"/>
                        <a:pt x="2194" y="4367"/>
                      </a:cubicBezTo>
                      <a:cubicBezTo>
                        <a:pt x="1829" y="3665"/>
                        <a:pt x="1768" y="3275"/>
                        <a:pt x="1099" y="2963"/>
                      </a:cubicBezTo>
                      <a:cubicBezTo>
                        <a:pt x="856" y="1949"/>
                        <a:pt x="856" y="1871"/>
                        <a:pt x="125" y="1560"/>
                      </a:cubicBezTo>
                      <a:cubicBezTo>
                        <a:pt x="-57" y="858"/>
                        <a:pt x="-118" y="234"/>
                        <a:pt x="490" y="0"/>
                      </a:cubicBezTo>
                      <a:cubicBezTo>
                        <a:pt x="977" y="234"/>
                        <a:pt x="977" y="156"/>
                        <a:pt x="490" y="156"/>
                      </a:cubicBezTo>
                      <a:close/>
                      <a:moveTo>
                        <a:pt x="490" y="15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2" name="Freeform 55"/>
                <p:cNvSpPr/>
                <p:nvPr/>
              </p:nvSpPr>
              <p:spPr>
                <a:xfrm>
                  <a:off x="7443360" y="642960"/>
                  <a:ext cx="104760" cy="108000"/>
                </a:xfrm>
                <a:custGeom>
                  <a:avLst/>
                  <a:gdLst/>
                  <a:ahLst/>
                  <a:rect l="l" t="t" r="r" b="b"/>
                  <a:pathLst>
                    <a:path w="21252" h="21600">
                      <a:moveTo>
                        <a:pt x="7477" y="6920"/>
                      </a:moveTo>
                      <a:cubicBezTo>
                        <a:pt x="8031" y="6606"/>
                        <a:pt x="8862" y="6606"/>
                        <a:pt x="9138" y="6082"/>
                      </a:cubicBezTo>
                      <a:cubicBezTo>
                        <a:pt x="9277" y="5872"/>
                        <a:pt x="9277" y="5557"/>
                        <a:pt x="9415" y="5452"/>
                      </a:cubicBezTo>
                      <a:cubicBezTo>
                        <a:pt x="9831" y="5138"/>
                        <a:pt x="11077" y="4614"/>
                        <a:pt x="11077" y="4614"/>
                      </a:cubicBezTo>
                      <a:cubicBezTo>
                        <a:pt x="15646" y="5767"/>
                        <a:pt x="11769" y="3041"/>
                        <a:pt x="14677" y="2307"/>
                      </a:cubicBezTo>
                      <a:cubicBezTo>
                        <a:pt x="15231" y="1783"/>
                        <a:pt x="14954" y="944"/>
                        <a:pt x="15508" y="419"/>
                      </a:cubicBezTo>
                      <a:cubicBezTo>
                        <a:pt x="15923" y="105"/>
                        <a:pt x="17169" y="0"/>
                        <a:pt x="17169" y="0"/>
                      </a:cubicBezTo>
                      <a:cubicBezTo>
                        <a:pt x="19108" y="1468"/>
                        <a:pt x="17446" y="2412"/>
                        <a:pt x="20769" y="2936"/>
                      </a:cubicBezTo>
                      <a:cubicBezTo>
                        <a:pt x="21600" y="3775"/>
                        <a:pt x="21323" y="4089"/>
                        <a:pt x="20215" y="4614"/>
                      </a:cubicBezTo>
                      <a:cubicBezTo>
                        <a:pt x="19523" y="5452"/>
                        <a:pt x="18692" y="6396"/>
                        <a:pt x="17446" y="6711"/>
                      </a:cubicBezTo>
                      <a:cubicBezTo>
                        <a:pt x="16338" y="7864"/>
                        <a:pt x="17723" y="8703"/>
                        <a:pt x="18277" y="9856"/>
                      </a:cubicBezTo>
                      <a:cubicBezTo>
                        <a:pt x="17862" y="10800"/>
                        <a:pt x="18692" y="11010"/>
                        <a:pt x="19662" y="11534"/>
                      </a:cubicBezTo>
                      <a:cubicBezTo>
                        <a:pt x="20077" y="12478"/>
                        <a:pt x="19523" y="12583"/>
                        <a:pt x="20215" y="13421"/>
                      </a:cubicBezTo>
                      <a:cubicBezTo>
                        <a:pt x="19662" y="14575"/>
                        <a:pt x="18692" y="13946"/>
                        <a:pt x="17723" y="13421"/>
                      </a:cubicBezTo>
                      <a:cubicBezTo>
                        <a:pt x="16062" y="13841"/>
                        <a:pt x="16892" y="14260"/>
                        <a:pt x="16062" y="15309"/>
                      </a:cubicBezTo>
                      <a:cubicBezTo>
                        <a:pt x="15646" y="15833"/>
                        <a:pt x="14954" y="15938"/>
                        <a:pt x="14400" y="16357"/>
                      </a:cubicBezTo>
                      <a:cubicBezTo>
                        <a:pt x="14815" y="17511"/>
                        <a:pt x="15508" y="20027"/>
                        <a:pt x="13846" y="20761"/>
                      </a:cubicBezTo>
                      <a:cubicBezTo>
                        <a:pt x="13292" y="20971"/>
                        <a:pt x="12738" y="20971"/>
                        <a:pt x="12185" y="21181"/>
                      </a:cubicBezTo>
                      <a:cubicBezTo>
                        <a:pt x="11908" y="21285"/>
                        <a:pt x="11631" y="21495"/>
                        <a:pt x="11354" y="21600"/>
                      </a:cubicBezTo>
                      <a:cubicBezTo>
                        <a:pt x="11077" y="21495"/>
                        <a:pt x="10662" y="21390"/>
                        <a:pt x="10523" y="21181"/>
                      </a:cubicBezTo>
                      <a:cubicBezTo>
                        <a:pt x="10246" y="20761"/>
                        <a:pt x="10523" y="20027"/>
                        <a:pt x="9969" y="19922"/>
                      </a:cubicBezTo>
                      <a:cubicBezTo>
                        <a:pt x="9415" y="19817"/>
                        <a:pt x="8308" y="19503"/>
                        <a:pt x="8308" y="19503"/>
                      </a:cubicBezTo>
                      <a:cubicBezTo>
                        <a:pt x="7338" y="19713"/>
                        <a:pt x="6785" y="20132"/>
                        <a:pt x="5815" y="20342"/>
                      </a:cubicBezTo>
                      <a:cubicBezTo>
                        <a:pt x="4708" y="19817"/>
                        <a:pt x="5123" y="19188"/>
                        <a:pt x="3877" y="19503"/>
                      </a:cubicBezTo>
                      <a:cubicBezTo>
                        <a:pt x="1662" y="18979"/>
                        <a:pt x="2631" y="16882"/>
                        <a:pt x="1385" y="15518"/>
                      </a:cubicBezTo>
                      <a:cubicBezTo>
                        <a:pt x="692" y="12687"/>
                        <a:pt x="1523" y="15414"/>
                        <a:pt x="554" y="13631"/>
                      </a:cubicBezTo>
                      <a:cubicBezTo>
                        <a:pt x="277" y="13212"/>
                        <a:pt x="0" y="12373"/>
                        <a:pt x="0" y="12373"/>
                      </a:cubicBezTo>
                      <a:cubicBezTo>
                        <a:pt x="277" y="9961"/>
                        <a:pt x="0" y="8703"/>
                        <a:pt x="2769" y="10066"/>
                      </a:cubicBezTo>
                      <a:cubicBezTo>
                        <a:pt x="3185" y="11010"/>
                        <a:pt x="3185" y="11534"/>
                        <a:pt x="4431" y="10905"/>
                      </a:cubicBezTo>
                      <a:cubicBezTo>
                        <a:pt x="4846" y="9961"/>
                        <a:pt x="4015" y="9227"/>
                        <a:pt x="4708" y="8388"/>
                      </a:cubicBezTo>
                      <a:cubicBezTo>
                        <a:pt x="4985" y="7969"/>
                        <a:pt x="6646" y="7654"/>
                        <a:pt x="7200" y="7340"/>
                      </a:cubicBezTo>
                      <a:cubicBezTo>
                        <a:pt x="7892" y="6606"/>
                        <a:pt x="8031" y="6501"/>
                        <a:pt x="7477" y="6920"/>
                      </a:cubicBezTo>
                      <a:close/>
                      <a:moveTo>
                        <a:pt x="7477" y="692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3" name="Freeform 56"/>
                <p:cNvSpPr/>
                <p:nvPr/>
              </p:nvSpPr>
              <p:spPr>
                <a:xfrm>
                  <a:off x="7548120" y="692280"/>
                  <a:ext cx="65160" cy="20520"/>
                </a:xfrm>
                <a:custGeom>
                  <a:avLst/>
                  <a:gdLst/>
                  <a:ahLst/>
                  <a:rect l="l" t="t" r="r" b="b"/>
                  <a:pathLst>
                    <a:path w="18866" h="21600">
                      <a:moveTo>
                        <a:pt x="412" y="18189"/>
                      </a:moveTo>
                      <a:cubicBezTo>
                        <a:pt x="1006" y="12505"/>
                        <a:pt x="1006" y="7958"/>
                        <a:pt x="3186" y="5684"/>
                      </a:cubicBezTo>
                      <a:cubicBezTo>
                        <a:pt x="5168" y="6821"/>
                        <a:pt x="6951" y="7958"/>
                        <a:pt x="8735" y="11368"/>
                      </a:cubicBezTo>
                      <a:cubicBezTo>
                        <a:pt x="11905" y="8526"/>
                        <a:pt x="10320" y="9663"/>
                        <a:pt x="13887" y="7958"/>
                      </a:cubicBezTo>
                      <a:cubicBezTo>
                        <a:pt x="14878" y="5116"/>
                        <a:pt x="17454" y="0"/>
                        <a:pt x="17454" y="0"/>
                      </a:cubicBezTo>
                      <a:cubicBezTo>
                        <a:pt x="21219" y="3411"/>
                        <a:pt x="16463" y="13074"/>
                        <a:pt x="14680" y="14779"/>
                      </a:cubicBezTo>
                      <a:cubicBezTo>
                        <a:pt x="13689" y="18758"/>
                        <a:pt x="13094" y="19895"/>
                        <a:pt x="11509" y="21600"/>
                      </a:cubicBezTo>
                      <a:cubicBezTo>
                        <a:pt x="10320" y="20463"/>
                        <a:pt x="7942" y="18189"/>
                        <a:pt x="7942" y="18189"/>
                      </a:cubicBezTo>
                      <a:cubicBezTo>
                        <a:pt x="6158" y="13074"/>
                        <a:pt x="4771" y="14779"/>
                        <a:pt x="2393" y="17053"/>
                      </a:cubicBezTo>
                      <a:cubicBezTo>
                        <a:pt x="-183" y="15916"/>
                        <a:pt x="-381" y="13642"/>
                        <a:pt x="412" y="18189"/>
                      </a:cubicBezTo>
                      <a:close/>
                      <a:moveTo>
                        <a:pt x="412" y="1818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4" name="Freeform 57"/>
                <p:cNvSpPr/>
                <p:nvPr/>
              </p:nvSpPr>
              <p:spPr>
                <a:xfrm>
                  <a:off x="7543440" y="7178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18989" h="21600">
                      <a:moveTo>
                        <a:pt x="2274" y="3738"/>
                      </a:moveTo>
                      <a:cubicBezTo>
                        <a:pt x="2842" y="1662"/>
                        <a:pt x="2558" y="623"/>
                        <a:pt x="5116" y="0"/>
                      </a:cubicBezTo>
                      <a:cubicBezTo>
                        <a:pt x="7958" y="623"/>
                        <a:pt x="7105" y="2492"/>
                        <a:pt x="9663" y="3738"/>
                      </a:cubicBezTo>
                      <a:cubicBezTo>
                        <a:pt x="13074" y="3323"/>
                        <a:pt x="14495" y="1662"/>
                        <a:pt x="17621" y="831"/>
                      </a:cubicBezTo>
                      <a:cubicBezTo>
                        <a:pt x="21600" y="1869"/>
                        <a:pt x="15916" y="6438"/>
                        <a:pt x="13074" y="7062"/>
                      </a:cubicBezTo>
                      <a:cubicBezTo>
                        <a:pt x="14495" y="11631"/>
                        <a:pt x="12221" y="6023"/>
                        <a:pt x="15347" y="9969"/>
                      </a:cubicBezTo>
                      <a:cubicBezTo>
                        <a:pt x="15916" y="10800"/>
                        <a:pt x="16484" y="12462"/>
                        <a:pt x="16484" y="12462"/>
                      </a:cubicBezTo>
                      <a:cubicBezTo>
                        <a:pt x="15632" y="14123"/>
                        <a:pt x="15347" y="14746"/>
                        <a:pt x="13074" y="15369"/>
                      </a:cubicBezTo>
                      <a:cubicBezTo>
                        <a:pt x="10800" y="14746"/>
                        <a:pt x="10516" y="14123"/>
                        <a:pt x="9663" y="12462"/>
                      </a:cubicBezTo>
                      <a:cubicBezTo>
                        <a:pt x="9379" y="10385"/>
                        <a:pt x="9095" y="6854"/>
                        <a:pt x="6253" y="9969"/>
                      </a:cubicBezTo>
                      <a:cubicBezTo>
                        <a:pt x="7105" y="12462"/>
                        <a:pt x="6537" y="11008"/>
                        <a:pt x="7958" y="14123"/>
                      </a:cubicBezTo>
                      <a:cubicBezTo>
                        <a:pt x="8242" y="14538"/>
                        <a:pt x="8526" y="15369"/>
                        <a:pt x="8526" y="15369"/>
                      </a:cubicBezTo>
                      <a:cubicBezTo>
                        <a:pt x="6821" y="17446"/>
                        <a:pt x="6253" y="19315"/>
                        <a:pt x="5684" y="21600"/>
                      </a:cubicBezTo>
                      <a:cubicBezTo>
                        <a:pt x="4832" y="21392"/>
                        <a:pt x="3979" y="21600"/>
                        <a:pt x="3411" y="21185"/>
                      </a:cubicBezTo>
                      <a:cubicBezTo>
                        <a:pt x="2558" y="20562"/>
                        <a:pt x="2274" y="18692"/>
                        <a:pt x="2274" y="18692"/>
                      </a:cubicBezTo>
                      <a:cubicBezTo>
                        <a:pt x="3695" y="15577"/>
                        <a:pt x="3979" y="13292"/>
                        <a:pt x="0" y="11215"/>
                      </a:cubicBezTo>
                      <a:cubicBezTo>
                        <a:pt x="284" y="9554"/>
                        <a:pt x="284" y="7892"/>
                        <a:pt x="568" y="6231"/>
                      </a:cubicBezTo>
                      <a:cubicBezTo>
                        <a:pt x="568" y="5608"/>
                        <a:pt x="3695" y="415"/>
                        <a:pt x="2274" y="3738"/>
                      </a:cubicBezTo>
                      <a:close/>
                      <a:moveTo>
                        <a:pt x="2274" y="37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5" name="Freeform 58"/>
                <p:cNvSpPr/>
                <p:nvPr/>
              </p:nvSpPr>
              <p:spPr>
                <a:xfrm>
                  <a:off x="7630560" y="687600"/>
                  <a:ext cx="23760" cy="30240"/>
                </a:xfrm>
                <a:custGeom>
                  <a:avLst/>
                  <a:gdLst/>
                  <a:ahLst/>
                  <a:rect l="l" t="t" r="r" b="b"/>
                  <a:pathLst>
                    <a:path w="21016" h="20786">
                      <a:moveTo>
                        <a:pt x="1167" y="9915"/>
                      </a:moveTo>
                      <a:cubicBezTo>
                        <a:pt x="2335" y="4957"/>
                        <a:pt x="584" y="2479"/>
                        <a:pt x="7005" y="0"/>
                      </a:cubicBezTo>
                      <a:cubicBezTo>
                        <a:pt x="14594" y="3187"/>
                        <a:pt x="12843" y="6020"/>
                        <a:pt x="8173" y="9915"/>
                      </a:cubicBezTo>
                      <a:cubicBezTo>
                        <a:pt x="14011" y="10977"/>
                        <a:pt x="18681" y="9561"/>
                        <a:pt x="21016" y="13456"/>
                      </a:cubicBezTo>
                      <a:cubicBezTo>
                        <a:pt x="16930" y="15934"/>
                        <a:pt x="15762" y="16643"/>
                        <a:pt x="10508" y="15580"/>
                      </a:cubicBezTo>
                      <a:cubicBezTo>
                        <a:pt x="7005" y="19121"/>
                        <a:pt x="9924" y="21600"/>
                        <a:pt x="2335" y="20538"/>
                      </a:cubicBezTo>
                      <a:cubicBezTo>
                        <a:pt x="-584" y="17705"/>
                        <a:pt x="1167" y="15580"/>
                        <a:pt x="0" y="12039"/>
                      </a:cubicBezTo>
                      <a:cubicBezTo>
                        <a:pt x="584" y="11331"/>
                        <a:pt x="1167" y="9915"/>
                        <a:pt x="1167" y="9915"/>
                      </a:cubicBezTo>
                      <a:close/>
                      <a:moveTo>
                        <a:pt x="1167" y="991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6" name="Freeform 59"/>
                <p:cNvSpPr/>
                <p:nvPr/>
              </p:nvSpPr>
              <p:spPr>
                <a:xfrm>
                  <a:off x="7637040" y="736920"/>
                  <a:ext cx="30240" cy="10800"/>
                </a:xfrm>
                <a:custGeom>
                  <a:avLst/>
                  <a:gdLst/>
                  <a:ahLst/>
                  <a:rect l="l" t="t" r="r" b="b"/>
                  <a:pathLst>
                    <a:path w="20607" h="17081">
                      <a:moveTo>
                        <a:pt x="2093" y="0"/>
                      </a:moveTo>
                      <a:cubicBezTo>
                        <a:pt x="5619" y="4469"/>
                        <a:pt x="7383" y="1490"/>
                        <a:pt x="11791" y="0"/>
                      </a:cubicBezTo>
                      <a:cubicBezTo>
                        <a:pt x="18844" y="3724"/>
                        <a:pt x="16640" y="2234"/>
                        <a:pt x="20607" y="11917"/>
                      </a:cubicBezTo>
                      <a:cubicBezTo>
                        <a:pt x="19285" y="21600"/>
                        <a:pt x="17521" y="15641"/>
                        <a:pt x="14436" y="10428"/>
                      </a:cubicBezTo>
                      <a:cubicBezTo>
                        <a:pt x="10468" y="11172"/>
                        <a:pt x="4297" y="14152"/>
                        <a:pt x="329" y="11917"/>
                      </a:cubicBezTo>
                      <a:cubicBezTo>
                        <a:pt x="-993" y="4469"/>
                        <a:pt x="2093" y="7448"/>
                        <a:pt x="2093" y="0"/>
                      </a:cubicBezTo>
                      <a:close/>
                      <a:moveTo>
                        <a:pt x="2093" y="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7" name="Freeform 60"/>
                <p:cNvSpPr/>
                <p:nvPr/>
              </p:nvSpPr>
              <p:spPr>
                <a:xfrm>
                  <a:off x="7670160" y="712800"/>
                  <a:ext cx="39960" cy="25560"/>
                </a:xfrm>
                <a:custGeom>
                  <a:avLst/>
                  <a:gdLst/>
                  <a:ahLst/>
                  <a:rect l="l" t="t" r="r" b="b"/>
                  <a:pathLst>
                    <a:path w="20849" h="20806">
                      <a:moveTo>
                        <a:pt x="6685" y="17100"/>
                      </a:moveTo>
                      <a:cubicBezTo>
                        <a:pt x="5977" y="15300"/>
                        <a:pt x="5977" y="13050"/>
                        <a:pt x="4560" y="11700"/>
                      </a:cubicBezTo>
                      <a:cubicBezTo>
                        <a:pt x="3498" y="10800"/>
                        <a:pt x="311" y="9900"/>
                        <a:pt x="311" y="9900"/>
                      </a:cubicBezTo>
                      <a:cubicBezTo>
                        <a:pt x="-751" y="5400"/>
                        <a:pt x="1019" y="5400"/>
                        <a:pt x="3852" y="3600"/>
                      </a:cubicBezTo>
                      <a:cubicBezTo>
                        <a:pt x="5269" y="2700"/>
                        <a:pt x="8101" y="0"/>
                        <a:pt x="8101" y="0"/>
                      </a:cubicBezTo>
                      <a:cubicBezTo>
                        <a:pt x="12351" y="900"/>
                        <a:pt x="13767" y="900"/>
                        <a:pt x="16600" y="4500"/>
                      </a:cubicBezTo>
                      <a:cubicBezTo>
                        <a:pt x="15183" y="9450"/>
                        <a:pt x="15538" y="5400"/>
                        <a:pt x="18016" y="9000"/>
                      </a:cubicBezTo>
                      <a:cubicBezTo>
                        <a:pt x="19079" y="10800"/>
                        <a:pt x="20849" y="14400"/>
                        <a:pt x="20849" y="14400"/>
                      </a:cubicBezTo>
                      <a:cubicBezTo>
                        <a:pt x="19079" y="21150"/>
                        <a:pt x="18016" y="18900"/>
                        <a:pt x="13767" y="17100"/>
                      </a:cubicBezTo>
                      <a:cubicBezTo>
                        <a:pt x="8810" y="21150"/>
                        <a:pt x="11288" y="21600"/>
                        <a:pt x="7393" y="19800"/>
                      </a:cubicBezTo>
                      <a:cubicBezTo>
                        <a:pt x="7039" y="18900"/>
                        <a:pt x="6685" y="17100"/>
                        <a:pt x="6685" y="17100"/>
                      </a:cubicBezTo>
                      <a:close/>
                      <a:moveTo>
                        <a:pt x="6685" y="171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8" name="Freeform 61"/>
                <p:cNvSpPr/>
                <p:nvPr/>
              </p:nvSpPr>
              <p:spPr>
                <a:xfrm>
                  <a:off x="7679880" y="725760"/>
                  <a:ext cx="193680" cy="93600"/>
                </a:xfrm>
                <a:custGeom>
                  <a:avLst/>
                  <a:gdLst/>
                  <a:ahLst/>
                  <a:rect l="l" t="t" r="r" b="b"/>
                  <a:pathLst>
                    <a:path w="21459" h="21201">
                      <a:moveTo>
                        <a:pt x="3474" y="3323"/>
                      </a:moveTo>
                      <a:cubicBezTo>
                        <a:pt x="3097" y="1662"/>
                        <a:pt x="3474" y="2018"/>
                        <a:pt x="2719" y="1662"/>
                      </a:cubicBezTo>
                      <a:cubicBezTo>
                        <a:pt x="2341" y="2018"/>
                        <a:pt x="1964" y="3560"/>
                        <a:pt x="1964" y="3560"/>
                      </a:cubicBezTo>
                      <a:cubicBezTo>
                        <a:pt x="906" y="2967"/>
                        <a:pt x="1435" y="2492"/>
                        <a:pt x="0" y="2848"/>
                      </a:cubicBezTo>
                      <a:cubicBezTo>
                        <a:pt x="151" y="3916"/>
                        <a:pt x="151" y="4391"/>
                        <a:pt x="755" y="4985"/>
                      </a:cubicBezTo>
                      <a:cubicBezTo>
                        <a:pt x="906" y="5815"/>
                        <a:pt x="1057" y="6527"/>
                        <a:pt x="1208" y="7358"/>
                      </a:cubicBezTo>
                      <a:cubicBezTo>
                        <a:pt x="1813" y="7002"/>
                        <a:pt x="2039" y="6765"/>
                        <a:pt x="1813" y="5697"/>
                      </a:cubicBezTo>
                      <a:cubicBezTo>
                        <a:pt x="1964" y="5578"/>
                        <a:pt x="2115" y="5103"/>
                        <a:pt x="2266" y="5222"/>
                      </a:cubicBezTo>
                      <a:cubicBezTo>
                        <a:pt x="3625" y="5697"/>
                        <a:pt x="2719" y="6171"/>
                        <a:pt x="3625" y="6646"/>
                      </a:cubicBezTo>
                      <a:cubicBezTo>
                        <a:pt x="5589" y="7714"/>
                        <a:pt x="3550" y="6646"/>
                        <a:pt x="5287" y="7358"/>
                      </a:cubicBezTo>
                      <a:cubicBezTo>
                        <a:pt x="5815" y="7596"/>
                        <a:pt x="6646" y="8545"/>
                        <a:pt x="6646" y="8545"/>
                      </a:cubicBezTo>
                      <a:cubicBezTo>
                        <a:pt x="7250" y="9969"/>
                        <a:pt x="7703" y="10325"/>
                        <a:pt x="8006" y="12105"/>
                      </a:cubicBezTo>
                      <a:cubicBezTo>
                        <a:pt x="7930" y="12936"/>
                        <a:pt x="8006" y="13648"/>
                        <a:pt x="7855" y="14479"/>
                      </a:cubicBezTo>
                      <a:cubicBezTo>
                        <a:pt x="7779" y="14954"/>
                        <a:pt x="7099" y="15666"/>
                        <a:pt x="7401" y="15903"/>
                      </a:cubicBezTo>
                      <a:cubicBezTo>
                        <a:pt x="8006" y="16259"/>
                        <a:pt x="9214" y="15191"/>
                        <a:pt x="9214" y="15191"/>
                      </a:cubicBezTo>
                      <a:cubicBezTo>
                        <a:pt x="9818" y="15547"/>
                        <a:pt x="10045" y="16022"/>
                        <a:pt x="10573" y="16615"/>
                      </a:cubicBezTo>
                      <a:cubicBezTo>
                        <a:pt x="11178" y="17209"/>
                        <a:pt x="12008" y="17209"/>
                        <a:pt x="12688" y="17565"/>
                      </a:cubicBezTo>
                      <a:cubicBezTo>
                        <a:pt x="12839" y="17446"/>
                        <a:pt x="13066" y="17565"/>
                        <a:pt x="13141" y="17327"/>
                      </a:cubicBezTo>
                      <a:cubicBezTo>
                        <a:pt x="13292" y="16853"/>
                        <a:pt x="12386" y="16141"/>
                        <a:pt x="12688" y="15903"/>
                      </a:cubicBezTo>
                      <a:cubicBezTo>
                        <a:pt x="12915" y="15666"/>
                        <a:pt x="13217" y="16022"/>
                        <a:pt x="13443" y="16141"/>
                      </a:cubicBezTo>
                      <a:cubicBezTo>
                        <a:pt x="13745" y="15547"/>
                        <a:pt x="14048" y="14004"/>
                        <a:pt x="14048" y="14004"/>
                      </a:cubicBezTo>
                      <a:cubicBezTo>
                        <a:pt x="14274" y="14123"/>
                        <a:pt x="15029" y="14242"/>
                        <a:pt x="15256" y="14479"/>
                      </a:cubicBezTo>
                      <a:cubicBezTo>
                        <a:pt x="15558" y="14716"/>
                        <a:pt x="16162" y="15429"/>
                        <a:pt x="16162" y="15429"/>
                      </a:cubicBezTo>
                      <a:cubicBezTo>
                        <a:pt x="16917" y="17209"/>
                        <a:pt x="17220" y="18752"/>
                        <a:pt x="18428" y="19938"/>
                      </a:cubicBezTo>
                      <a:cubicBezTo>
                        <a:pt x="18881" y="20413"/>
                        <a:pt x="19787" y="21125"/>
                        <a:pt x="19787" y="21125"/>
                      </a:cubicBezTo>
                      <a:cubicBezTo>
                        <a:pt x="20014" y="21125"/>
                        <a:pt x="21600" y="21600"/>
                        <a:pt x="21449" y="20176"/>
                      </a:cubicBezTo>
                      <a:cubicBezTo>
                        <a:pt x="21373" y="19464"/>
                        <a:pt x="20241" y="18989"/>
                        <a:pt x="20241" y="18989"/>
                      </a:cubicBezTo>
                      <a:cubicBezTo>
                        <a:pt x="19712" y="17802"/>
                        <a:pt x="20392" y="16971"/>
                        <a:pt x="19334" y="16378"/>
                      </a:cubicBezTo>
                      <a:cubicBezTo>
                        <a:pt x="19183" y="16141"/>
                        <a:pt x="18957" y="16022"/>
                        <a:pt x="18881" y="15666"/>
                      </a:cubicBezTo>
                      <a:cubicBezTo>
                        <a:pt x="18730" y="15310"/>
                        <a:pt x="18881" y="14835"/>
                        <a:pt x="18730" y="14479"/>
                      </a:cubicBezTo>
                      <a:cubicBezTo>
                        <a:pt x="18579" y="14004"/>
                        <a:pt x="18126" y="14004"/>
                        <a:pt x="17824" y="13767"/>
                      </a:cubicBezTo>
                      <a:cubicBezTo>
                        <a:pt x="17371" y="12699"/>
                        <a:pt x="17144" y="11868"/>
                        <a:pt x="18126" y="11393"/>
                      </a:cubicBezTo>
                      <a:cubicBezTo>
                        <a:pt x="17824" y="9851"/>
                        <a:pt x="17824" y="9969"/>
                        <a:pt x="16615" y="10207"/>
                      </a:cubicBezTo>
                      <a:cubicBezTo>
                        <a:pt x="15785" y="9732"/>
                        <a:pt x="15709" y="9732"/>
                        <a:pt x="15860" y="8308"/>
                      </a:cubicBezTo>
                      <a:cubicBezTo>
                        <a:pt x="15634" y="7121"/>
                        <a:pt x="15029" y="6765"/>
                        <a:pt x="14350" y="6409"/>
                      </a:cubicBezTo>
                      <a:cubicBezTo>
                        <a:pt x="13670" y="5341"/>
                        <a:pt x="13670" y="4985"/>
                        <a:pt x="12688" y="4510"/>
                      </a:cubicBezTo>
                      <a:cubicBezTo>
                        <a:pt x="12386" y="4391"/>
                        <a:pt x="11782" y="4035"/>
                        <a:pt x="11782" y="4035"/>
                      </a:cubicBezTo>
                      <a:cubicBezTo>
                        <a:pt x="11027" y="2848"/>
                        <a:pt x="10120" y="2492"/>
                        <a:pt x="9063" y="1899"/>
                      </a:cubicBezTo>
                      <a:cubicBezTo>
                        <a:pt x="8534" y="1662"/>
                        <a:pt x="8157" y="949"/>
                        <a:pt x="7703" y="475"/>
                      </a:cubicBezTo>
                      <a:cubicBezTo>
                        <a:pt x="7552" y="356"/>
                        <a:pt x="7250" y="0"/>
                        <a:pt x="7250" y="0"/>
                      </a:cubicBezTo>
                      <a:cubicBezTo>
                        <a:pt x="6269" y="237"/>
                        <a:pt x="5966" y="119"/>
                        <a:pt x="5287" y="1187"/>
                      </a:cubicBezTo>
                      <a:cubicBezTo>
                        <a:pt x="5060" y="2255"/>
                        <a:pt x="4758" y="3204"/>
                        <a:pt x="4229" y="3798"/>
                      </a:cubicBezTo>
                      <a:cubicBezTo>
                        <a:pt x="3701" y="3560"/>
                        <a:pt x="3927" y="3679"/>
                        <a:pt x="3474" y="3323"/>
                      </a:cubicBezTo>
                      <a:close/>
                      <a:moveTo>
                        <a:pt x="3474" y="332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09" name="Freeform 62"/>
                <p:cNvSpPr/>
                <p:nvPr/>
              </p:nvSpPr>
              <p:spPr>
                <a:xfrm>
                  <a:off x="7849800" y="73512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20723" h="21007">
                      <a:moveTo>
                        <a:pt x="0" y="15469"/>
                      </a:moveTo>
                      <a:cubicBezTo>
                        <a:pt x="1385" y="11592"/>
                        <a:pt x="4708" y="15192"/>
                        <a:pt x="7200" y="16022"/>
                      </a:cubicBezTo>
                      <a:cubicBezTo>
                        <a:pt x="9415" y="15192"/>
                        <a:pt x="10246" y="13807"/>
                        <a:pt x="12185" y="12699"/>
                      </a:cubicBezTo>
                      <a:cubicBezTo>
                        <a:pt x="13015" y="10484"/>
                        <a:pt x="13846" y="9376"/>
                        <a:pt x="15508" y="7715"/>
                      </a:cubicBezTo>
                      <a:cubicBezTo>
                        <a:pt x="14954" y="5776"/>
                        <a:pt x="11631" y="3284"/>
                        <a:pt x="11631" y="3284"/>
                      </a:cubicBezTo>
                      <a:cubicBezTo>
                        <a:pt x="8861" y="-593"/>
                        <a:pt x="8031" y="-316"/>
                        <a:pt x="11631" y="515"/>
                      </a:cubicBezTo>
                      <a:cubicBezTo>
                        <a:pt x="14677" y="2453"/>
                        <a:pt x="15785" y="5499"/>
                        <a:pt x="19385" y="6607"/>
                      </a:cubicBezTo>
                      <a:cubicBezTo>
                        <a:pt x="21323" y="9653"/>
                        <a:pt x="21323" y="12145"/>
                        <a:pt x="18277" y="14361"/>
                      </a:cubicBezTo>
                      <a:cubicBezTo>
                        <a:pt x="13846" y="12976"/>
                        <a:pt x="14400" y="19069"/>
                        <a:pt x="8861" y="21007"/>
                      </a:cubicBezTo>
                      <a:cubicBezTo>
                        <a:pt x="4154" y="19345"/>
                        <a:pt x="6646" y="20453"/>
                        <a:pt x="2215" y="17684"/>
                      </a:cubicBezTo>
                      <a:cubicBezTo>
                        <a:pt x="1661" y="17407"/>
                        <a:pt x="554" y="16576"/>
                        <a:pt x="554" y="16576"/>
                      </a:cubicBezTo>
                      <a:cubicBezTo>
                        <a:pt x="-277" y="14361"/>
                        <a:pt x="3323" y="11038"/>
                        <a:pt x="0" y="15469"/>
                      </a:cubicBezTo>
                      <a:close/>
                      <a:moveTo>
                        <a:pt x="0" y="15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0" name="Freeform 63"/>
                <p:cNvSpPr/>
                <p:nvPr/>
              </p:nvSpPr>
              <p:spPr>
                <a:xfrm>
                  <a:off x="7575120" y="614520"/>
                  <a:ext cx="54000" cy="4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3500"/>
                      </a:moveTo>
                      <a:cubicBezTo>
                        <a:pt x="270" y="12690"/>
                        <a:pt x="3240" y="6750"/>
                        <a:pt x="3780" y="6480"/>
                      </a:cubicBezTo>
                      <a:cubicBezTo>
                        <a:pt x="4590" y="5940"/>
                        <a:pt x="7020" y="5400"/>
                        <a:pt x="7020" y="5400"/>
                      </a:cubicBezTo>
                      <a:cubicBezTo>
                        <a:pt x="9180" y="6210"/>
                        <a:pt x="10800" y="5670"/>
                        <a:pt x="12960" y="4860"/>
                      </a:cubicBezTo>
                      <a:cubicBezTo>
                        <a:pt x="14040" y="3240"/>
                        <a:pt x="14580" y="1620"/>
                        <a:pt x="15660" y="0"/>
                      </a:cubicBezTo>
                      <a:cubicBezTo>
                        <a:pt x="18900" y="1080"/>
                        <a:pt x="20520" y="7560"/>
                        <a:pt x="21600" y="10800"/>
                      </a:cubicBezTo>
                      <a:cubicBezTo>
                        <a:pt x="20250" y="14580"/>
                        <a:pt x="21600" y="13500"/>
                        <a:pt x="18900" y="15120"/>
                      </a:cubicBezTo>
                      <a:cubicBezTo>
                        <a:pt x="16470" y="14310"/>
                        <a:pt x="15930" y="14580"/>
                        <a:pt x="14580" y="16740"/>
                      </a:cubicBezTo>
                      <a:cubicBezTo>
                        <a:pt x="15390" y="19170"/>
                        <a:pt x="15120" y="20250"/>
                        <a:pt x="12960" y="21600"/>
                      </a:cubicBezTo>
                      <a:cubicBezTo>
                        <a:pt x="10800" y="20790"/>
                        <a:pt x="10530" y="19440"/>
                        <a:pt x="8640" y="18360"/>
                      </a:cubicBezTo>
                      <a:cubicBezTo>
                        <a:pt x="7020" y="15930"/>
                        <a:pt x="8100" y="15390"/>
                        <a:pt x="10260" y="14040"/>
                      </a:cubicBezTo>
                      <a:cubicBezTo>
                        <a:pt x="11070" y="11340"/>
                        <a:pt x="10530" y="9180"/>
                        <a:pt x="8100" y="7560"/>
                      </a:cubicBezTo>
                      <a:cubicBezTo>
                        <a:pt x="5400" y="8370"/>
                        <a:pt x="8100" y="10800"/>
                        <a:pt x="5400" y="12960"/>
                      </a:cubicBezTo>
                      <a:cubicBezTo>
                        <a:pt x="4320" y="13770"/>
                        <a:pt x="2160" y="15120"/>
                        <a:pt x="2160" y="15120"/>
                      </a:cubicBezTo>
                      <a:cubicBezTo>
                        <a:pt x="540" y="13500"/>
                        <a:pt x="1350" y="13500"/>
                        <a:pt x="0" y="13500"/>
                      </a:cubicBezTo>
                      <a:close/>
                      <a:moveTo>
                        <a:pt x="0" y="135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1" name="Freeform 64"/>
                <p:cNvSpPr/>
                <p:nvPr/>
              </p:nvSpPr>
              <p:spPr>
                <a:xfrm>
                  <a:off x="7560720" y="524160"/>
                  <a:ext cx="58680" cy="91800"/>
                </a:xfrm>
                <a:custGeom>
                  <a:avLst/>
                  <a:gdLst/>
                  <a:ahLst/>
                  <a:rect l="l" t="t" r="r" b="b"/>
                  <a:pathLst>
                    <a:path w="20112" h="21600">
                      <a:moveTo>
                        <a:pt x="2618" y="11917"/>
                      </a:moveTo>
                      <a:cubicBezTo>
                        <a:pt x="1929" y="13531"/>
                        <a:pt x="2848" y="14897"/>
                        <a:pt x="5375" y="15890"/>
                      </a:cubicBezTo>
                      <a:cubicBezTo>
                        <a:pt x="7214" y="14897"/>
                        <a:pt x="7444" y="14772"/>
                        <a:pt x="6754" y="13407"/>
                      </a:cubicBezTo>
                      <a:cubicBezTo>
                        <a:pt x="7444" y="11421"/>
                        <a:pt x="8363" y="11421"/>
                        <a:pt x="11350" y="12414"/>
                      </a:cubicBezTo>
                      <a:cubicBezTo>
                        <a:pt x="12958" y="13655"/>
                        <a:pt x="10661" y="14152"/>
                        <a:pt x="9971" y="15393"/>
                      </a:cubicBezTo>
                      <a:cubicBezTo>
                        <a:pt x="10890" y="17007"/>
                        <a:pt x="12499" y="16014"/>
                        <a:pt x="14567" y="15641"/>
                      </a:cubicBezTo>
                      <a:cubicBezTo>
                        <a:pt x="17095" y="16014"/>
                        <a:pt x="17554" y="16262"/>
                        <a:pt x="16865" y="17628"/>
                      </a:cubicBezTo>
                      <a:cubicBezTo>
                        <a:pt x="14797" y="17255"/>
                        <a:pt x="14337" y="17503"/>
                        <a:pt x="12729" y="18372"/>
                      </a:cubicBezTo>
                      <a:cubicBezTo>
                        <a:pt x="13188" y="19862"/>
                        <a:pt x="13648" y="21103"/>
                        <a:pt x="16405" y="21600"/>
                      </a:cubicBezTo>
                      <a:cubicBezTo>
                        <a:pt x="17095" y="20483"/>
                        <a:pt x="16405" y="19490"/>
                        <a:pt x="18703" y="19117"/>
                      </a:cubicBezTo>
                      <a:cubicBezTo>
                        <a:pt x="20312" y="17752"/>
                        <a:pt x="21001" y="15145"/>
                        <a:pt x="18244" y="13903"/>
                      </a:cubicBezTo>
                      <a:cubicBezTo>
                        <a:pt x="17095" y="13407"/>
                        <a:pt x="14567" y="13407"/>
                        <a:pt x="13188" y="13159"/>
                      </a:cubicBezTo>
                      <a:cubicBezTo>
                        <a:pt x="14337" y="11421"/>
                        <a:pt x="14567" y="10800"/>
                        <a:pt x="10890" y="10179"/>
                      </a:cubicBezTo>
                      <a:cubicBezTo>
                        <a:pt x="10431" y="10179"/>
                        <a:pt x="7903" y="10676"/>
                        <a:pt x="7214" y="10179"/>
                      </a:cubicBezTo>
                      <a:cubicBezTo>
                        <a:pt x="6754" y="9807"/>
                        <a:pt x="6295" y="8690"/>
                        <a:pt x="6295" y="8690"/>
                      </a:cubicBezTo>
                      <a:cubicBezTo>
                        <a:pt x="6754" y="6703"/>
                        <a:pt x="6754" y="6455"/>
                        <a:pt x="9052" y="5214"/>
                      </a:cubicBezTo>
                      <a:cubicBezTo>
                        <a:pt x="8822" y="3724"/>
                        <a:pt x="9741" y="621"/>
                        <a:pt x="6295" y="0"/>
                      </a:cubicBezTo>
                      <a:cubicBezTo>
                        <a:pt x="2618" y="497"/>
                        <a:pt x="3078" y="497"/>
                        <a:pt x="3537" y="2731"/>
                      </a:cubicBezTo>
                      <a:cubicBezTo>
                        <a:pt x="3078" y="4841"/>
                        <a:pt x="2848" y="4345"/>
                        <a:pt x="320" y="5710"/>
                      </a:cubicBezTo>
                      <a:cubicBezTo>
                        <a:pt x="-599" y="7324"/>
                        <a:pt x="550" y="8317"/>
                        <a:pt x="2618" y="9434"/>
                      </a:cubicBezTo>
                      <a:cubicBezTo>
                        <a:pt x="2848" y="9931"/>
                        <a:pt x="3307" y="11545"/>
                        <a:pt x="2618" y="11917"/>
                      </a:cubicBezTo>
                      <a:close/>
                      <a:moveTo>
                        <a:pt x="2618" y="1191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2" name="Freeform 65"/>
                <p:cNvSpPr/>
                <p:nvPr/>
              </p:nvSpPr>
              <p:spPr>
                <a:xfrm>
                  <a:off x="7576560" y="59076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19657" h="21600">
                      <a:moveTo>
                        <a:pt x="2107" y="10368"/>
                      </a:moveTo>
                      <a:cubicBezTo>
                        <a:pt x="-1943" y="6480"/>
                        <a:pt x="82" y="2592"/>
                        <a:pt x="6157" y="0"/>
                      </a:cubicBezTo>
                      <a:cubicBezTo>
                        <a:pt x="13582" y="1296"/>
                        <a:pt x="13582" y="2160"/>
                        <a:pt x="11557" y="6912"/>
                      </a:cubicBezTo>
                      <a:cubicBezTo>
                        <a:pt x="12232" y="8208"/>
                        <a:pt x="11557" y="9504"/>
                        <a:pt x="12907" y="10368"/>
                      </a:cubicBezTo>
                      <a:cubicBezTo>
                        <a:pt x="13582" y="11232"/>
                        <a:pt x="16282" y="10368"/>
                        <a:pt x="16957" y="11232"/>
                      </a:cubicBezTo>
                      <a:cubicBezTo>
                        <a:pt x="18307" y="12528"/>
                        <a:pt x="19657" y="16416"/>
                        <a:pt x="19657" y="16416"/>
                      </a:cubicBezTo>
                      <a:cubicBezTo>
                        <a:pt x="17632" y="19872"/>
                        <a:pt x="15607" y="20304"/>
                        <a:pt x="10207" y="21600"/>
                      </a:cubicBezTo>
                      <a:cubicBezTo>
                        <a:pt x="6157" y="17712"/>
                        <a:pt x="10207" y="10368"/>
                        <a:pt x="2107" y="10368"/>
                      </a:cubicBezTo>
                      <a:close/>
                      <a:moveTo>
                        <a:pt x="2107" y="1036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3" name="Freeform 66"/>
                <p:cNvSpPr/>
                <p:nvPr/>
              </p:nvSpPr>
              <p:spPr>
                <a:xfrm>
                  <a:off x="7529040" y="596880"/>
                  <a:ext cx="28440" cy="27000"/>
                </a:xfrm>
                <a:custGeom>
                  <a:avLst/>
                  <a:gdLst/>
                  <a:ahLst/>
                  <a:rect l="l" t="t" r="r" b="b"/>
                  <a:pathLst>
                    <a:path w="19483" h="21600">
                      <a:moveTo>
                        <a:pt x="0" y="19008"/>
                      </a:moveTo>
                      <a:cubicBezTo>
                        <a:pt x="3014" y="16416"/>
                        <a:pt x="9042" y="12528"/>
                        <a:pt x="11051" y="8640"/>
                      </a:cubicBezTo>
                      <a:cubicBezTo>
                        <a:pt x="13563" y="4320"/>
                        <a:pt x="12558" y="1728"/>
                        <a:pt x="18084" y="0"/>
                      </a:cubicBezTo>
                      <a:cubicBezTo>
                        <a:pt x="21600" y="4752"/>
                        <a:pt x="18084" y="10368"/>
                        <a:pt x="12056" y="12096"/>
                      </a:cubicBezTo>
                      <a:cubicBezTo>
                        <a:pt x="10549" y="16416"/>
                        <a:pt x="6028" y="20304"/>
                        <a:pt x="1005" y="21600"/>
                      </a:cubicBezTo>
                      <a:cubicBezTo>
                        <a:pt x="502" y="20736"/>
                        <a:pt x="0" y="19008"/>
                        <a:pt x="0" y="19008"/>
                      </a:cubicBezTo>
                      <a:close/>
                      <a:moveTo>
                        <a:pt x="0" y="1900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4" name="Freeform 67"/>
                <p:cNvSpPr/>
                <p:nvPr/>
              </p:nvSpPr>
              <p:spPr>
                <a:xfrm>
                  <a:off x="7870320" y="22572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2691" h="13578">
                      <a:moveTo>
                        <a:pt x="0" y="10599"/>
                      </a:moveTo>
                      <a:cubicBezTo>
                        <a:pt x="5268" y="171"/>
                        <a:pt x="21600" y="-8022"/>
                        <a:pt x="6322" y="13578"/>
                      </a:cubicBezTo>
                      <a:cubicBezTo>
                        <a:pt x="4215" y="12833"/>
                        <a:pt x="0" y="10599"/>
                        <a:pt x="0" y="10599"/>
                      </a:cubicBezTo>
                      <a:close/>
                      <a:moveTo>
                        <a:pt x="0" y="1059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5" name="Freeform 68"/>
                <p:cNvSpPr/>
                <p:nvPr/>
              </p:nvSpPr>
              <p:spPr>
                <a:xfrm>
                  <a:off x="7090920" y="174600"/>
                  <a:ext cx="695160" cy="24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3600" y="142"/>
                      </a:moveTo>
                      <a:lnTo>
                        <a:pt x="21600" y="0"/>
                      </a:lnTo>
                      <a:cubicBezTo>
                        <a:pt x="21304" y="2132"/>
                        <a:pt x="21156" y="5968"/>
                        <a:pt x="20515" y="7674"/>
                      </a:cubicBezTo>
                      <a:cubicBezTo>
                        <a:pt x="20219" y="8526"/>
                        <a:pt x="19973" y="8953"/>
                        <a:pt x="19578" y="9663"/>
                      </a:cubicBezTo>
                      <a:cubicBezTo>
                        <a:pt x="19529" y="9805"/>
                        <a:pt x="19332" y="9947"/>
                        <a:pt x="19332" y="9947"/>
                      </a:cubicBezTo>
                      <a:cubicBezTo>
                        <a:pt x="18592" y="8953"/>
                        <a:pt x="18986" y="9663"/>
                        <a:pt x="18493" y="10374"/>
                      </a:cubicBezTo>
                      <a:cubicBezTo>
                        <a:pt x="18296" y="11653"/>
                        <a:pt x="18296" y="11795"/>
                        <a:pt x="17803" y="12505"/>
                      </a:cubicBezTo>
                      <a:cubicBezTo>
                        <a:pt x="17704" y="13074"/>
                        <a:pt x="17951" y="13216"/>
                        <a:pt x="17852" y="14068"/>
                      </a:cubicBezTo>
                      <a:cubicBezTo>
                        <a:pt x="17901" y="14495"/>
                        <a:pt x="17951" y="14921"/>
                        <a:pt x="17951" y="15205"/>
                      </a:cubicBezTo>
                      <a:cubicBezTo>
                        <a:pt x="18000" y="15489"/>
                        <a:pt x="18049" y="15774"/>
                        <a:pt x="18049" y="16058"/>
                      </a:cubicBezTo>
                      <a:cubicBezTo>
                        <a:pt x="18000" y="16342"/>
                        <a:pt x="17951" y="17053"/>
                        <a:pt x="17852" y="17337"/>
                      </a:cubicBezTo>
                      <a:cubicBezTo>
                        <a:pt x="17704" y="17479"/>
                        <a:pt x="17458" y="16911"/>
                        <a:pt x="17310" y="17053"/>
                      </a:cubicBezTo>
                      <a:cubicBezTo>
                        <a:pt x="17112" y="18332"/>
                        <a:pt x="17359" y="18047"/>
                        <a:pt x="16866" y="18332"/>
                      </a:cubicBezTo>
                      <a:cubicBezTo>
                        <a:pt x="16767" y="17479"/>
                        <a:pt x="17014" y="15774"/>
                        <a:pt x="17112" y="14921"/>
                      </a:cubicBezTo>
                      <a:cubicBezTo>
                        <a:pt x="17112" y="14211"/>
                        <a:pt x="16668" y="14495"/>
                        <a:pt x="16668" y="14211"/>
                      </a:cubicBezTo>
                      <a:cubicBezTo>
                        <a:pt x="16668" y="13926"/>
                        <a:pt x="16964" y="13500"/>
                        <a:pt x="16964" y="13216"/>
                      </a:cubicBezTo>
                      <a:cubicBezTo>
                        <a:pt x="16964" y="13074"/>
                        <a:pt x="16964" y="12647"/>
                        <a:pt x="16866" y="12647"/>
                      </a:cubicBezTo>
                      <a:cubicBezTo>
                        <a:pt x="16718" y="12647"/>
                        <a:pt x="15978" y="13358"/>
                        <a:pt x="15781" y="13358"/>
                      </a:cubicBezTo>
                      <a:cubicBezTo>
                        <a:pt x="15633" y="12221"/>
                        <a:pt x="16175" y="12505"/>
                        <a:pt x="15633" y="12079"/>
                      </a:cubicBezTo>
                      <a:cubicBezTo>
                        <a:pt x="15337" y="12932"/>
                        <a:pt x="15090" y="13216"/>
                        <a:pt x="14647" y="13358"/>
                      </a:cubicBezTo>
                      <a:cubicBezTo>
                        <a:pt x="14795" y="14779"/>
                        <a:pt x="15140" y="14353"/>
                        <a:pt x="15781" y="14637"/>
                      </a:cubicBezTo>
                      <a:cubicBezTo>
                        <a:pt x="15682" y="15489"/>
                        <a:pt x="15337" y="15774"/>
                        <a:pt x="15041" y="16626"/>
                      </a:cubicBezTo>
                      <a:lnTo>
                        <a:pt x="15337" y="17905"/>
                      </a:lnTo>
                      <a:lnTo>
                        <a:pt x="15534" y="19611"/>
                      </a:lnTo>
                      <a:lnTo>
                        <a:pt x="15238" y="19753"/>
                      </a:lnTo>
                      <a:lnTo>
                        <a:pt x="15485" y="20463"/>
                      </a:lnTo>
                      <a:lnTo>
                        <a:pt x="15140" y="21600"/>
                      </a:lnTo>
                      <a:lnTo>
                        <a:pt x="0" y="21174"/>
                      </a:lnTo>
                      <a:lnTo>
                        <a:pt x="3600" y="142"/>
                      </a:lnTo>
                      <a:close/>
                      <a:moveTo>
                        <a:pt x="3600" y="14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6" name="Freeform 69"/>
                <p:cNvSpPr/>
                <p:nvPr/>
              </p:nvSpPr>
              <p:spPr>
                <a:xfrm>
                  <a:off x="7787880" y="165240"/>
                  <a:ext cx="31680" cy="84240"/>
                </a:xfrm>
                <a:custGeom>
                  <a:avLst/>
                  <a:gdLst/>
                  <a:ahLst/>
                  <a:rect l="l" t="t" r="r" b="b"/>
                  <a:pathLst>
                    <a:path w="20564" h="20945">
                      <a:moveTo>
                        <a:pt x="1262" y="20422"/>
                      </a:moveTo>
                      <a:cubicBezTo>
                        <a:pt x="-1036" y="18458"/>
                        <a:pt x="-576" y="15447"/>
                        <a:pt x="5858" y="14138"/>
                      </a:cubicBezTo>
                      <a:cubicBezTo>
                        <a:pt x="6317" y="12436"/>
                        <a:pt x="6777" y="10604"/>
                        <a:pt x="6777" y="8902"/>
                      </a:cubicBezTo>
                      <a:cubicBezTo>
                        <a:pt x="6777" y="7593"/>
                        <a:pt x="4019" y="5236"/>
                        <a:pt x="4019" y="5236"/>
                      </a:cubicBezTo>
                      <a:cubicBezTo>
                        <a:pt x="5398" y="2618"/>
                        <a:pt x="4019" y="3796"/>
                        <a:pt x="6777" y="1571"/>
                      </a:cubicBezTo>
                      <a:cubicBezTo>
                        <a:pt x="7236" y="1047"/>
                        <a:pt x="8615" y="0"/>
                        <a:pt x="8615" y="0"/>
                      </a:cubicBezTo>
                      <a:cubicBezTo>
                        <a:pt x="16428" y="785"/>
                        <a:pt x="14130" y="916"/>
                        <a:pt x="13211" y="3927"/>
                      </a:cubicBezTo>
                      <a:cubicBezTo>
                        <a:pt x="16428" y="6807"/>
                        <a:pt x="17347" y="9949"/>
                        <a:pt x="20564" y="12829"/>
                      </a:cubicBezTo>
                      <a:cubicBezTo>
                        <a:pt x="19185" y="15185"/>
                        <a:pt x="19645" y="14793"/>
                        <a:pt x="13211" y="14138"/>
                      </a:cubicBezTo>
                      <a:cubicBezTo>
                        <a:pt x="10453" y="15447"/>
                        <a:pt x="11832" y="14662"/>
                        <a:pt x="9534" y="16495"/>
                      </a:cubicBezTo>
                      <a:cubicBezTo>
                        <a:pt x="9075" y="16756"/>
                        <a:pt x="8615" y="17280"/>
                        <a:pt x="8615" y="17280"/>
                      </a:cubicBezTo>
                      <a:cubicBezTo>
                        <a:pt x="9534" y="17411"/>
                        <a:pt x="10913" y="17280"/>
                        <a:pt x="11373" y="17542"/>
                      </a:cubicBezTo>
                      <a:cubicBezTo>
                        <a:pt x="12292" y="17935"/>
                        <a:pt x="13211" y="19113"/>
                        <a:pt x="13211" y="19113"/>
                      </a:cubicBezTo>
                      <a:cubicBezTo>
                        <a:pt x="11373" y="21600"/>
                        <a:pt x="9534" y="20291"/>
                        <a:pt x="4938" y="19375"/>
                      </a:cubicBezTo>
                      <a:cubicBezTo>
                        <a:pt x="4019" y="19898"/>
                        <a:pt x="4019" y="20945"/>
                        <a:pt x="2181" y="20945"/>
                      </a:cubicBezTo>
                      <a:cubicBezTo>
                        <a:pt x="1262" y="20945"/>
                        <a:pt x="802" y="20422"/>
                        <a:pt x="343" y="20160"/>
                      </a:cubicBezTo>
                      <a:cubicBezTo>
                        <a:pt x="343" y="20029"/>
                        <a:pt x="802" y="20291"/>
                        <a:pt x="1262" y="20422"/>
                      </a:cubicBezTo>
                      <a:close/>
                      <a:moveTo>
                        <a:pt x="1262" y="20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7" name="Freeform 70"/>
                <p:cNvSpPr/>
                <p:nvPr/>
              </p:nvSpPr>
              <p:spPr>
                <a:xfrm>
                  <a:off x="7767000" y="243000"/>
                  <a:ext cx="93960" cy="50760"/>
                </a:xfrm>
                <a:custGeom>
                  <a:avLst/>
                  <a:gdLst/>
                  <a:ahLst/>
                  <a:rect l="l" t="t" r="r" b="b"/>
                  <a:pathLst>
                    <a:path w="21600" h="20277">
                      <a:moveTo>
                        <a:pt x="4070" y="11469"/>
                      </a:moveTo>
                      <a:cubicBezTo>
                        <a:pt x="4539" y="9792"/>
                        <a:pt x="5165" y="9372"/>
                        <a:pt x="4696" y="7694"/>
                      </a:cubicBezTo>
                      <a:cubicBezTo>
                        <a:pt x="5165" y="4339"/>
                        <a:pt x="5791" y="3710"/>
                        <a:pt x="7826" y="5597"/>
                      </a:cubicBezTo>
                      <a:cubicBezTo>
                        <a:pt x="7983" y="6436"/>
                        <a:pt x="8296" y="7275"/>
                        <a:pt x="8452" y="8114"/>
                      </a:cubicBezTo>
                      <a:cubicBezTo>
                        <a:pt x="8609" y="8953"/>
                        <a:pt x="10330" y="8953"/>
                        <a:pt x="10330" y="8953"/>
                      </a:cubicBezTo>
                      <a:cubicBezTo>
                        <a:pt x="11739" y="7694"/>
                        <a:pt x="12052" y="8114"/>
                        <a:pt x="12522" y="10211"/>
                      </a:cubicBezTo>
                      <a:cubicBezTo>
                        <a:pt x="14400" y="8533"/>
                        <a:pt x="15809" y="6436"/>
                        <a:pt x="18157" y="5597"/>
                      </a:cubicBezTo>
                      <a:cubicBezTo>
                        <a:pt x="19565" y="2661"/>
                        <a:pt x="18783" y="3710"/>
                        <a:pt x="20348" y="2242"/>
                      </a:cubicBezTo>
                      <a:cubicBezTo>
                        <a:pt x="20974" y="984"/>
                        <a:pt x="20974" y="-1323"/>
                        <a:pt x="21600" y="984"/>
                      </a:cubicBezTo>
                      <a:cubicBezTo>
                        <a:pt x="21130" y="5178"/>
                        <a:pt x="19722" y="8114"/>
                        <a:pt x="16591" y="8953"/>
                      </a:cubicBezTo>
                      <a:cubicBezTo>
                        <a:pt x="15183" y="10211"/>
                        <a:pt x="14557" y="11469"/>
                        <a:pt x="13148" y="12727"/>
                      </a:cubicBezTo>
                      <a:cubicBezTo>
                        <a:pt x="12522" y="15244"/>
                        <a:pt x="12365" y="15244"/>
                        <a:pt x="10330" y="15663"/>
                      </a:cubicBezTo>
                      <a:cubicBezTo>
                        <a:pt x="9391" y="17551"/>
                        <a:pt x="8922" y="19019"/>
                        <a:pt x="7513" y="20277"/>
                      </a:cubicBezTo>
                      <a:cubicBezTo>
                        <a:pt x="6574" y="18390"/>
                        <a:pt x="5791" y="18180"/>
                        <a:pt x="4070" y="17341"/>
                      </a:cubicBezTo>
                      <a:cubicBezTo>
                        <a:pt x="3757" y="17131"/>
                        <a:pt x="3130" y="16922"/>
                        <a:pt x="3130" y="16922"/>
                      </a:cubicBezTo>
                      <a:cubicBezTo>
                        <a:pt x="1565" y="17551"/>
                        <a:pt x="2191" y="18390"/>
                        <a:pt x="3443" y="19019"/>
                      </a:cubicBezTo>
                      <a:cubicBezTo>
                        <a:pt x="2191" y="20277"/>
                        <a:pt x="1409" y="19648"/>
                        <a:pt x="0" y="19019"/>
                      </a:cubicBezTo>
                      <a:cubicBezTo>
                        <a:pt x="313" y="16922"/>
                        <a:pt x="157" y="15873"/>
                        <a:pt x="1565" y="15244"/>
                      </a:cubicBezTo>
                      <a:cubicBezTo>
                        <a:pt x="2348" y="11889"/>
                        <a:pt x="2191" y="13147"/>
                        <a:pt x="4070" y="11469"/>
                      </a:cubicBezTo>
                      <a:close/>
                      <a:moveTo>
                        <a:pt x="4070" y="1146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8" name="Freeform 71"/>
                <p:cNvSpPr/>
                <p:nvPr/>
              </p:nvSpPr>
              <p:spPr>
                <a:xfrm>
                  <a:off x="7667280" y="290520"/>
                  <a:ext cx="126720" cy="114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18153" y="2422"/>
                      </a:moveTo>
                      <a:cubicBezTo>
                        <a:pt x="17923" y="1817"/>
                        <a:pt x="18383" y="606"/>
                        <a:pt x="18383" y="606"/>
                      </a:cubicBezTo>
                      <a:cubicBezTo>
                        <a:pt x="19187" y="1615"/>
                        <a:pt x="19187" y="807"/>
                        <a:pt x="19532" y="0"/>
                      </a:cubicBezTo>
                      <a:cubicBezTo>
                        <a:pt x="20796" y="404"/>
                        <a:pt x="20566" y="1413"/>
                        <a:pt x="20911" y="2422"/>
                      </a:cubicBezTo>
                      <a:cubicBezTo>
                        <a:pt x="21140" y="3028"/>
                        <a:pt x="21600" y="4239"/>
                        <a:pt x="21600" y="4239"/>
                      </a:cubicBezTo>
                      <a:cubicBezTo>
                        <a:pt x="21026" y="5652"/>
                        <a:pt x="21600" y="5249"/>
                        <a:pt x="20451" y="5854"/>
                      </a:cubicBezTo>
                      <a:cubicBezTo>
                        <a:pt x="19991" y="6359"/>
                        <a:pt x="19532" y="7671"/>
                        <a:pt x="19532" y="7671"/>
                      </a:cubicBezTo>
                      <a:cubicBezTo>
                        <a:pt x="19417" y="10093"/>
                        <a:pt x="19877" y="11103"/>
                        <a:pt x="18613" y="12718"/>
                      </a:cubicBezTo>
                      <a:cubicBezTo>
                        <a:pt x="17234" y="11910"/>
                        <a:pt x="17809" y="13323"/>
                        <a:pt x="16545" y="13727"/>
                      </a:cubicBezTo>
                      <a:cubicBezTo>
                        <a:pt x="15511" y="13525"/>
                        <a:pt x="14821" y="13626"/>
                        <a:pt x="13787" y="13929"/>
                      </a:cubicBezTo>
                      <a:cubicBezTo>
                        <a:pt x="13098" y="13021"/>
                        <a:pt x="14017" y="12819"/>
                        <a:pt x="12868" y="12516"/>
                      </a:cubicBezTo>
                      <a:cubicBezTo>
                        <a:pt x="12409" y="13121"/>
                        <a:pt x="12409" y="14333"/>
                        <a:pt x="11719" y="14736"/>
                      </a:cubicBezTo>
                      <a:cubicBezTo>
                        <a:pt x="11260" y="14938"/>
                        <a:pt x="10340" y="15140"/>
                        <a:pt x="10340" y="15140"/>
                      </a:cubicBezTo>
                      <a:cubicBezTo>
                        <a:pt x="9996" y="14232"/>
                        <a:pt x="10226" y="13626"/>
                        <a:pt x="9191" y="13323"/>
                      </a:cubicBezTo>
                      <a:cubicBezTo>
                        <a:pt x="7813" y="13525"/>
                        <a:pt x="7468" y="13525"/>
                        <a:pt x="6664" y="14535"/>
                      </a:cubicBezTo>
                      <a:cubicBezTo>
                        <a:pt x="7583" y="15140"/>
                        <a:pt x="7813" y="14837"/>
                        <a:pt x="8732" y="14333"/>
                      </a:cubicBezTo>
                      <a:cubicBezTo>
                        <a:pt x="9306" y="14736"/>
                        <a:pt x="9766" y="15645"/>
                        <a:pt x="8962" y="16150"/>
                      </a:cubicBezTo>
                      <a:cubicBezTo>
                        <a:pt x="8617" y="16351"/>
                        <a:pt x="7123" y="16654"/>
                        <a:pt x="6664" y="16755"/>
                      </a:cubicBezTo>
                      <a:cubicBezTo>
                        <a:pt x="5515" y="17462"/>
                        <a:pt x="5055" y="17462"/>
                        <a:pt x="3906" y="16755"/>
                      </a:cubicBezTo>
                      <a:cubicBezTo>
                        <a:pt x="4021" y="16351"/>
                        <a:pt x="3906" y="15948"/>
                        <a:pt x="4136" y="15544"/>
                      </a:cubicBezTo>
                      <a:cubicBezTo>
                        <a:pt x="4366" y="15140"/>
                        <a:pt x="6319" y="14736"/>
                        <a:pt x="5285" y="14535"/>
                      </a:cubicBezTo>
                      <a:cubicBezTo>
                        <a:pt x="4826" y="14434"/>
                        <a:pt x="3906" y="14938"/>
                        <a:pt x="3906" y="14938"/>
                      </a:cubicBezTo>
                      <a:cubicBezTo>
                        <a:pt x="3677" y="15645"/>
                        <a:pt x="3217" y="16049"/>
                        <a:pt x="2987" y="16755"/>
                      </a:cubicBezTo>
                      <a:cubicBezTo>
                        <a:pt x="4136" y="18370"/>
                        <a:pt x="4136" y="17462"/>
                        <a:pt x="3447" y="19178"/>
                      </a:cubicBezTo>
                      <a:cubicBezTo>
                        <a:pt x="3217" y="19783"/>
                        <a:pt x="1609" y="20187"/>
                        <a:pt x="1609" y="20187"/>
                      </a:cubicBezTo>
                      <a:cubicBezTo>
                        <a:pt x="574" y="21600"/>
                        <a:pt x="1264" y="21196"/>
                        <a:pt x="0" y="21600"/>
                      </a:cubicBezTo>
                      <a:cubicBezTo>
                        <a:pt x="230" y="20389"/>
                        <a:pt x="574" y="19985"/>
                        <a:pt x="919" y="18976"/>
                      </a:cubicBezTo>
                      <a:cubicBezTo>
                        <a:pt x="689" y="17966"/>
                        <a:pt x="345" y="17462"/>
                        <a:pt x="0" y="16553"/>
                      </a:cubicBezTo>
                      <a:cubicBezTo>
                        <a:pt x="345" y="15746"/>
                        <a:pt x="804" y="15847"/>
                        <a:pt x="1609" y="15342"/>
                      </a:cubicBezTo>
                      <a:cubicBezTo>
                        <a:pt x="2068" y="14232"/>
                        <a:pt x="2643" y="14131"/>
                        <a:pt x="3677" y="13525"/>
                      </a:cubicBezTo>
                      <a:cubicBezTo>
                        <a:pt x="4251" y="12819"/>
                        <a:pt x="4251" y="12415"/>
                        <a:pt x="5055" y="11910"/>
                      </a:cubicBezTo>
                      <a:cubicBezTo>
                        <a:pt x="7353" y="12213"/>
                        <a:pt x="6319" y="12314"/>
                        <a:pt x="8272" y="11708"/>
                      </a:cubicBezTo>
                      <a:cubicBezTo>
                        <a:pt x="8732" y="11607"/>
                        <a:pt x="9651" y="11305"/>
                        <a:pt x="9651" y="11305"/>
                      </a:cubicBezTo>
                      <a:cubicBezTo>
                        <a:pt x="12064" y="12011"/>
                        <a:pt x="11145" y="8479"/>
                        <a:pt x="13098" y="7873"/>
                      </a:cubicBezTo>
                      <a:cubicBezTo>
                        <a:pt x="13443" y="8781"/>
                        <a:pt x="12638" y="8983"/>
                        <a:pt x="13787" y="9286"/>
                      </a:cubicBezTo>
                      <a:cubicBezTo>
                        <a:pt x="14362" y="8579"/>
                        <a:pt x="14362" y="8176"/>
                        <a:pt x="15166" y="7671"/>
                      </a:cubicBezTo>
                      <a:cubicBezTo>
                        <a:pt x="15855" y="6864"/>
                        <a:pt x="16774" y="6561"/>
                        <a:pt x="17234" y="5450"/>
                      </a:cubicBezTo>
                      <a:cubicBezTo>
                        <a:pt x="17349" y="5047"/>
                        <a:pt x="17694" y="4239"/>
                        <a:pt x="17694" y="4239"/>
                      </a:cubicBezTo>
                      <a:cubicBezTo>
                        <a:pt x="17464" y="4138"/>
                        <a:pt x="17004" y="4037"/>
                        <a:pt x="17004" y="3836"/>
                      </a:cubicBezTo>
                      <a:cubicBezTo>
                        <a:pt x="17004" y="3634"/>
                        <a:pt x="18498" y="3331"/>
                        <a:pt x="17464" y="3230"/>
                      </a:cubicBezTo>
                      <a:lnTo>
                        <a:pt x="18153" y="2422"/>
                      </a:lnTo>
                      <a:close/>
                      <a:moveTo>
                        <a:pt x="18153" y="2422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19" name="Freeform 72"/>
                <p:cNvSpPr/>
                <p:nvPr/>
              </p:nvSpPr>
              <p:spPr>
                <a:xfrm>
                  <a:off x="7039800" y="401760"/>
                  <a:ext cx="550800" cy="298440"/>
                </a:xfrm>
                <a:custGeom>
                  <a:avLst/>
                  <a:gdLst/>
                  <a:ahLst/>
                  <a:rect l="l" t="t" r="r" b="b"/>
                  <a:pathLst>
                    <a:path w="21600" h="21490">
                      <a:moveTo>
                        <a:pt x="21228" y="230"/>
                      </a:moveTo>
                      <a:cubicBezTo>
                        <a:pt x="21307" y="574"/>
                        <a:pt x="21520" y="613"/>
                        <a:pt x="21600" y="996"/>
                      </a:cubicBezTo>
                      <a:cubicBezTo>
                        <a:pt x="21520" y="1379"/>
                        <a:pt x="21307" y="1570"/>
                        <a:pt x="21174" y="1915"/>
                      </a:cubicBezTo>
                      <a:cubicBezTo>
                        <a:pt x="21041" y="2336"/>
                        <a:pt x="20962" y="2719"/>
                        <a:pt x="20696" y="2987"/>
                      </a:cubicBezTo>
                      <a:cubicBezTo>
                        <a:pt x="20563" y="3255"/>
                        <a:pt x="20509" y="3370"/>
                        <a:pt x="20589" y="3677"/>
                      </a:cubicBezTo>
                      <a:cubicBezTo>
                        <a:pt x="20403" y="4098"/>
                        <a:pt x="20164" y="4366"/>
                        <a:pt x="19898" y="4672"/>
                      </a:cubicBezTo>
                      <a:cubicBezTo>
                        <a:pt x="19791" y="4787"/>
                        <a:pt x="19578" y="4979"/>
                        <a:pt x="19578" y="4979"/>
                      </a:cubicBezTo>
                      <a:cubicBezTo>
                        <a:pt x="19685" y="5400"/>
                        <a:pt x="19445" y="5362"/>
                        <a:pt x="19206" y="5438"/>
                      </a:cubicBezTo>
                      <a:cubicBezTo>
                        <a:pt x="19046" y="5668"/>
                        <a:pt x="18940" y="5783"/>
                        <a:pt x="18727" y="5898"/>
                      </a:cubicBezTo>
                      <a:cubicBezTo>
                        <a:pt x="18248" y="5745"/>
                        <a:pt x="17291" y="6472"/>
                        <a:pt x="16865" y="6894"/>
                      </a:cubicBezTo>
                      <a:cubicBezTo>
                        <a:pt x="16918" y="7238"/>
                        <a:pt x="16785" y="7391"/>
                        <a:pt x="17025" y="7506"/>
                      </a:cubicBezTo>
                      <a:cubicBezTo>
                        <a:pt x="17104" y="7851"/>
                        <a:pt x="17025" y="7928"/>
                        <a:pt x="16812" y="8043"/>
                      </a:cubicBezTo>
                      <a:cubicBezTo>
                        <a:pt x="16652" y="8387"/>
                        <a:pt x="16572" y="8655"/>
                        <a:pt x="16333" y="8885"/>
                      </a:cubicBezTo>
                      <a:cubicBezTo>
                        <a:pt x="16253" y="8847"/>
                        <a:pt x="16120" y="8923"/>
                        <a:pt x="16067" y="8809"/>
                      </a:cubicBezTo>
                      <a:cubicBezTo>
                        <a:pt x="15934" y="8426"/>
                        <a:pt x="16227" y="7621"/>
                        <a:pt x="16493" y="7506"/>
                      </a:cubicBezTo>
                      <a:cubicBezTo>
                        <a:pt x="16572" y="7162"/>
                        <a:pt x="16413" y="7162"/>
                        <a:pt x="16493" y="6817"/>
                      </a:cubicBezTo>
                      <a:cubicBezTo>
                        <a:pt x="16413" y="6281"/>
                        <a:pt x="16200" y="6434"/>
                        <a:pt x="15907" y="6587"/>
                      </a:cubicBezTo>
                      <a:cubicBezTo>
                        <a:pt x="15748" y="6894"/>
                        <a:pt x="15562" y="7085"/>
                        <a:pt x="15322" y="7200"/>
                      </a:cubicBezTo>
                      <a:cubicBezTo>
                        <a:pt x="15216" y="7430"/>
                        <a:pt x="15109" y="7660"/>
                        <a:pt x="15003" y="7889"/>
                      </a:cubicBezTo>
                      <a:cubicBezTo>
                        <a:pt x="14923" y="8043"/>
                        <a:pt x="14790" y="8349"/>
                        <a:pt x="14790" y="8349"/>
                      </a:cubicBezTo>
                      <a:cubicBezTo>
                        <a:pt x="14843" y="8962"/>
                        <a:pt x="14870" y="9306"/>
                        <a:pt x="15216" y="9651"/>
                      </a:cubicBezTo>
                      <a:cubicBezTo>
                        <a:pt x="15402" y="10034"/>
                        <a:pt x="15588" y="10455"/>
                        <a:pt x="15854" y="10723"/>
                      </a:cubicBezTo>
                      <a:cubicBezTo>
                        <a:pt x="15907" y="10953"/>
                        <a:pt x="16014" y="11413"/>
                        <a:pt x="16014" y="11413"/>
                      </a:cubicBezTo>
                      <a:cubicBezTo>
                        <a:pt x="15987" y="11796"/>
                        <a:pt x="15934" y="13826"/>
                        <a:pt x="15801" y="14094"/>
                      </a:cubicBezTo>
                      <a:cubicBezTo>
                        <a:pt x="15695" y="14323"/>
                        <a:pt x="15322" y="14477"/>
                        <a:pt x="15163" y="14630"/>
                      </a:cubicBezTo>
                      <a:cubicBezTo>
                        <a:pt x="14976" y="15051"/>
                        <a:pt x="14631" y="15166"/>
                        <a:pt x="14418" y="15549"/>
                      </a:cubicBezTo>
                      <a:cubicBezTo>
                        <a:pt x="14258" y="15817"/>
                        <a:pt x="14338" y="15970"/>
                        <a:pt x="14099" y="16085"/>
                      </a:cubicBezTo>
                      <a:cubicBezTo>
                        <a:pt x="13992" y="15626"/>
                        <a:pt x="14311" y="14974"/>
                        <a:pt x="13886" y="14783"/>
                      </a:cubicBezTo>
                      <a:cubicBezTo>
                        <a:pt x="13726" y="14438"/>
                        <a:pt x="13567" y="13940"/>
                        <a:pt x="13354" y="13634"/>
                      </a:cubicBezTo>
                      <a:cubicBezTo>
                        <a:pt x="13221" y="13060"/>
                        <a:pt x="13433" y="13787"/>
                        <a:pt x="12822" y="13328"/>
                      </a:cubicBezTo>
                      <a:cubicBezTo>
                        <a:pt x="12715" y="13251"/>
                        <a:pt x="12715" y="12983"/>
                        <a:pt x="12609" y="12868"/>
                      </a:cubicBezTo>
                      <a:cubicBezTo>
                        <a:pt x="12502" y="12370"/>
                        <a:pt x="12396" y="13098"/>
                        <a:pt x="12290" y="13328"/>
                      </a:cubicBezTo>
                      <a:cubicBezTo>
                        <a:pt x="12236" y="13711"/>
                        <a:pt x="12130" y="13902"/>
                        <a:pt x="12077" y="14323"/>
                      </a:cubicBezTo>
                      <a:cubicBezTo>
                        <a:pt x="12157" y="14668"/>
                        <a:pt x="12103" y="14821"/>
                        <a:pt x="11970" y="15089"/>
                      </a:cubicBezTo>
                      <a:cubicBezTo>
                        <a:pt x="12077" y="15281"/>
                        <a:pt x="12343" y="15740"/>
                        <a:pt x="12396" y="16009"/>
                      </a:cubicBezTo>
                      <a:cubicBezTo>
                        <a:pt x="12609" y="16966"/>
                        <a:pt x="12556" y="17540"/>
                        <a:pt x="13300" y="17770"/>
                      </a:cubicBezTo>
                      <a:cubicBezTo>
                        <a:pt x="13487" y="17962"/>
                        <a:pt x="13567" y="18153"/>
                        <a:pt x="13726" y="18383"/>
                      </a:cubicBezTo>
                      <a:cubicBezTo>
                        <a:pt x="13593" y="18919"/>
                        <a:pt x="13646" y="19494"/>
                        <a:pt x="13567" y="20068"/>
                      </a:cubicBezTo>
                      <a:cubicBezTo>
                        <a:pt x="13620" y="20566"/>
                        <a:pt x="13593" y="20719"/>
                        <a:pt x="13886" y="20987"/>
                      </a:cubicBezTo>
                      <a:cubicBezTo>
                        <a:pt x="13912" y="21140"/>
                        <a:pt x="13966" y="21294"/>
                        <a:pt x="13992" y="21447"/>
                      </a:cubicBezTo>
                      <a:cubicBezTo>
                        <a:pt x="14019" y="21600"/>
                        <a:pt x="13673" y="21294"/>
                        <a:pt x="13673" y="21294"/>
                      </a:cubicBezTo>
                      <a:cubicBezTo>
                        <a:pt x="13354" y="21600"/>
                        <a:pt x="13327" y="21102"/>
                        <a:pt x="13088" y="20834"/>
                      </a:cubicBezTo>
                      <a:cubicBezTo>
                        <a:pt x="12981" y="20719"/>
                        <a:pt x="12768" y="20528"/>
                        <a:pt x="12768" y="20528"/>
                      </a:cubicBezTo>
                      <a:cubicBezTo>
                        <a:pt x="12529" y="19991"/>
                        <a:pt x="12609" y="20260"/>
                        <a:pt x="12502" y="19838"/>
                      </a:cubicBezTo>
                      <a:cubicBezTo>
                        <a:pt x="12423" y="18804"/>
                        <a:pt x="12263" y="17081"/>
                        <a:pt x="11598" y="16468"/>
                      </a:cubicBezTo>
                      <a:cubicBezTo>
                        <a:pt x="11385" y="16583"/>
                        <a:pt x="11305" y="16583"/>
                        <a:pt x="11226" y="16238"/>
                      </a:cubicBezTo>
                      <a:cubicBezTo>
                        <a:pt x="11359" y="15472"/>
                        <a:pt x="11492" y="14668"/>
                        <a:pt x="11651" y="13940"/>
                      </a:cubicBezTo>
                      <a:cubicBezTo>
                        <a:pt x="11598" y="13136"/>
                        <a:pt x="11465" y="12638"/>
                        <a:pt x="11332" y="11872"/>
                      </a:cubicBezTo>
                      <a:cubicBezTo>
                        <a:pt x="11412" y="11566"/>
                        <a:pt x="11305" y="11489"/>
                        <a:pt x="11226" y="11183"/>
                      </a:cubicBezTo>
                      <a:cubicBezTo>
                        <a:pt x="11279" y="10800"/>
                        <a:pt x="11385" y="10609"/>
                        <a:pt x="11226" y="10264"/>
                      </a:cubicBezTo>
                      <a:cubicBezTo>
                        <a:pt x="11172" y="10302"/>
                        <a:pt x="11119" y="10302"/>
                        <a:pt x="11066" y="10340"/>
                      </a:cubicBezTo>
                      <a:cubicBezTo>
                        <a:pt x="11013" y="10417"/>
                        <a:pt x="11013" y="10532"/>
                        <a:pt x="10960" y="10570"/>
                      </a:cubicBezTo>
                      <a:cubicBezTo>
                        <a:pt x="10853" y="10647"/>
                        <a:pt x="10640" y="10723"/>
                        <a:pt x="10640" y="10723"/>
                      </a:cubicBezTo>
                      <a:cubicBezTo>
                        <a:pt x="10481" y="10494"/>
                        <a:pt x="10348" y="10494"/>
                        <a:pt x="10268" y="10187"/>
                      </a:cubicBezTo>
                      <a:cubicBezTo>
                        <a:pt x="10401" y="9613"/>
                        <a:pt x="10082" y="7889"/>
                        <a:pt x="9683" y="7506"/>
                      </a:cubicBezTo>
                      <a:cubicBezTo>
                        <a:pt x="9497" y="7123"/>
                        <a:pt x="9523" y="6970"/>
                        <a:pt x="9576" y="6511"/>
                      </a:cubicBezTo>
                      <a:cubicBezTo>
                        <a:pt x="9523" y="6128"/>
                        <a:pt x="9470" y="5630"/>
                        <a:pt x="9204" y="5515"/>
                      </a:cubicBezTo>
                      <a:cubicBezTo>
                        <a:pt x="9124" y="5898"/>
                        <a:pt x="8991" y="6128"/>
                        <a:pt x="8778" y="6357"/>
                      </a:cubicBezTo>
                      <a:cubicBezTo>
                        <a:pt x="8592" y="6281"/>
                        <a:pt x="8193" y="6128"/>
                        <a:pt x="8193" y="6128"/>
                      </a:cubicBezTo>
                      <a:cubicBezTo>
                        <a:pt x="7874" y="6204"/>
                        <a:pt x="7900" y="6357"/>
                        <a:pt x="7661" y="6587"/>
                      </a:cubicBezTo>
                      <a:cubicBezTo>
                        <a:pt x="7555" y="7085"/>
                        <a:pt x="7501" y="7315"/>
                        <a:pt x="7129" y="7506"/>
                      </a:cubicBezTo>
                      <a:cubicBezTo>
                        <a:pt x="7023" y="7660"/>
                        <a:pt x="6464" y="8847"/>
                        <a:pt x="6437" y="8885"/>
                      </a:cubicBezTo>
                      <a:cubicBezTo>
                        <a:pt x="6145" y="9153"/>
                        <a:pt x="5719" y="9460"/>
                        <a:pt x="5480" y="9804"/>
                      </a:cubicBezTo>
                      <a:cubicBezTo>
                        <a:pt x="5373" y="9957"/>
                        <a:pt x="5320" y="10149"/>
                        <a:pt x="5214" y="10264"/>
                      </a:cubicBezTo>
                      <a:cubicBezTo>
                        <a:pt x="5161" y="10302"/>
                        <a:pt x="5107" y="10302"/>
                        <a:pt x="5054" y="10340"/>
                      </a:cubicBezTo>
                      <a:cubicBezTo>
                        <a:pt x="5001" y="10379"/>
                        <a:pt x="4948" y="10417"/>
                        <a:pt x="4895" y="10494"/>
                      </a:cubicBezTo>
                      <a:cubicBezTo>
                        <a:pt x="4788" y="10647"/>
                        <a:pt x="4575" y="10953"/>
                        <a:pt x="4575" y="10953"/>
                      </a:cubicBezTo>
                      <a:cubicBezTo>
                        <a:pt x="4442" y="11489"/>
                        <a:pt x="4389" y="12026"/>
                        <a:pt x="4256" y="12562"/>
                      </a:cubicBezTo>
                      <a:cubicBezTo>
                        <a:pt x="4203" y="12830"/>
                        <a:pt x="4150" y="13060"/>
                        <a:pt x="4097" y="13328"/>
                      </a:cubicBezTo>
                      <a:cubicBezTo>
                        <a:pt x="4070" y="13404"/>
                        <a:pt x="4043" y="13557"/>
                        <a:pt x="4043" y="13557"/>
                      </a:cubicBezTo>
                      <a:cubicBezTo>
                        <a:pt x="4043" y="13749"/>
                        <a:pt x="4150" y="14706"/>
                        <a:pt x="3884" y="15013"/>
                      </a:cubicBezTo>
                      <a:cubicBezTo>
                        <a:pt x="3751" y="15204"/>
                        <a:pt x="3405" y="15472"/>
                        <a:pt x="3405" y="15472"/>
                      </a:cubicBezTo>
                      <a:cubicBezTo>
                        <a:pt x="3325" y="15779"/>
                        <a:pt x="3245" y="16123"/>
                        <a:pt x="3033" y="16238"/>
                      </a:cubicBezTo>
                      <a:cubicBezTo>
                        <a:pt x="2660" y="16047"/>
                        <a:pt x="2580" y="15511"/>
                        <a:pt x="2500" y="15013"/>
                      </a:cubicBezTo>
                      <a:cubicBezTo>
                        <a:pt x="2288" y="13864"/>
                        <a:pt x="2181" y="12715"/>
                        <a:pt x="1915" y="11566"/>
                      </a:cubicBezTo>
                      <a:cubicBezTo>
                        <a:pt x="1889" y="10762"/>
                        <a:pt x="1862" y="10532"/>
                        <a:pt x="1756" y="9881"/>
                      </a:cubicBezTo>
                      <a:cubicBezTo>
                        <a:pt x="1756" y="9613"/>
                        <a:pt x="1809" y="8387"/>
                        <a:pt x="1702" y="7966"/>
                      </a:cubicBezTo>
                      <a:cubicBezTo>
                        <a:pt x="1862" y="7315"/>
                        <a:pt x="1756" y="6626"/>
                        <a:pt x="1915" y="5974"/>
                      </a:cubicBezTo>
                      <a:cubicBezTo>
                        <a:pt x="1756" y="5323"/>
                        <a:pt x="1596" y="6434"/>
                        <a:pt x="1490" y="6587"/>
                      </a:cubicBezTo>
                      <a:cubicBezTo>
                        <a:pt x="1410" y="6702"/>
                        <a:pt x="1170" y="6894"/>
                        <a:pt x="1170" y="6894"/>
                      </a:cubicBezTo>
                      <a:cubicBezTo>
                        <a:pt x="931" y="6779"/>
                        <a:pt x="745" y="6626"/>
                        <a:pt x="638" y="6204"/>
                      </a:cubicBezTo>
                      <a:cubicBezTo>
                        <a:pt x="612" y="6051"/>
                        <a:pt x="532" y="5745"/>
                        <a:pt x="532" y="5745"/>
                      </a:cubicBezTo>
                      <a:cubicBezTo>
                        <a:pt x="798" y="5668"/>
                        <a:pt x="798" y="5477"/>
                        <a:pt x="1011" y="5285"/>
                      </a:cubicBezTo>
                      <a:cubicBezTo>
                        <a:pt x="931" y="4902"/>
                        <a:pt x="825" y="5094"/>
                        <a:pt x="638" y="5285"/>
                      </a:cubicBezTo>
                      <a:cubicBezTo>
                        <a:pt x="399" y="5170"/>
                        <a:pt x="399" y="5055"/>
                        <a:pt x="479" y="4749"/>
                      </a:cubicBezTo>
                      <a:cubicBezTo>
                        <a:pt x="293" y="4366"/>
                        <a:pt x="239" y="3868"/>
                        <a:pt x="0" y="3523"/>
                      </a:cubicBezTo>
                      <a:lnTo>
                        <a:pt x="2022" y="0"/>
                      </a:lnTo>
                      <a:lnTo>
                        <a:pt x="21228" y="230"/>
                      </a:lnTo>
                      <a:close/>
                      <a:moveTo>
                        <a:pt x="21228" y="23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0" name="Freeform 73"/>
                <p:cNvSpPr/>
                <p:nvPr/>
              </p:nvSpPr>
              <p:spPr>
                <a:xfrm>
                  <a:off x="7138440" y="60804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455" h="21168">
                      <a:moveTo>
                        <a:pt x="3014" y="2363"/>
                      </a:moveTo>
                      <a:cubicBezTo>
                        <a:pt x="1507" y="76"/>
                        <a:pt x="4019" y="-432"/>
                        <a:pt x="8038" y="330"/>
                      </a:cubicBezTo>
                      <a:cubicBezTo>
                        <a:pt x="11554" y="2872"/>
                        <a:pt x="13563" y="5667"/>
                        <a:pt x="18084" y="7954"/>
                      </a:cubicBezTo>
                      <a:cubicBezTo>
                        <a:pt x="21098" y="12782"/>
                        <a:pt x="19591" y="19389"/>
                        <a:pt x="9042" y="21168"/>
                      </a:cubicBezTo>
                      <a:cubicBezTo>
                        <a:pt x="2512" y="20152"/>
                        <a:pt x="2010" y="20152"/>
                        <a:pt x="0" y="17102"/>
                      </a:cubicBezTo>
                      <a:cubicBezTo>
                        <a:pt x="503" y="16340"/>
                        <a:pt x="-502" y="584"/>
                        <a:pt x="3014" y="2363"/>
                      </a:cubicBezTo>
                      <a:close/>
                      <a:moveTo>
                        <a:pt x="3014" y="2363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1" name="Freeform 74"/>
                <p:cNvSpPr/>
                <p:nvPr/>
              </p:nvSpPr>
              <p:spPr>
                <a:xfrm>
                  <a:off x="7560720" y="4525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193" h="21061">
                      <a:moveTo>
                        <a:pt x="5369" y="7634"/>
                      </a:moveTo>
                      <a:cubicBezTo>
                        <a:pt x="6351" y="3256"/>
                        <a:pt x="5860" y="1504"/>
                        <a:pt x="13223" y="45"/>
                      </a:cubicBezTo>
                      <a:cubicBezTo>
                        <a:pt x="15678" y="337"/>
                        <a:pt x="18623" y="-539"/>
                        <a:pt x="20096" y="629"/>
                      </a:cubicBezTo>
                      <a:cubicBezTo>
                        <a:pt x="20587" y="1212"/>
                        <a:pt x="19114" y="5591"/>
                        <a:pt x="18132" y="7050"/>
                      </a:cubicBezTo>
                      <a:cubicBezTo>
                        <a:pt x="14205" y="12012"/>
                        <a:pt x="13714" y="17850"/>
                        <a:pt x="5369" y="21061"/>
                      </a:cubicBezTo>
                      <a:cubicBezTo>
                        <a:pt x="951" y="20185"/>
                        <a:pt x="951" y="19310"/>
                        <a:pt x="2423" y="16975"/>
                      </a:cubicBezTo>
                      <a:cubicBezTo>
                        <a:pt x="1442" y="14056"/>
                        <a:pt x="-1013" y="12888"/>
                        <a:pt x="460" y="9969"/>
                      </a:cubicBezTo>
                      <a:cubicBezTo>
                        <a:pt x="951" y="8802"/>
                        <a:pt x="2914" y="6175"/>
                        <a:pt x="5369" y="7634"/>
                      </a:cubicBezTo>
                      <a:close/>
                      <a:moveTo>
                        <a:pt x="5369" y="7634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2" name="Freeform 75"/>
                <p:cNvSpPr/>
                <p:nvPr/>
              </p:nvSpPr>
              <p:spPr>
                <a:xfrm>
                  <a:off x="6165000" y="284400"/>
                  <a:ext cx="684360" cy="560160"/>
                </a:xfrm>
                <a:custGeom>
                  <a:avLst/>
                  <a:gdLst/>
                  <a:ahLst/>
                  <a:rect l="l" t="t" r="r" b="b"/>
                  <a:pathLst>
                    <a:path w="21547" h="21600">
                      <a:moveTo>
                        <a:pt x="13777" y="21561"/>
                      </a:moveTo>
                      <a:lnTo>
                        <a:pt x="15234" y="17994"/>
                      </a:lnTo>
                      <a:lnTo>
                        <a:pt x="14981" y="17412"/>
                      </a:lnTo>
                      <a:lnTo>
                        <a:pt x="15392" y="17489"/>
                      </a:lnTo>
                      <a:lnTo>
                        <a:pt x="15677" y="17102"/>
                      </a:lnTo>
                      <a:lnTo>
                        <a:pt x="15836" y="16016"/>
                      </a:lnTo>
                      <a:lnTo>
                        <a:pt x="15836" y="14387"/>
                      </a:lnTo>
                      <a:lnTo>
                        <a:pt x="9787" y="11130"/>
                      </a:lnTo>
                      <a:lnTo>
                        <a:pt x="9375" y="11944"/>
                      </a:lnTo>
                      <a:lnTo>
                        <a:pt x="8931" y="13418"/>
                      </a:lnTo>
                      <a:lnTo>
                        <a:pt x="12542" y="21600"/>
                      </a:lnTo>
                      <a:lnTo>
                        <a:pt x="9596" y="21561"/>
                      </a:lnTo>
                      <a:lnTo>
                        <a:pt x="9628" y="20786"/>
                      </a:lnTo>
                      <a:cubicBezTo>
                        <a:pt x="8995" y="20165"/>
                        <a:pt x="9375" y="19777"/>
                        <a:pt x="8931" y="19157"/>
                      </a:cubicBezTo>
                      <a:cubicBezTo>
                        <a:pt x="8741" y="18420"/>
                        <a:pt x="8456" y="18149"/>
                        <a:pt x="8013" y="17489"/>
                      </a:cubicBezTo>
                      <a:cubicBezTo>
                        <a:pt x="7886" y="17334"/>
                        <a:pt x="7760" y="17179"/>
                        <a:pt x="7665" y="17024"/>
                      </a:cubicBezTo>
                      <a:lnTo>
                        <a:pt x="7506" y="16753"/>
                      </a:lnTo>
                      <a:lnTo>
                        <a:pt x="7760" y="16016"/>
                      </a:lnTo>
                      <a:cubicBezTo>
                        <a:pt x="7823" y="15861"/>
                        <a:pt x="7918" y="15550"/>
                        <a:pt x="7918" y="15550"/>
                      </a:cubicBezTo>
                      <a:cubicBezTo>
                        <a:pt x="7886" y="15473"/>
                        <a:pt x="7823" y="15395"/>
                        <a:pt x="7823" y="15279"/>
                      </a:cubicBezTo>
                      <a:cubicBezTo>
                        <a:pt x="7855" y="15124"/>
                        <a:pt x="8013" y="14814"/>
                        <a:pt x="8013" y="14814"/>
                      </a:cubicBezTo>
                      <a:cubicBezTo>
                        <a:pt x="7696" y="14348"/>
                        <a:pt x="7506" y="14387"/>
                        <a:pt x="6968" y="14542"/>
                      </a:cubicBezTo>
                      <a:cubicBezTo>
                        <a:pt x="6873" y="14387"/>
                        <a:pt x="6651" y="14310"/>
                        <a:pt x="6556" y="14154"/>
                      </a:cubicBezTo>
                      <a:cubicBezTo>
                        <a:pt x="5859" y="13069"/>
                        <a:pt x="6841" y="14077"/>
                        <a:pt x="6144" y="13418"/>
                      </a:cubicBezTo>
                      <a:cubicBezTo>
                        <a:pt x="5289" y="13534"/>
                        <a:pt x="5669" y="13418"/>
                        <a:pt x="4941" y="13650"/>
                      </a:cubicBezTo>
                      <a:cubicBezTo>
                        <a:pt x="4846" y="13689"/>
                        <a:pt x="4687" y="13728"/>
                        <a:pt x="4687" y="13728"/>
                      </a:cubicBezTo>
                      <a:cubicBezTo>
                        <a:pt x="4624" y="13805"/>
                        <a:pt x="4592" y="13922"/>
                        <a:pt x="4497" y="13999"/>
                      </a:cubicBezTo>
                      <a:cubicBezTo>
                        <a:pt x="4371" y="14077"/>
                        <a:pt x="3991" y="14154"/>
                        <a:pt x="3991" y="14154"/>
                      </a:cubicBezTo>
                      <a:cubicBezTo>
                        <a:pt x="3326" y="13728"/>
                        <a:pt x="3674" y="13767"/>
                        <a:pt x="2977" y="13999"/>
                      </a:cubicBezTo>
                      <a:cubicBezTo>
                        <a:pt x="2819" y="14038"/>
                        <a:pt x="2470" y="14154"/>
                        <a:pt x="2470" y="14154"/>
                      </a:cubicBezTo>
                      <a:cubicBezTo>
                        <a:pt x="1964" y="14852"/>
                        <a:pt x="1457" y="13418"/>
                        <a:pt x="1109" y="13069"/>
                      </a:cubicBezTo>
                      <a:cubicBezTo>
                        <a:pt x="1013" y="12797"/>
                        <a:pt x="760" y="12409"/>
                        <a:pt x="697" y="12099"/>
                      </a:cubicBezTo>
                      <a:cubicBezTo>
                        <a:pt x="633" y="11944"/>
                        <a:pt x="697" y="11750"/>
                        <a:pt x="602" y="11634"/>
                      </a:cubicBezTo>
                      <a:cubicBezTo>
                        <a:pt x="538" y="11517"/>
                        <a:pt x="412" y="11517"/>
                        <a:pt x="348" y="11440"/>
                      </a:cubicBezTo>
                      <a:cubicBezTo>
                        <a:pt x="95" y="10742"/>
                        <a:pt x="475" y="11866"/>
                        <a:pt x="158" y="10703"/>
                      </a:cubicBezTo>
                      <a:cubicBezTo>
                        <a:pt x="127" y="10548"/>
                        <a:pt x="0" y="10238"/>
                        <a:pt x="0" y="10238"/>
                      </a:cubicBezTo>
                      <a:cubicBezTo>
                        <a:pt x="95" y="9811"/>
                        <a:pt x="63" y="9617"/>
                        <a:pt x="412" y="9423"/>
                      </a:cubicBezTo>
                      <a:cubicBezTo>
                        <a:pt x="633" y="8570"/>
                        <a:pt x="538" y="8958"/>
                        <a:pt x="760" y="8260"/>
                      </a:cubicBezTo>
                      <a:cubicBezTo>
                        <a:pt x="823" y="8105"/>
                        <a:pt x="950" y="7756"/>
                        <a:pt x="950" y="7756"/>
                      </a:cubicBezTo>
                      <a:cubicBezTo>
                        <a:pt x="823" y="7446"/>
                        <a:pt x="760" y="7407"/>
                        <a:pt x="1013" y="7019"/>
                      </a:cubicBezTo>
                      <a:cubicBezTo>
                        <a:pt x="1140" y="6864"/>
                        <a:pt x="1362" y="6554"/>
                        <a:pt x="1362" y="6554"/>
                      </a:cubicBezTo>
                      <a:cubicBezTo>
                        <a:pt x="1172" y="6011"/>
                        <a:pt x="1140" y="5933"/>
                        <a:pt x="1615" y="5545"/>
                      </a:cubicBezTo>
                      <a:cubicBezTo>
                        <a:pt x="1774" y="5429"/>
                        <a:pt x="2122" y="5235"/>
                        <a:pt x="2122" y="5235"/>
                      </a:cubicBezTo>
                      <a:cubicBezTo>
                        <a:pt x="2312" y="5003"/>
                        <a:pt x="2375" y="4731"/>
                        <a:pt x="2565" y="4498"/>
                      </a:cubicBezTo>
                      <a:cubicBezTo>
                        <a:pt x="2819" y="4149"/>
                        <a:pt x="3230" y="4072"/>
                        <a:pt x="3579" y="3839"/>
                      </a:cubicBezTo>
                      <a:cubicBezTo>
                        <a:pt x="3959" y="3296"/>
                        <a:pt x="4719" y="2947"/>
                        <a:pt x="5289" y="2598"/>
                      </a:cubicBezTo>
                      <a:cubicBezTo>
                        <a:pt x="5511" y="2288"/>
                        <a:pt x="5543" y="1939"/>
                        <a:pt x="5954" y="1784"/>
                      </a:cubicBezTo>
                      <a:cubicBezTo>
                        <a:pt x="6271" y="1512"/>
                        <a:pt x="6588" y="1396"/>
                        <a:pt x="6968" y="1163"/>
                      </a:cubicBezTo>
                      <a:cubicBezTo>
                        <a:pt x="7063" y="1086"/>
                        <a:pt x="7221" y="969"/>
                        <a:pt x="7221" y="969"/>
                      </a:cubicBezTo>
                      <a:cubicBezTo>
                        <a:pt x="7506" y="620"/>
                        <a:pt x="7760" y="388"/>
                        <a:pt x="8171" y="233"/>
                      </a:cubicBezTo>
                      <a:cubicBezTo>
                        <a:pt x="8520" y="1202"/>
                        <a:pt x="9533" y="233"/>
                        <a:pt x="10135" y="155"/>
                      </a:cubicBezTo>
                      <a:cubicBezTo>
                        <a:pt x="10578" y="116"/>
                        <a:pt x="11053" y="116"/>
                        <a:pt x="11497" y="78"/>
                      </a:cubicBezTo>
                      <a:cubicBezTo>
                        <a:pt x="11687" y="116"/>
                        <a:pt x="11909" y="194"/>
                        <a:pt x="12099" y="155"/>
                      </a:cubicBezTo>
                      <a:cubicBezTo>
                        <a:pt x="12257" y="155"/>
                        <a:pt x="12605" y="0"/>
                        <a:pt x="12605" y="0"/>
                      </a:cubicBezTo>
                      <a:cubicBezTo>
                        <a:pt x="13144" y="310"/>
                        <a:pt x="12859" y="620"/>
                        <a:pt x="12669" y="1163"/>
                      </a:cubicBezTo>
                      <a:cubicBezTo>
                        <a:pt x="12605" y="1318"/>
                        <a:pt x="12162" y="1318"/>
                        <a:pt x="12162" y="1318"/>
                      </a:cubicBezTo>
                      <a:cubicBezTo>
                        <a:pt x="12004" y="1823"/>
                        <a:pt x="12605" y="1978"/>
                        <a:pt x="13017" y="2133"/>
                      </a:cubicBezTo>
                      <a:cubicBezTo>
                        <a:pt x="13270" y="2792"/>
                        <a:pt x="13334" y="3064"/>
                        <a:pt x="14030" y="3257"/>
                      </a:cubicBezTo>
                      <a:cubicBezTo>
                        <a:pt x="14601" y="2753"/>
                        <a:pt x="13777" y="2521"/>
                        <a:pt x="14822" y="2210"/>
                      </a:cubicBezTo>
                      <a:cubicBezTo>
                        <a:pt x="15266" y="2366"/>
                        <a:pt x="15361" y="2715"/>
                        <a:pt x="15741" y="2870"/>
                      </a:cubicBezTo>
                      <a:cubicBezTo>
                        <a:pt x="15994" y="2947"/>
                        <a:pt x="16248" y="3025"/>
                        <a:pt x="16501" y="3102"/>
                      </a:cubicBezTo>
                      <a:cubicBezTo>
                        <a:pt x="16596" y="3141"/>
                        <a:pt x="16754" y="3180"/>
                        <a:pt x="16754" y="3180"/>
                      </a:cubicBezTo>
                      <a:cubicBezTo>
                        <a:pt x="17324" y="3025"/>
                        <a:pt x="17324" y="2947"/>
                        <a:pt x="17799" y="3257"/>
                      </a:cubicBezTo>
                      <a:cubicBezTo>
                        <a:pt x="17926" y="3684"/>
                        <a:pt x="17894" y="3335"/>
                        <a:pt x="17704" y="3762"/>
                      </a:cubicBezTo>
                      <a:cubicBezTo>
                        <a:pt x="17641" y="3917"/>
                        <a:pt x="17546" y="4266"/>
                        <a:pt x="17546" y="4266"/>
                      </a:cubicBezTo>
                      <a:cubicBezTo>
                        <a:pt x="17609" y="5119"/>
                        <a:pt x="17609" y="6515"/>
                        <a:pt x="18116" y="7290"/>
                      </a:cubicBezTo>
                      <a:cubicBezTo>
                        <a:pt x="17989" y="7678"/>
                        <a:pt x="17863" y="8066"/>
                        <a:pt x="17799" y="8493"/>
                      </a:cubicBezTo>
                      <a:cubicBezTo>
                        <a:pt x="17863" y="8803"/>
                        <a:pt x="18021" y="9036"/>
                        <a:pt x="18116" y="9307"/>
                      </a:cubicBezTo>
                      <a:cubicBezTo>
                        <a:pt x="18148" y="9578"/>
                        <a:pt x="18116" y="9850"/>
                        <a:pt x="18211" y="10044"/>
                      </a:cubicBezTo>
                      <a:cubicBezTo>
                        <a:pt x="18274" y="10199"/>
                        <a:pt x="18845" y="10548"/>
                        <a:pt x="18971" y="10975"/>
                      </a:cubicBezTo>
                      <a:cubicBezTo>
                        <a:pt x="18813" y="11440"/>
                        <a:pt x="19098" y="11866"/>
                        <a:pt x="19573" y="12022"/>
                      </a:cubicBezTo>
                      <a:cubicBezTo>
                        <a:pt x="19953" y="11905"/>
                        <a:pt x="20206" y="11944"/>
                        <a:pt x="20428" y="11634"/>
                      </a:cubicBezTo>
                      <a:cubicBezTo>
                        <a:pt x="20903" y="11711"/>
                        <a:pt x="20998" y="11750"/>
                        <a:pt x="21283" y="11362"/>
                      </a:cubicBezTo>
                      <a:cubicBezTo>
                        <a:pt x="21378" y="11401"/>
                        <a:pt x="21505" y="11362"/>
                        <a:pt x="21537" y="11440"/>
                      </a:cubicBezTo>
                      <a:cubicBezTo>
                        <a:pt x="21600" y="11673"/>
                        <a:pt x="21347" y="12448"/>
                        <a:pt x="21283" y="12681"/>
                      </a:cubicBezTo>
                      <a:cubicBezTo>
                        <a:pt x="21157" y="13185"/>
                        <a:pt x="21252" y="12642"/>
                        <a:pt x="21030" y="13185"/>
                      </a:cubicBezTo>
                      <a:cubicBezTo>
                        <a:pt x="20650" y="13961"/>
                        <a:pt x="20460" y="14775"/>
                        <a:pt x="19668" y="15279"/>
                      </a:cubicBezTo>
                      <a:cubicBezTo>
                        <a:pt x="19446" y="15589"/>
                        <a:pt x="19288" y="15589"/>
                        <a:pt x="18971" y="15783"/>
                      </a:cubicBezTo>
                      <a:cubicBezTo>
                        <a:pt x="18686" y="16210"/>
                        <a:pt x="18338" y="16636"/>
                        <a:pt x="17958" y="17024"/>
                      </a:cubicBezTo>
                      <a:cubicBezTo>
                        <a:pt x="17736" y="17606"/>
                        <a:pt x="17578" y="18226"/>
                        <a:pt x="17356" y="18808"/>
                      </a:cubicBezTo>
                      <a:cubicBezTo>
                        <a:pt x="17388" y="18963"/>
                        <a:pt x="17419" y="19079"/>
                        <a:pt x="17451" y="19234"/>
                      </a:cubicBezTo>
                      <a:cubicBezTo>
                        <a:pt x="17483" y="19390"/>
                        <a:pt x="17609" y="19700"/>
                        <a:pt x="17609" y="19700"/>
                      </a:cubicBezTo>
                      <a:cubicBezTo>
                        <a:pt x="17704" y="20320"/>
                        <a:pt x="17799" y="21173"/>
                        <a:pt x="18243" y="21600"/>
                      </a:cubicBezTo>
                      <a:lnTo>
                        <a:pt x="13777" y="21561"/>
                      </a:lnTo>
                      <a:close/>
                      <a:moveTo>
                        <a:pt x="13777" y="21561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3" name="Freeform 76"/>
                <p:cNvSpPr/>
                <p:nvPr/>
              </p:nvSpPr>
              <p:spPr>
                <a:xfrm>
                  <a:off x="6429960" y="554040"/>
                  <a:ext cx="258840" cy="292320"/>
                </a:xfrm>
                <a:custGeom>
                  <a:avLst/>
                  <a:gdLst/>
                  <a:ahLst/>
                  <a:rect l="l" t="t" r="r" b="b"/>
                  <a:pathLst>
                    <a:path w="21600" h="17929">
                      <a:moveTo>
                        <a:pt x="20423" y="17929"/>
                      </a:moveTo>
                      <a:lnTo>
                        <a:pt x="19583" y="15066"/>
                      </a:lnTo>
                      <a:lnTo>
                        <a:pt x="18238" y="14256"/>
                      </a:lnTo>
                      <a:lnTo>
                        <a:pt x="18070" y="13074"/>
                      </a:lnTo>
                      <a:lnTo>
                        <a:pt x="17566" y="12140"/>
                      </a:lnTo>
                      <a:lnTo>
                        <a:pt x="17566" y="10584"/>
                      </a:lnTo>
                      <a:lnTo>
                        <a:pt x="17398" y="9650"/>
                      </a:lnTo>
                      <a:lnTo>
                        <a:pt x="19163" y="8903"/>
                      </a:lnTo>
                      <a:lnTo>
                        <a:pt x="21600" y="8592"/>
                      </a:lnTo>
                      <a:lnTo>
                        <a:pt x="21600" y="4795"/>
                      </a:lnTo>
                      <a:cubicBezTo>
                        <a:pt x="17566" y="3736"/>
                        <a:pt x="1093" y="-3671"/>
                        <a:pt x="4539" y="2305"/>
                      </a:cubicBezTo>
                      <a:cubicBezTo>
                        <a:pt x="3026" y="2927"/>
                        <a:pt x="4791" y="2367"/>
                        <a:pt x="2689" y="2429"/>
                      </a:cubicBezTo>
                      <a:cubicBezTo>
                        <a:pt x="2269" y="2492"/>
                        <a:pt x="1345" y="2678"/>
                        <a:pt x="1345" y="2678"/>
                      </a:cubicBezTo>
                      <a:lnTo>
                        <a:pt x="0" y="5604"/>
                      </a:lnTo>
                      <a:lnTo>
                        <a:pt x="7816" y="17867"/>
                      </a:lnTo>
                      <a:lnTo>
                        <a:pt x="20423" y="17929"/>
                      </a:lnTo>
                      <a:close/>
                      <a:moveTo>
                        <a:pt x="20423" y="17929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4" name="Freeform 77"/>
                <p:cNvSpPr/>
                <p:nvPr/>
              </p:nvSpPr>
              <p:spPr>
                <a:xfrm>
                  <a:off x="6888960" y="75744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16051" h="15207">
                      <a:moveTo>
                        <a:pt x="2409" y="10445"/>
                      </a:moveTo>
                      <a:cubicBezTo>
                        <a:pt x="-5549" y="-1815"/>
                        <a:pt x="8093" y="-4150"/>
                        <a:pt x="16051" y="8109"/>
                      </a:cubicBezTo>
                      <a:cubicBezTo>
                        <a:pt x="10367" y="17450"/>
                        <a:pt x="14914" y="16866"/>
                        <a:pt x="2409" y="10445"/>
                      </a:cubicBezTo>
                      <a:close/>
                      <a:moveTo>
                        <a:pt x="2409" y="10445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5" name="Freeform 78"/>
                <p:cNvSpPr/>
                <p:nvPr/>
              </p:nvSpPr>
              <p:spPr>
                <a:xfrm>
                  <a:off x="6252480" y="352440"/>
                  <a:ext cx="25200" cy="14400"/>
                </a:xfrm>
                <a:custGeom>
                  <a:avLst/>
                  <a:gdLst/>
                  <a:ahLst/>
                  <a:rect l="l" t="t" r="r" b="b"/>
                  <a:pathLst>
                    <a:path w="14356" h="18598">
                      <a:moveTo>
                        <a:pt x="5377" y="9958"/>
                      </a:moveTo>
                      <a:cubicBezTo>
                        <a:pt x="-3718" y="4198"/>
                        <a:pt x="-307" y="-3002"/>
                        <a:pt x="8408" y="1318"/>
                      </a:cubicBezTo>
                      <a:cubicBezTo>
                        <a:pt x="13714" y="7798"/>
                        <a:pt x="17882" y="13558"/>
                        <a:pt x="9924" y="18598"/>
                      </a:cubicBezTo>
                      <a:cubicBezTo>
                        <a:pt x="4240" y="14998"/>
                        <a:pt x="5377" y="18598"/>
                        <a:pt x="5377" y="9958"/>
                      </a:cubicBezTo>
                      <a:close/>
                      <a:moveTo>
                        <a:pt x="5377" y="995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6" name="Freeform 79"/>
                <p:cNvSpPr/>
                <p:nvPr/>
              </p:nvSpPr>
              <p:spPr>
                <a:xfrm>
                  <a:off x="6725520" y="204840"/>
                  <a:ext cx="466560" cy="368280"/>
                </a:xfrm>
                <a:custGeom>
                  <a:avLst/>
                  <a:gdLst/>
                  <a:ahLst/>
                  <a:rect l="l" t="t" r="r" b="b"/>
                  <a:pathLst>
                    <a:path w="21569" h="21600">
                      <a:moveTo>
                        <a:pt x="16831" y="14276"/>
                      </a:moveTo>
                      <a:lnTo>
                        <a:pt x="14712" y="14400"/>
                      </a:lnTo>
                      <a:lnTo>
                        <a:pt x="13714" y="14028"/>
                      </a:lnTo>
                      <a:lnTo>
                        <a:pt x="12218" y="14028"/>
                      </a:lnTo>
                      <a:cubicBezTo>
                        <a:pt x="11346" y="13903"/>
                        <a:pt x="11190" y="13779"/>
                        <a:pt x="10473" y="13531"/>
                      </a:cubicBezTo>
                      <a:cubicBezTo>
                        <a:pt x="10442" y="13407"/>
                        <a:pt x="10255" y="12817"/>
                        <a:pt x="10099" y="12786"/>
                      </a:cubicBezTo>
                      <a:cubicBezTo>
                        <a:pt x="9850" y="12755"/>
                        <a:pt x="9351" y="13034"/>
                        <a:pt x="9351" y="13034"/>
                      </a:cubicBezTo>
                      <a:cubicBezTo>
                        <a:pt x="8977" y="12786"/>
                        <a:pt x="8603" y="12662"/>
                        <a:pt x="8229" y="12414"/>
                      </a:cubicBezTo>
                      <a:cubicBezTo>
                        <a:pt x="7824" y="11793"/>
                        <a:pt x="7948" y="11048"/>
                        <a:pt x="7231" y="10800"/>
                      </a:cubicBezTo>
                      <a:cubicBezTo>
                        <a:pt x="6733" y="11545"/>
                        <a:pt x="6857" y="12166"/>
                        <a:pt x="7356" y="12910"/>
                      </a:cubicBezTo>
                      <a:cubicBezTo>
                        <a:pt x="7263" y="13283"/>
                        <a:pt x="7075" y="13810"/>
                        <a:pt x="7356" y="13779"/>
                      </a:cubicBezTo>
                      <a:cubicBezTo>
                        <a:pt x="7668" y="13748"/>
                        <a:pt x="8104" y="13283"/>
                        <a:pt x="8104" y="13283"/>
                      </a:cubicBezTo>
                      <a:cubicBezTo>
                        <a:pt x="8011" y="13966"/>
                        <a:pt x="7543" y="14741"/>
                        <a:pt x="8353" y="15021"/>
                      </a:cubicBezTo>
                      <a:cubicBezTo>
                        <a:pt x="8603" y="14866"/>
                        <a:pt x="8946" y="14772"/>
                        <a:pt x="9101" y="14524"/>
                      </a:cubicBezTo>
                      <a:cubicBezTo>
                        <a:pt x="9382" y="14090"/>
                        <a:pt x="9413" y="13841"/>
                        <a:pt x="9850" y="13531"/>
                      </a:cubicBezTo>
                      <a:cubicBezTo>
                        <a:pt x="9787" y="13903"/>
                        <a:pt x="9507" y="14493"/>
                        <a:pt x="9974" y="14772"/>
                      </a:cubicBezTo>
                      <a:cubicBezTo>
                        <a:pt x="10192" y="14897"/>
                        <a:pt x="10722" y="15021"/>
                        <a:pt x="10722" y="15021"/>
                      </a:cubicBezTo>
                      <a:cubicBezTo>
                        <a:pt x="11875" y="14648"/>
                        <a:pt x="10785" y="16355"/>
                        <a:pt x="10348" y="16634"/>
                      </a:cubicBezTo>
                      <a:cubicBezTo>
                        <a:pt x="10255" y="16759"/>
                        <a:pt x="10224" y="16914"/>
                        <a:pt x="10099" y="17007"/>
                      </a:cubicBezTo>
                      <a:cubicBezTo>
                        <a:pt x="10005" y="17100"/>
                        <a:pt x="9818" y="17038"/>
                        <a:pt x="9725" y="17131"/>
                      </a:cubicBezTo>
                      <a:cubicBezTo>
                        <a:pt x="9320" y="17534"/>
                        <a:pt x="9943" y="17845"/>
                        <a:pt x="9101" y="18124"/>
                      </a:cubicBezTo>
                      <a:cubicBezTo>
                        <a:pt x="8883" y="18466"/>
                        <a:pt x="8447" y="18931"/>
                        <a:pt x="8104" y="19117"/>
                      </a:cubicBezTo>
                      <a:cubicBezTo>
                        <a:pt x="7886" y="19241"/>
                        <a:pt x="7605" y="19272"/>
                        <a:pt x="7356" y="19366"/>
                      </a:cubicBezTo>
                      <a:cubicBezTo>
                        <a:pt x="7231" y="19397"/>
                        <a:pt x="6982" y="19490"/>
                        <a:pt x="6982" y="19490"/>
                      </a:cubicBezTo>
                      <a:cubicBezTo>
                        <a:pt x="6670" y="20452"/>
                        <a:pt x="6577" y="20234"/>
                        <a:pt x="5361" y="20359"/>
                      </a:cubicBezTo>
                      <a:cubicBezTo>
                        <a:pt x="4333" y="20700"/>
                        <a:pt x="4083" y="21321"/>
                        <a:pt x="2992" y="21600"/>
                      </a:cubicBezTo>
                      <a:cubicBezTo>
                        <a:pt x="2369" y="21445"/>
                        <a:pt x="2307" y="21321"/>
                        <a:pt x="2494" y="20731"/>
                      </a:cubicBezTo>
                      <a:cubicBezTo>
                        <a:pt x="2369" y="20048"/>
                        <a:pt x="2213" y="19831"/>
                        <a:pt x="2369" y="19117"/>
                      </a:cubicBezTo>
                      <a:cubicBezTo>
                        <a:pt x="2244" y="18559"/>
                        <a:pt x="2182" y="18217"/>
                        <a:pt x="1870" y="17752"/>
                      </a:cubicBezTo>
                      <a:cubicBezTo>
                        <a:pt x="1777" y="17100"/>
                        <a:pt x="1559" y="16852"/>
                        <a:pt x="1372" y="16262"/>
                      </a:cubicBezTo>
                      <a:cubicBezTo>
                        <a:pt x="1590" y="15579"/>
                        <a:pt x="1777" y="15393"/>
                        <a:pt x="1496" y="14648"/>
                      </a:cubicBezTo>
                      <a:cubicBezTo>
                        <a:pt x="1403" y="14369"/>
                        <a:pt x="998" y="13903"/>
                        <a:pt x="998" y="13903"/>
                      </a:cubicBezTo>
                      <a:cubicBezTo>
                        <a:pt x="1278" y="13097"/>
                        <a:pt x="1278" y="12662"/>
                        <a:pt x="998" y="11793"/>
                      </a:cubicBezTo>
                      <a:cubicBezTo>
                        <a:pt x="1496" y="11452"/>
                        <a:pt x="1465" y="11234"/>
                        <a:pt x="1621" y="10676"/>
                      </a:cubicBezTo>
                      <a:cubicBezTo>
                        <a:pt x="1434" y="10148"/>
                        <a:pt x="1496" y="9559"/>
                        <a:pt x="998" y="10303"/>
                      </a:cubicBezTo>
                      <a:cubicBezTo>
                        <a:pt x="1216" y="10955"/>
                        <a:pt x="873" y="11607"/>
                        <a:pt x="499" y="12166"/>
                      </a:cubicBezTo>
                      <a:cubicBezTo>
                        <a:pt x="156" y="11172"/>
                        <a:pt x="281" y="10552"/>
                        <a:pt x="374" y="9434"/>
                      </a:cubicBezTo>
                      <a:cubicBezTo>
                        <a:pt x="1340" y="9745"/>
                        <a:pt x="1652" y="8969"/>
                        <a:pt x="2494" y="8690"/>
                      </a:cubicBezTo>
                      <a:cubicBezTo>
                        <a:pt x="2899" y="8100"/>
                        <a:pt x="2618" y="7510"/>
                        <a:pt x="3242" y="7076"/>
                      </a:cubicBezTo>
                      <a:cubicBezTo>
                        <a:pt x="3335" y="6828"/>
                        <a:pt x="3398" y="6579"/>
                        <a:pt x="3491" y="6331"/>
                      </a:cubicBezTo>
                      <a:cubicBezTo>
                        <a:pt x="3585" y="6083"/>
                        <a:pt x="2743" y="6083"/>
                        <a:pt x="2743" y="6083"/>
                      </a:cubicBezTo>
                      <a:cubicBezTo>
                        <a:pt x="2494" y="6859"/>
                        <a:pt x="1777" y="6548"/>
                        <a:pt x="1122" y="6331"/>
                      </a:cubicBezTo>
                      <a:cubicBezTo>
                        <a:pt x="998" y="6424"/>
                        <a:pt x="904" y="6610"/>
                        <a:pt x="748" y="6579"/>
                      </a:cubicBezTo>
                      <a:cubicBezTo>
                        <a:pt x="468" y="6517"/>
                        <a:pt x="0" y="6083"/>
                        <a:pt x="0" y="6083"/>
                      </a:cubicBezTo>
                      <a:cubicBezTo>
                        <a:pt x="94" y="5772"/>
                        <a:pt x="94" y="5400"/>
                        <a:pt x="250" y="5090"/>
                      </a:cubicBezTo>
                      <a:cubicBezTo>
                        <a:pt x="374" y="4810"/>
                        <a:pt x="748" y="4345"/>
                        <a:pt x="748" y="4345"/>
                      </a:cubicBezTo>
                      <a:cubicBezTo>
                        <a:pt x="-31" y="4097"/>
                        <a:pt x="748" y="3972"/>
                        <a:pt x="1122" y="3848"/>
                      </a:cubicBezTo>
                      <a:cubicBezTo>
                        <a:pt x="1777" y="4066"/>
                        <a:pt x="2307" y="3600"/>
                        <a:pt x="2992" y="3476"/>
                      </a:cubicBezTo>
                      <a:cubicBezTo>
                        <a:pt x="4177" y="2700"/>
                        <a:pt x="4925" y="3786"/>
                        <a:pt x="6109" y="4097"/>
                      </a:cubicBezTo>
                      <a:cubicBezTo>
                        <a:pt x="6359" y="4003"/>
                        <a:pt x="6608" y="3941"/>
                        <a:pt x="6857" y="3848"/>
                      </a:cubicBezTo>
                      <a:cubicBezTo>
                        <a:pt x="6982" y="3817"/>
                        <a:pt x="7013" y="4562"/>
                        <a:pt x="7231" y="3724"/>
                      </a:cubicBezTo>
                      <a:lnTo>
                        <a:pt x="7107" y="1986"/>
                      </a:lnTo>
                      <a:lnTo>
                        <a:pt x="6483" y="1241"/>
                      </a:lnTo>
                      <a:cubicBezTo>
                        <a:pt x="7543" y="652"/>
                        <a:pt x="7450" y="652"/>
                        <a:pt x="8104" y="0"/>
                      </a:cubicBezTo>
                      <a:cubicBezTo>
                        <a:pt x="9226" y="497"/>
                        <a:pt x="10348" y="993"/>
                        <a:pt x="11470" y="1490"/>
                      </a:cubicBezTo>
                      <a:cubicBezTo>
                        <a:pt x="11595" y="1552"/>
                        <a:pt x="11221" y="1366"/>
                        <a:pt x="11096" y="1366"/>
                      </a:cubicBezTo>
                      <a:cubicBezTo>
                        <a:pt x="10847" y="1397"/>
                        <a:pt x="10348" y="1614"/>
                        <a:pt x="10348" y="1614"/>
                      </a:cubicBezTo>
                      <a:cubicBezTo>
                        <a:pt x="10005" y="2110"/>
                        <a:pt x="9881" y="2203"/>
                        <a:pt x="10224" y="2731"/>
                      </a:cubicBezTo>
                      <a:cubicBezTo>
                        <a:pt x="9569" y="3693"/>
                        <a:pt x="10037" y="3662"/>
                        <a:pt x="10348" y="4593"/>
                      </a:cubicBezTo>
                      <a:cubicBezTo>
                        <a:pt x="9943" y="4872"/>
                        <a:pt x="9756" y="5183"/>
                        <a:pt x="9351" y="5462"/>
                      </a:cubicBezTo>
                      <a:cubicBezTo>
                        <a:pt x="9507" y="6610"/>
                        <a:pt x="9413" y="6610"/>
                        <a:pt x="10473" y="6828"/>
                      </a:cubicBezTo>
                      <a:cubicBezTo>
                        <a:pt x="11127" y="6703"/>
                        <a:pt x="11439" y="6641"/>
                        <a:pt x="11221" y="5959"/>
                      </a:cubicBezTo>
                      <a:cubicBezTo>
                        <a:pt x="11252" y="5493"/>
                        <a:pt x="11252" y="5028"/>
                        <a:pt x="11346" y="4593"/>
                      </a:cubicBezTo>
                      <a:cubicBezTo>
                        <a:pt x="11377" y="4438"/>
                        <a:pt x="11470" y="4128"/>
                        <a:pt x="11595" y="4221"/>
                      </a:cubicBezTo>
                      <a:cubicBezTo>
                        <a:pt x="11782" y="4345"/>
                        <a:pt x="11688" y="4624"/>
                        <a:pt x="11720" y="4841"/>
                      </a:cubicBezTo>
                      <a:cubicBezTo>
                        <a:pt x="12561" y="4562"/>
                        <a:pt x="12717" y="3600"/>
                        <a:pt x="12966" y="2855"/>
                      </a:cubicBezTo>
                      <a:cubicBezTo>
                        <a:pt x="13122" y="2359"/>
                        <a:pt x="14088" y="2297"/>
                        <a:pt x="14463" y="2234"/>
                      </a:cubicBezTo>
                      <a:cubicBezTo>
                        <a:pt x="14681" y="2855"/>
                        <a:pt x="14837" y="2886"/>
                        <a:pt x="15460" y="2731"/>
                      </a:cubicBezTo>
                      <a:cubicBezTo>
                        <a:pt x="15927" y="2421"/>
                        <a:pt x="16021" y="2297"/>
                        <a:pt x="15834" y="1738"/>
                      </a:cubicBezTo>
                      <a:cubicBezTo>
                        <a:pt x="16270" y="1428"/>
                        <a:pt x="16083" y="1428"/>
                        <a:pt x="16457" y="1614"/>
                      </a:cubicBezTo>
                      <a:lnTo>
                        <a:pt x="21569" y="2234"/>
                      </a:lnTo>
                      <a:lnTo>
                        <a:pt x="16831" y="14276"/>
                      </a:lnTo>
                      <a:close/>
                      <a:moveTo>
                        <a:pt x="16831" y="1427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7" name="Freeform 80"/>
                <p:cNvSpPr/>
                <p:nvPr/>
              </p:nvSpPr>
              <p:spPr>
                <a:xfrm>
                  <a:off x="6404760" y="174600"/>
                  <a:ext cx="876240" cy="142920"/>
                </a:xfrm>
                <a:custGeom>
                  <a:avLst/>
                  <a:gdLst/>
                  <a:ahLst/>
                  <a:rect l="l" t="t" r="r" b="b"/>
                  <a:pathLst>
                    <a:path w="20153" h="20286">
                      <a:moveTo>
                        <a:pt x="18421" y="12177"/>
                      </a:moveTo>
                      <a:cubicBezTo>
                        <a:pt x="18862" y="10438"/>
                        <a:pt x="21600" y="2030"/>
                        <a:pt x="19141" y="0"/>
                      </a:cubicBezTo>
                      <a:lnTo>
                        <a:pt x="3689" y="0"/>
                      </a:lnTo>
                      <a:cubicBezTo>
                        <a:pt x="3457" y="1740"/>
                        <a:pt x="3759" y="2609"/>
                        <a:pt x="3318" y="4204"/>
                      </a:cubicBezTo>
                      <a:cubicBezTo>
                        <a:pt x="3016" y="6379"/>
                        <a:pt x="3086" y="5654"/>
                        <a:pt x="2691" y="6958"/>
                      </a:cubicBezTo>
                      <a:cubicBezTo>
                        <a:pt x="2506" y="6668"/>
                        <a:pt x="2320" y="6379"/>
                        <a:pt x="2111" y="6089"/>
                      </a:cubicBezTo>
                      <a:cubicBezTo>
                        <a:pt x="2065" y="5944"/>
                        <a:pt x="1926" y="5799"/>
                        <a:pt x="1926" y="5799"/>
                      </a:cubicBezTo>
                      <a:cubicBezTo>
                        <a:pt x="1763" y="5799"/>
                        <a:pt x="1578" y="5654"/>
                        <a:pt x="1438" y="6089"/>
                      </a:cubicBezTo>
                      <a:cubicBezTo>
                        <a:pt x="1253" y="6523"/>
                        <a:pt x="1067" y="8843"/>
                        <a:pt x="882" y="9713"/>
                      </a:cubicBezTo>
                      <a:cubicBezTo>
                        <a:pt x="742" y="10293"/>
                        <a:pt x="626" y="10728"/>
                        <a:pt x="510" y="11162"/>
                      </a:cubicBezTo>
                      <a:cubicBezTo>
                        <a:pt x="371" y="11742"/>
                        <a:pt x="116" y="12467"/>
                        <a:pt x="116" y="12467"/>
                      </a:cubicBezTo>
                      <a:cubicBezTo>
                        <a:pt x="209" y="13772"/>
                        <a:pt x="162" y="14062"/>
                        <a:pt x="0" y="15221"/>
                      </a:cubicBezTo>
                      <a:cubicBezTo>
                        <a:pt x="394" y="15511"/>
                        <a:pt x="510" y="15511"/>
                        <a:pt x="371" y="17396"/>
                      </a:cubicBezTo>
                      <a:cubicBezTo>
                        <a:pt x="626" y="17686"/>
                        <a:pt x="1114" y="16816"/>
                        <a:pt x="1369" y="16671"/>
                      </a:cubicBezTo>
                      <a:cubicBezTo>
                        <a:pt x="1647" y="16236"/>
                        <a:pt x="1694" y="16961"/>
                        <a:pt x="1926" y="16091"/>
                      </a:cubicBezTo>
                      <a:cubicBezTo>
                        <a:pt x="2065" y="13917"/>
                        <a:pt x="1926" y="14497"/>
                        <a:pt x="2250" y="13917"/>
                      </a:cubicBezTo>
                      <a:cubicBezTo>
                        <a:pt x="2320" y="13627"/>
                        <a:pt x="2390" y="13482"/>
                        <a:pt x="2436" y="13047"/>
                      </a:cubicBezTo>
                      <a:cubicBezTo>
                        <a:pt x="2459" y="12757"/>
                        <a:pt x="2459" y="12322"/>
                        <a:pt x="2506" y="12177"/>
                      </a:cubicBezTo>
                      <a:cubicBezTo>
                        <a:pt x="2598" y="11597"/>
                        <a:pt x="3248" y="10003"/>
                        <a:pt x="3434" y="9713"/>
                      </a:cubicBezTo>
                      <a:cubicBezTo>
                        <a:pt x="3712" y="7538"/>
                        <a:pt x="3550" y="8118"/>
                        <a:pt x="3875" y="7538"/>
                      </a:cubicBezTo>
                      <a:cubicBezTo>
                        <a:pt x="4130" y="7973"/>
                        <a:pt x="4153" y="8988"/>
                        <a:pt x="4431" y="8408"/>
                      </a:cubicBezTo>
                      <a:cubicBezTo>
                        <a:pt x="4617" y="7538"/>
                        <a:pt x="4779" y="7393"/>
                        <a:pt x="4988" y="6668"/>
                      </a:cubicBezTo>
                      <a:cubicBezTo>
                        <a:pt x="5243" y="8408"/>
                        <a:pt x="5035" y="6668"/>
                        <a:pt x="5174" y="10003"/>
                      </a:cubicBezTo>
                      <a:cubicBezTo>
                        <a:pt x="5243" y="11452"/>
                        <a:pt x="5406" y="12322"/>
                        <a:pt x="5499" y="13627"/>
                      </a:cubicBezTo>
                      <a:cubicBezTo>
                        <a:pt x="5267" y="14497"/>
                        <a:pt x="5313" y="15077"/>
                        <a:pt x="5058" y="15511"/>
                      </a:cubicBezTo>
                      <a:cubicBezTo>
                        <a:pt x="4803" y="17396"/>
                        <a:pt x="4710" y="16381"/>
                        <a:pt x="4362" y="15801"/>
                      </a:cubicBezTo>
                      <a:cubicBezTo>
                        <a:pt x="4431" y="16961"/>
                        <a:pt x="4640" y="18411"/>
                        <a:pt x="4872" y="19136"/>
                      </a:cubicBezTo>
                      <a:cubicBezTo>
                        <a:pt x="5058" y="16526"/>
                        <a:pt x="4895" y="17686"/>
                        <a:pt x="5359" y="16381"/>
                      </a:cubicBezTo>
                      <a:cubicBezTo>
                        <a:pt x="5499" y="16091"/>
                        <a:pt x="5754" y="15221"/>
                        <a:pt x="5754" y="15221"/>
                      </a:cubicBezTo>
                      <a:cubicBezTo>
                        <a:pt x="5754" y="14497"/>
                        <a:pt x="5707" y="13627"/>
                        <a:pt x="5800" y="13047"/>
                      </a:cubicBezTo>
                      <a:cubicBezTo>
                        <a:pt x="5870" y="12757"/>
                        <a:pt x="5893" y="13917"/>
                        <a:pt x="5986" y="13917"/>
                      </a:cubicBezTo>
                      <a:cubicBezTo>
                        <a:pt x="6079" y="14062"/>
                        <a:pt x="6125" y="13627"/>
                        <a:pt x="6171" y="13337"/>
                      </a:cubicBezTo>
                      <a:cubicBezTo>
                        <a:pt x="6079" y="11887"/>
                        <a:pt x="5847" y="11162"/>
                        <a:pt x="5754" y="9713"/>
                      </a:cubicBezTo>
                      <a:cubicBezTo>
                        <a:pt x="5800" y="9133"/>
                        <a:pt x="5916" y="8408"/>
                        <a:pt x="5870" y="7828"/>
                      </a:cubicBezTo>
                      <a:cubicBezTo>
                        <a:pt x="5823" y="7248"/>
                        <a:pt x="5754" y="6089"/>
                        <a:pt x="5754" y="6089"/>
                      </a:cubicBezTo>
                      <a:cubicBezTo>
                        <a:pt x="5939" y="4639"/>
                        <a:pt x="6009" y="5074"/>
                        <a:pt x="6171" y="6379"/>
                      </a:cubicBezTo>
                      <a:cubicBezTo>
                        <a:pt x="6264" y="8118"/>
                        <a:pt x="6403" y="8843"/>
                        <a:pt x="6612" y="10293"/>
                      </a:cubicBezTo>
                      <a:cubicBezTo>
                        <a:pt x="6519" y="11742"/>
                        <a:pt x="6705" y="11887"/>
                        <a:pt x="6427" y="12757"/>
                      </a:cubicBezTo>
                      <a:cubicBezTo>
                        <a:pt x="6079" y="15366"/>
                        <a:pt x="6450" y="12032"/>
                        <a:pt x="6357" y="14642"/>
                      </a:cubicBezTo>
                      <a:cubicBezTo>
                        <a:pt x="6357" y="15221"/>
                        <a:pt x="6218" y="15801"/>
                        <a:pt x="6171" y="16381"/>
                      </a:cubicBezTo>
                      <a:cubicBezTo>
                        <a:pt x="6264" y="17686"/>
                        <a:pt x="6218" y="18121"/>
                        <a:pt x="6055" y="19136"/>
                      </a:cubicBezTo>
                      <a:cubicBezTo>
                        <a:pt x="6218" y="21600"/>
                        <a:pt x="6543" y="19426"/>
                        <a:pt x="6867" y="18846"/>
                      </a:cubicBezTo>
                      <a:cubicBezTo>
                        <a:pt x="6937" y="17686"/>
                        <a:pt x="6844" y="17251"/>
                        <a:pt x="6937" y="16091"/>
                      </a:cubicBezTo>
                      <a:cubicBezTo>
                        <a:pt x="6867" y="15221"/>
                        <a:pt x="6682" y="14062"/>
                        <a:pt x="6937" y="13337"/>
                      </a:cubicBezTo>
                      <a:cubicBezTo>
                        <a:pt x="7030" y="13047"/>
                        <a:pt x="7308" y="12757"/>
                        <a:pt x="7308" y="12757"/>
                      </a:cubicBezTo>
                      <a:cubicBezTo>
                        <a:pt x="7563" y="13192"/>
                        <a:pt x="7540" y="13772"/>
                        <a:pt x="7679" y="14932"/>
                      </a:cubicBezTo>
                      <a:cubicBezTo>
                        <a:pt x="7865" y="12177"/>
                        <a:pt x="7679" y="13047"/>
                        <a:pt x="8376" y="13337"/>
                      </a:cubicBezTo>
                      <a:cubicBezTo>
                        <a:pt x="8236" y="11017"/>
                        <a:pt x="8468" y="11017"/>
                        <a:pt x="8863" y="10583"/>
                      </a:cubicBezTo>
                      <a:cubicBezTo>
                        <a:pt x="8886" y="10293"/>
                        <a:pt x="8979" y="8263"/>
                        <a:pt x="9118" y="7828"/>
                      </a:cubicBezTo>
                      <a:cubicBezTo>
                        <a:pt x="9234" y="7538"/>
                        <a:pt x="9489" y="7248"/>
                        <a:pt x="9489" y="7248"/>
                      </a:cubicBezTo>
                      <a:cubicBezTo>
                        <a:pt x="9976" y="7828"/>
                        <a:pt x="9582" y="8408"/>
                        <a:pt x="10000" y="9133"/>
                      </a:cubicBezTo>
                      <a:cubicBezTo>
                        <a:pt x="10046" y="8843"/>
                        <a:pt x="10092" y="8263"/>
                        <a:pt x="10185" y="8118"/>
                      </a:cubicBezTo>
                      <a:cubicBezTo>
                        <a:pt x="10324" y="7973"/>
                        <a:pt x="10487" y="8843"/>
                        <a:pt x="10603" y="8408"/>
                      </a:cubicBezTo>
                      <a:cubicBezTo>
                        <a:pt x="10696" y="8263"/>
                        <a:pt x="10603" y="7538"/>
                        <a:pt x="10556" y="7248"/>
                      </a:cubicBezTo>
                      <a:cubicBezTo>
                        <a:pt x="10464" y="6813"/>
                        <a:pt x="10301" y="6813"/>
                        <a:pt x="10185" y="6668"/>
                      </a:cubicBezTo>
                      <a:cubicBezTo>
                        <a:pt x="10116" y="6523"/>
                        <a:pt x="10000" y="6379"/>
                        <a:pt x="10000" y="6379"/>
                      </a:cubicBezTo>
                      <a:cubicBezTo>
                        <a:pt x="10208" y="5509"/>
                        <a:pt x="10278" y="5219"/>
                        <a:pt x="10556" y="5799"/>
                      </a:cubicBezTo>
                      <a:cubicBezTo>
                        <a:pt x="10696" y="5509"/>
                        <a:pt x="10835" y="5074"/>
                        <a:pt x="10997" y="5074"/>
                      </a:cubicBezTo>
                      <a:cubicBezTo>
                        <a:pt x="11206" y="5219"/>
                        <a:pt x="11856" y="6234"/>
                        <a:pt x="12041" y="6668"/>
                      </a:cubicBezTo>
                      <a:cubicBezTo>
                        <a:pt x="12227" y="7103"/>
                        <a:pt x="12621" y="7828"/>
                        <a:pt x="12621" y="7828"/>
                      </a:cubicBezTo>
                      <a:cubicBezTo>
                        <a:pt x="12714" y="7828"/>
                        <a:pt x="12992" y="7538"/>
                        <a:pt x="13108" y="7248"/>
                      </a:cubicBezTo>
                      <a:cubicBezTo>
                        <a:pt x="13224" y="6813"/>
                        <a:pt x="13480" y="6089"/>
                        <a:pt x="13480" y="6089"/>
                      </a:cubicBezTo>
                      <a:cubicBezTo>
                        <a:pt x="13573" y="6089"/>
                        <a:pt x="13874" y="6379"/>
                        <a:pt x="13921" y="6958"/>
                      </a:cubicBezTo>
                      <a:cubicBezTo>
                        <a:pt x="13990" y="7973"/>
                        <a:pt x="13665" y="8843"/>
                        <a:pt x="13549" y="9133"/>
                      </a:cubicBezTo>
                      <a:cubicBezTo>
                        <a:pt x="13364" y="10003"/>
                        <a:pt x="13178" y="10003"/>
                        <a:pt x="13108" y="11162"/>
                      </a:cubicBezTo>
                      <a:cubicBezTo>
                        <a:pt x="13178" y="12467"/>
                        <a:pt x="13085" y="13337"/>
                        <a:pt x="13178" y="14642"/>
                      </a:cubicBezTo>
                      <a:cubicBezTo>
                        <a:pt x="13317" y="13482"/>
                        <a:pt x="13387" y="13192"/>
                        <a:pt x="13665" y="13627"/>
                      </a:cubicBezTo>
                      <a:cubicBezTo>
                        <a:pt x="13805" y="15656"/>
                        <a:pt x="13967" y="13482"/>
                        <a:pt x="14176" y="12757"/>
                      </a:cubicBezTo>
                      <a:cubicBezTo>
                        <a:pt x="14222" y="12467"/>
                        <a:pt x="14222" y="12032"/>
                        <a:pt x="14292" y="11887"/>
                      </a:cubicBezTo>
                      <a:cubicBezTo>
                        <a:pt x="14338" y="11597"/>
                        <a:pt x="14431" y="11742"/>
                        <a:pt x="14477" y="11597"/>
                      </a:cubicBezTo>
                      <a:cubicBezTo>
                        <a:pt x="14524" y="11307"/>
                        <a:pt x="14524" y="10872"/>
                        <a:pt x="14547" y="10583"/>
                      </a:cubicBezTo>
                      <a:cubicBezTo>
                        <a:pt x="14663" y="9423"/>
                        <a:pt x="14802" y="9133"/>
                        <a:pt x="15034" y="8843"/>
                      </a:cubicBezTo>
                      <a:cubicBezTo>
                        <a:pt x="15405" y="8988"/>
                        <a:pt x="15869" y="10003"/>
                        <a:pt x="16241" y="10003"/>
                      </a:cubicBezTo>
                      <a:lnTo>
                        <a:pt x="18421" y="12177"/>
                      </a:lnTo>
                      <a:close/>
                      <a:moveTo>
                        <a:pt x="18421" y="12177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8" name="Freeform 81"/>
                <p:cNvSpPr/>
                <p:nvPr/>
              </p:nvSpPr>
              <p:spPr>
                <a:xfrm>
                  <a:off x="6598440" y="231840"/>
                  <a:ext cx="17280" cy="14400"/>
                </a:xfrm>
                <a:custGeom>
                  <a:avLst/>
                  <a:gdLst/>
                  <a:ahLst/>
                  <a:rect l="l" t="t" r="r" b="b"/>
                  <a:pathLst>
                    <a:path w="19630" h="20160">
                      <a:moveTo>
                        <a:pt x="120" y="20160"/>
                      </a:moveTo>
                      <a:cubicBezTo>
                        <a:pt x="3604" y="5760"/>
                        <a:pt x="6391" y="4320"/>
                        <a:pt x="19630" y="0"/>
                      </a:cubicBezTo>
                      <a:cubicBezTo>
                        <a:pt x="18236" y="3600"/>
                        <a:pt x="15449" y="15840"/>
                        <a:pt x="11269" y="17280"/>
                      </a:cubicBezTo>
                      <a:cubicBezTo>
                        <a:pt x="-1970" y="21600"/>
                        <a:pt x="120" y="6480"/>
                        <a:pt x="120" y="20160"/>
                      </a:cubicBezTo>
                      <a:close/>
                      <a:moveTo>
                        <a:pt x="120" y="2016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29" name="Freeform 82"/>
                <p:cNvSpPr/>
                <p:nvPr/>
              </p:nvSpPr>
              <p:spPr>
                <a:xfrm>
                  <a:off x="6574680" y="254160"/>
                  <a:ext cx="23760" cy="17280"/>
                </a:xfrm>
                <a:custGeom>
                  <a:avLst/>
                  <a:gdLst/>
                  <a:ahLst/>
                  <a:rect l="l" t="t" r="r" b="b"/>
                  <a:pathLst>
                    <a:path w="17170" h="21600">
                      <a:moveTo>
                        <a:pt x="1051" y="21600"/>
                      </a:moveTo>
                      <a:cubicBezTo>
                        <a:pt x="-1894" y="9450"/>
                        <a:pt x="1542" y="6750"/>
                        <a:pt x="8906" y="0"/>
                      </a:cubicBezTo>
                      <a:cubicBezTo>
                        <a:pt x="11361" y="675"/>
                        <a:pt x="15288" y="0"/>
                        <a:pt x="16761" y="2700"/>
                      </a:cubicBezTo>
                      <a:cubicBezTo>
                        <a:pt x="19706" y="8775"/>
                        <a:pt x="5961" y="21600"/>
                        <a:pt x="1051" y="21600"/>
                      </a:cubicBezTo>
                      <a:close/>
                      <a:moveTo>
                        <a:pt x="1051" y="216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30" name="Freeform 83"/>
                <p:cNvSpPr/>
                <p:nvPr/>
              </p:nvSpPr>
              <p:spPr>
                <a:xfrm>
                  <a:off x="6680880" y="3193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11278" h="19200">
                      <a:moveTo>
                        <a:pt x="6455" y="19200"/>
                      </a:moveTo>
                      <a:cubicBezTo>
                        <a:pt x="3044" y="14400"/>
                        <a:pt x="-4061" y="9600"/>
                        <a:pt x="3044" y="0"/>
                      </a:cubicBezTo>
                      <a:cubicBezTo>
                        <a:pt x="17539" y="8400"/>
                        <a:pt x="9013" y="-2400"/>
                        <a:pt x="6455" y="19200"/>
                      </a:cubicBezTo>
                      <a:close/>
                      <a:moveTo>
                        <a:pt x="6455" y="19200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31" name="Freeform 84"/>
                <p:cNvSpPr/>
                <p:nvPr/>
              </p:nvSpPr>
              <p:spPr>
                <a:xfrm>
                  <a:off x="6757200" y="320760"/>
                  <a:ext cx="19080" cy="11160"/>
                </a:xfrm>
                <a:custGeom>
                  <a:avLst/>
                  <a:gdLst/>
                  <a:ahLst/>
                  <a:rect l="l" t="t" r="r" b="b"/>
                  <a:pathLst>
                    <a:path w="14120" h="9804">
                      <a:moveTo>
                        <a:pt x="0" y="6496"/>
                      </a:moveTo>
                      <a:cubicBezTo>
                        <a:pt x="2057" y="4532"/>
                        <a:pt x="3600" y="1587"/>
                        <a:pt x="6171" y="605"/>
                      </a:cubicBezTo>
                      <a:cubicBezTo>
                        <a:pt x="21600" y="-3813"/>
                        <a:pt x="11829" y="17787"/>
                        <a:pt x="0" y="6496"/>
                      </a:cubicBezTo>
                      <a:close/>
                      <a:moveTo>
                        <a:pt x="0" y="6496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32" name="Freeform 85"/>
                <p:cNvSpPr/>
                <p:nvPr/>
              </p:nvSpPr>
              <p:spPr>
                <a:xfrm>
                  <a:off x="6528600" y="255600"/>
                  <a:ext cx="17280" cy="9720"/>
                </a:xfrm>
                <a:custGeom>
                  <a:avLst/>
                  <a:gdLst/>
                  <a:ahLst/>
                  <a:rect l="l" t="t" r="r" b="b"/>
                  <a:pathLst>
                    <a:path w="17953" h="13172">
                      <a:moveTo>
                        <a:pt x="1230" y="11438"/>
                      </a:moveTo>
                      <a:cubicBezTo>
                        <a:pt x="-3647" y="-4402"/>
                        <a:pt x="6805" y="-82"/>
                        <a:pt x="17953" y="2798"/>
                      </a:cubicBezTo>
                      <a:cubicBezTo>
                        <a:pt x="6108" y="7118"/>
                        <a:pt x="6805" y="17198"/>
                        <a:pt x="1230" y="11438"/>
                      </a:cubicBezTo>
                      <a:close/>
                      <a:moveTo>
                        <a:pt x="1230" y="11438"/>
                      </a:moveTo>
                    </a:path>
                  </a:pathLst>
                </a:custGeom>
                <a:solidFill>
                  <a:srgbClr val="a092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</p:grpSp>
        <p:grpSp>
          <p:nvGrpSpPr>
            <p:cNvPr id="533" name="Group 109"/>
            <p:cNvGrpSpPr/>
            <p:nvPr/>
          </p:nvGrpSpPr>
          <p:grpSpPr>
            <a:xfrm>
              <a:off x="1266840" y="176400"/>
              <a:ext cx="7464240" cy="663480"/>
              <a:chOff x="1266840" y="176400"/>
              <a:chExt cx="7464240" cy="663480"/>
            </a:xfrm>
          </p:grpSpPr>
          <p:sp>
            <p:nvSpPr>
              <p:cNvPr id="534" name="Line 88"/>
              <p:cNvSpPr/>
              <p:nvPr/>
            </p:nvSpPr>
            <p:spPr>
              <a:xfrm>
                <a:off x="1266840" y="527400"/>
                <a:ext cx="7464240" cy="144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5" name="Line 89"/>
              <p:cNvSpPr/>
              <p:nvPr/>
            </p:nvSpPr>
            <p:spPr>
              <a:xfrm>
                <a:off x="16282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6" name="Line 90"/>
              <p:cNvSpPr/>
              <p:nvPr/>
            </p:nvSpPr>
            <p:spPr>
              <a:xfrm>
                <a:off x="19904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7" name="Line 91"/>
              <p:cNvSpPr/>
              <p:nvPr/>
            </p:nvSpPr>
            <p:spPr>
              <a:xfrm>
                <a:off x="23522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8" name="Line 92"/>
              <p:cNvSpPr/>
              <p:nvPr/>
            </p:nvSpPr>
            <p:spPr>
              <a:xfrm>
                <a:off x="27144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39" name="Line 93"/>
              <p:cNvSpPr/>
              <p:nvPr/>
            </p:nvSpPr>
            <p:spPr>
              <a:xfrm>
                <a:off x="30762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0" name="Line 94"/>
              <p:cNvSpPr/>
              <p:nvPr/>
            </p:nvSpPr>
            <p:spPr>
              <a:xfrm>
                <a:off x="34383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1" name="Line 95"/>
              <p:cNvSpPr/>
              <p:nvPr/>
            </p:nvSpPr>
            <p:spPr>
              <a:xfrm>
                <a:off x="38001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2" name="Line 96"/>
              <p:cNvSpPr/>
              <p:nvPr/>
            </p:nvSpPr>
            <p:spPr>
              <a:xfrm>
                <a:off x="41619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3" name="Line 97"/>
              <p:cNvSpPr/>
              <p:nvPr/>
            </p:nvSpPr>
            <p:spPr>
              <a:xfrm>
                <a:off x="452412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4" name="Line 98"/>
              <p:cNvSpPr/>
              <p:nvPr/>
            </p:nvSpPr>
            <p:spPr>
              <a:xfrm>
                <a:off x="488592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5" name="Line 99"/>
              <p:cNvSpPr/>
              <p:nvPr/>
            </p:nvSpPr>
            <p:spPr>
              <a:xfrm>
                <a:off x="52480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Line 100"/>
              <p:cNvSpPr/>
              <p:nvPr/>
            </p:nvSpPr>
            <p:spPr>
              <a:xfrm>
                <a:off x="560988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Line 101"/>
              <p:cNvSpPr/>
              <p:nvPr/>
            </p:nvSpPr>
            <p:spPr>
              <a:xfrm>
                <a:off x="597168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8" name="Line 102"/>
              <p:cNvSpPr/>
              <p:nvPr/>
            </p:nvSpPr>
            <p:spPr>
              <a:xfrm>
                <a:off x="633384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9" name="Line 103"/>
              <p:cNvSpPr/>
              <p:nvPr/>
            </p:nvSpPr>
            <p:spPr>
              <a:xfrm>
                <a:off x="669564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Line 104"/>
              <p:cNvSpPr/>
              <p:nvPr/>
            </p:nvSpPr>
            <p:spPr>
              <a:xfrm>
                <a:off x="70578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Line 105"/>
              <p:cNvSpPr/>
              <p:nvPr/>
            </p:nvSpPr>
            <p:spPr>
              <a:xfrm>
                <a:off x="741960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Line 106"/>
              <p:cNvSpPr/>
              <p:nvPr/>
            </p:nvSpPr>
            <p:spPr>
              <a:xfrm>
                <a:off x="77817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3" name="Line 107"/>
              <p:cNvSpPr/>
              <p:nvPr/>
            </p:nvSpPr>
            <p:spPr>
              <a:xfrm>
                <a:off x="8143560" y="176400"/>
                <a:ext cx="108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Line 108"/>
              <p:cNvSpPr/>
              <p:nvPr/>
            </p:nvSpPr>
            <p:spPr>
              <a:xfrm>
                <a:off x="8505360" y="176400"/>
                <a:ext cx="1440" cy="663480"/>
              </a:xfrm>
              <a:prstGeom prst="line">
                <a:avLst/>
              </a:prstGeom>
              <a:ln w="9360">
                <a:solidFill>
                  <a:srgbClr val="a092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55" name="Group 135"/>
            <p:cNvGrpSpPr/>
            <p:nvPr/>
          </p:nvGrpSpPr>
          <p:grpSpPr>
            <a:xfrm>
              <a:off x="1917720" y="172800"/>
              <a:ext cx="5865840" cy="671760"/>
              <a:chOff x="1917720" y="172800"/>
              <a:chExt cx="5865840" cy="671760"/>
            </a:xfrm>
          </p:grpSpPr>
          <p:sp>
            <p:nvSpPr>
              <p:cNvPr id="556" name="Line 110"/>
              <p:cNvSpPr/>
              <p:nvPr/>
            </p:nvSpPr>
            <p:spPr>
              <a:xfrm>
                <a:off x="4524480" y="174600"/>
                <a:ext cx="1440" cy="2257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7" name="Line 111"/>
              <p:cNvSpPr/>
              <p:nvPr/>
            </p:nvSpPr>
            <p:spPr>
              <a:xfrm>
                <a:off x="4718160" y="527040"/>
                <a:ext cx="1108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8" name="Line 112"/>
              <p:cNvSpPr/>
              <p:nvPr/>
            </p:nvSpPr>
            <p:spPr>
              <a:xfrm>
                <a:off x="4886280" y="555840"/>
                <a:ext cx="1800" cy="44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9" name="Line 113"/>
              <p:cNvSpPr/>
              <p:nvPr/>
            </p:nvSpPr>
            <p:spPr>
              <a:xfrm>
                <a:off x="5248440" y="714600"/>
                <a:ext cx="1440" cy="125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0" name="Line 114"/>
              <p:cNvSpPr/>
              <p:nvPr/>
            </p:nvSpPr>
            <p:spPr>
              <a:xfrm>
                <a:off x="6334200" y="352440"/>
                <a:ext cx="1440" cy="285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1" name="Line 115"/>
              <p:cNvSpPr/>
              <p:nvPr/>
            </p:nvSpPr>
            <p:spPr>
              <a:xfrm>
                <a:off x="618480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2" name="Line 116"/>
              <p:cNvSpPr/>
              <p:nvPr/>
            </p:nvSpPr>
            <p:spPr>
              <a:xfrm>
                <a:off x="6696000" y="374760"/>
                <a:ext cx="1800" cy="466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3" name="Line 117"/>
              <p:cNvSpPr/>
              <p:nvPr/>
            </p:nvSpPr>
            <p:spPr>
              <a:xfrm flipV="1">
                <a:off x="6699240" y="177480"/>
                <a:ext cx="1440" cy="795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4" name="Line 118"/>
              <p:cNvSpPr/>
              <p:nvPr/>
            </p:nvSpPr>
            <p:spPr>
              <a:xfrm flipV="1">
                <a:off x="7058160" y="174240"/>
                <a:ext cx="1440" cy="2890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5" name="Line 119"/>
              <p:cNvSpPr/>
              <p:nvPr/>
            </p:nvSpPr>
            <p:spPr>
              <a:xfrm flipH="1">
                <a:off x="7296120" y="527040"/>
                <a:ext cx="1238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6" name="Line 120"/>
              <p:cNvSpPr/>
              <p:nvPr/>
            </p:nvSpPr>
            <p:spPr>
              <a:xfrm flipH="1">
                <a:off x="7086240" y="527040"/>
                <a:ext cx="9828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7" name="Line 121"/>
              <p:cNvSpPr/>
              <p:nvPr/>
            </p:nvSpPr>
            <p:spPr>
              <a:xfrm flipV="1">
                <a:off x="7419240" y="174240"/>
                <a:ext cx="1800" cy="4287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8" name="Line 122"/>
              <p:cNvSpPr/>
              <p:nvPr/>
            </p:nvSpPr>
            <p:spPr>
              <a:xfrm>
                <a:off x="7782120" y="746280"/>
                <a:ext cx="1440" cy="540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9" name="Line 123"/>
              <p:cNvSpPr/>
              <p:nvPr/>
            </p:nvSpPr>
            <p:spPr>
              <a:xfrm>
                <a:off x="3438720" y="181080"/>
                <a:ext cx="1440" cy="98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0" name="Line 124"/>
              <p:cNvSpPr/>
              <p:nvPr/>
            </p:nvSpPr>
            <p:spPr>
              <a:xfrm>
                <a:off x="3076560" y="176400"/>
                <a:ext cx="1800" cy="53496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1" name="Line 125"/>
              <p:cNvSpPr/>
              <p:nvPr/>
            </p:nvSpPr>
            <p:spPr>
              <a:xfrm flipH="1">
                <a:off x="3035160" y="527040"/>
                <a:ext cx="1080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2" name="Line 126"/>
              <p:cNvSpPr/>
              <p:nvPr/>
            </p:nvSpPr>
            <p:spPr>
              <a:xfrm>
                <a:off x="2822760" y="527040"/>
                <a:ext cx="9504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3" name="Line 127"/>
              <p:cNvSpPr/>
              <p:nvPr/>
            </p:nvSpPr>
            <p:spPr>
              <a:xfrm flipH="1">
                <a:off x="2504880" y="527040"/>
                <a:ext cx="12996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4" name="Line 128"/>
              <p:cNvSpPr/>
              <p:nvPr/>
            </p:nvSpPr>
            <p:spPr>
              <a:xfrm>
                <a:off x="1917720" y="527040"/>
                <a:ext cx="552600" cy="180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5" name="Line 129"/>
              <p:cNvSpPr/>
              <p:nvPr/>
            </p:nvSpPr>
            <p:spPr>
              <a:xfrm>
                <a:off x="2349360" y="371520"/>
                <a:ext cx="1800" cy="4730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6" name="Line 130"/>
              <p:cNvSpPr/>
              <p:nvPr/>
            </p:nvSpPr>
            <p:spPr>
              <a:xfrm>
                <a:off x="1990800" y="400320"/>
                <a:ext cx="1440" cy="2476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7" name="Line 131"/>
              <p:cNvSpPr/>
              <p:nvPr/>
            </p:nvSpPr>
            <p:spPr>
              <a:xfrm flipH="1" flipV="1">
                <a:off x="2352240" y="172800"/>
                <a:ext cx="1800" cy="428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8" name="Line 132"/>
              <p:cNvSpPr/>
              <p:nvPr/>
            </p:nvSpPr>
            <p:spPr>
              <a:xfrm>
                <a:off x="2714760" y="285840"/>
                <a:ext cx="1440" cy="15228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9" name="Line 133"/>
              <p:cNvSpPr/>
              <p:nvPr/>
            </p:nvSpPr>
            <p:spPr>
              <a:xfrm flipV="1">
                <a:off x="2714760" y="176040"/>
                <a:ext cx="1440" cy="3492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0" name="Line 134"/>
              <p:cNvSpPr/>
              <p:nvPr/>
            </p:nvSpPr>
            <p:spPr>
              <a:xfrm>
                <a:off x="6777000" y="525600"/>
                <a:ext cx="127080" cy="1440"/>
              </a:xfrm>
              <a:prstGeom prst="line">
                <a:avLst/>
              </a:prstGeom>
              <a:ln w="9360">
                <a:solidFill>
                  <a:srgbClr val="b6ab8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46240" y="870120"/>
            <a:ext cx="7772400" cy="1263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33"/>
                </a:solidFill>
                <a:latin typeface="Times New Roman Italic"/>
              </a:rPr>
              <a:t>                </a:t>
            </a:r>
            <a:r>
              <a:rPr b="0" lang="en-US" sz="4400" spc="-1" strike="noStrike">
                <a:solidFill>
                  <a:srgbClr val="262673"/>
                </a:solidFill>
                <a:latin typeface="Times New Roman Italic"/>
              </a:rPr>
              <a:t>Reincarnation</a:t>
            </a:r>
            <a:endParaRPr b="0" lang="en-US" sz="4400" spc="-1" strike="noStrike">
              <a:solidFill>
                <a:srgbClr val="666633"/>
              </a:solidFill>
              <a:latin typeface="Times New Roman Italic"/>
            </a:endParaRPr>
          </a:p>
        </p:txBody>
      </p:sp>
      <p:sp>
        <p:nvSpPr>
          <p:cNvPr id="582" name="Rectangle 138"/>
          <p:cNvSpPr/>
          <p:nvPr/>
        </p:nvSpPr>
        <p:spPr>
          <a:xfrm>
            <a:off x="609480" y="2286000"/>
            <a:ext cx="816624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sara is the wheel of rebirth which means the soul is rebor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one life form to anothe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 may be reincarnated at a higher or lower level of existence depending on their karma from their present lif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ople may be reborn as plants or animals or they may be elevated to a higher caste as a human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spcBef>
                <a:spcPts val="1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th is not final for Hindus as they expect to be reborn many time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3" name="Picture 139" descr=""/>
          <p:cNvPicPr/>
          <p:nvPr/>
        </p:nvPicPr>
        <p:blipFill>
          <a:blip r:embed="rId2"/>
          <a:stretch/>
        </p:blipFill>
        <p:spPr>
          <a:xfrm>
            <a:off x="6095880" y="1209600"/>
            <a:ext cx="129564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Summarizing &amp; Synthesiz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Diamonte Poem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6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left hand side of the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create a diamonte poem summarizing your information on Hindu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te poems are structured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opic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djective, Ad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ing word, -ing word, -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Four nouns - or - a short ph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noun, 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Topic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4389120" presetSubtype="1237612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Diamonte Poem Example: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840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254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ient, in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, investigating, questi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vilizations, arti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t">
            <a:normAutofit/>
          </a:bodyPr>
          <a:p>
            <a:pPr marL="36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diamonte poem needs to focus on the beliefs of Hindu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Adjective, Ad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-ing word, -ing word, -ing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Four nouns - or - a short ph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noun, no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old"/>
                <a:ea typeface="Arial Bold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8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Italic"/>
                <a:ea typeface="Arial Italic"/>
              </a:rPr>
              <a:t>NOTE: Diamonte poems do not have to rhy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5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88920" bIns="889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Summarizing &amp; Synthesizing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old"/>
              </a:rPr>
              <a:t>Diamonte Poem</a:t>
            </a:r>
            <a:endParaRPr b="0" lang="en-US" sz="36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Tyler Daughtry</cp:lastModifiedBy>
  <dcterms:modified xsi:type="dcterms:W3CDTF">2013-10-30T15:18:44Z</dcterms:modified>
  <cp:revision>5</cp:revision>
  <dc:subject/>
  <dc:title>Bell Ringer:</dc:title>
</cp:coreProperties>
</file>